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CC6-43B2-40E8-802B-42A4D220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1AF-054F-4971-9F88-5C60E7E7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96A-A739-41BA-8310-71E258E9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AAC-350A-49B6-8198-6F9CDF9B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866B-8464-4F6A-BF2F-C6BC73DA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97B8-426E-435F-AD16-E5FE7C46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224E-D95C-4DC3-B01C-42B70E5C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17CE-6780-45BD-AF4F-78C62A0E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69E7-DAF6-4B67-B682-D3651833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8DA2-9DD9-4D86-9BBA-E3AF6635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328A-923F-4DDF-BC7D-619A62B5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91C-6FBB-4EDC-984A-EC9F0618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EFC6-B5BC-4009-97AF-6FBBEBF6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FB40-823A-4CAB-BFF9-BA050665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9C50-03F4-45F7-A093-5298C271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6C7C-694D-4763-A145-19CE8574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22DA-6A52-4DE6-A8BA-FEBD4124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4D4-4CBE-4BDF-9CC3-7DE5289F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531-EFF8-481A-98EB-C2A8EE6E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14D-45B9-4635-8AB1-2D6F4069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F2D-B394-4692-B4DB-E4F346FA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BFB-7C61-4A66-AF01-67AB52CF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C55-ED12-4809-9E62-B37A123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09B-660B-43BE-BD33-D66E2458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7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f"/>
                  </a:gs>
                  <a:gs pos="50000">
                    <a:srgbClr val="00007a"/>
                  </a:gs>
                  <a:gs pos="100000">
                    <a:srgbClr val="00006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563D-0210-4A55-A8F7-70AE9BA6A7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7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f"/>
                  </a:gs>
                  <a:gs pos="50000">
                    <a:srgbClr val="00007a"/>
                  </a:gs>
                  <a:gs pos="100000">
                    <a:srgbClr val="00006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5241-8C1F-4670-BD95-8F36EF5854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ecff"/>
                </a:solidFill>
                <a:latin typeface="Tahoma"/>
              </a:rPr>
              <a:t>Lesson 2.1</a:t>
            </a:r>
            <a:endParaRPr b="0" lang="en-US" sz="85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Find the x and y intercept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6x +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1" name="Picture 2" descr="handygraph1"/>
          <p:cNvPicPr/>
          <p:nvPr/>
        </p:nvPicPr>
        <p:blipFill>
          <a:blip r:embed="rId1"/>
          <a:stretch/>
        </p:blipFill>
        <p:spPr>
          <a:xfrm>
            <a:off x="4160880" y="1738440"/>
            <a:ext cx="4983120" cy="5119560"/>
          </a:xfrm>
          <a:prstGeom prst="rect">
            <a:avLst/>
          </a:prstGeom>
          <a:ln w="0">
            <a:noFill/>
          </a:ln>
        </p:spPr>
      </p:pic>
      <p:sp>
        <p:nvSpPr>
          <p:cNvPr id="452" name="Ink 5"/>
          <p:cNvSpPr/>
          <p:nvPr/>
        </p:nvSpPr>
        <p:spPr>
          <a:xfrm>
            <a:off x="911160" y="2276640"/>
            <a:ext cx="2303640" cy="358560"/>
          </a:xfrm>
          <a:custGeom>
            <a:avLst/>
            <a:gdLst/>
            <a:ahLst/>
            <a:rect l="l" t="t" r="r" b="b"/>
            <a:pathLst>
              <a:path w="6401" h="993">
                <a:moveTo>
                  <a:pt x="2729" y="6499"/>
                </a:moveTo>
                <a:cubicBezTo>
                  <a:pt x="2682" y="6545"/>
                  <a:pt x="2629" y="6585"/>
                  <a:pt x="2604" y="6648"/>
                </a:cubicBezTo>
                <a:cubicBezTo>
                  <a:pt x="2567" y="6741"/>
                  <a:pt x="2534" y="6821"/>
                  <a:pt x="2530" y="6921"/>
                </a:cubicBezTo>
                <a:cubicBezTo>
                  <a:pt x="2527" y="7008"/>
                  <a:pt x="2529" y="7050"/>
                  <a:pt x="2580" y="7119"/>
                </a:cubicBezTo>
                <a:cubicBezTo>
                  <a:pt x="2620" y="7173"/>
                  <a:pt x="2664" y="7190"/>
                  <a:pt x="2729" y="7193"/>
                </a:cubicBezTo>
                <a:cubicBezTo>
                  <a:pt x="2808" y="7196"/>
                  <a:pt x="2907" y="7209"/>
                  <a:pt x="2977" y="7169"/>
                </a:cubicBezTo>
                <a:cubicBezTo>
                  <a:pt x="3032" y="7138"/>
                  <a:pt x="3079" y="7091"/>
                  <a:pt x="3125" y="7045"/>
                </a:cubicBezTo>
                <a:cubicBezTo>
                  <a:pt x="3180" y="6990"/>
                  <a:pt x="3197" y="6921"/>
                  <a:pt x="3200" y="6846"/>
                </a:cubicBezTo>
                <a:cubicBezTo>
                  <a:pt x="3203" y="6786"/>
                  <a:pt x="3186" y="6717"/>
                  <a:pt x="3150" y="6672"/>
                </a:cubicBezTo>
                <a:cubicBezTo>
                  <a:pt x="3095" y="6604"/>
                  <a:pt x="3093" y="6607"/>
                  <a:pt x="3026" y="6573"/>
                </a:cubicBezTo>
                <a:cubicBezTo>
                  <a:pt x="2957" y="6539"/>
                  <a:pt x="2936" y="6524"/>
                  <a:pt x="2853" y="6524"/>
                </a:cubicBezTo>
                <a:cubicBezTo>
                  <a:pt x="2787" y="6524"/>
                  <a:pt x="2773" y="6553"/>
                  <a:pt x="2729" y="6598"/>
                </a:cubicBezTo>
              </a:path>
              <a:path w="6401" h="993">
                <a:moveTo>
                  <a:pt x="3572" y="6772"/>
                </a:moveTo>
                <a:cubicBezTo>
                  <a:pt x="3704" y="6772"/>
                  <a:pt x="3837" y="6772"/>
                  <a:pt x="3969" y="6772"/>
                </a:cubicBezTo>
              </a:path>
              <a:path w="6401" h="993">
                <a:moveTo>
                  <a:pt x="3646" y="6945"/>
                </a:moveTo>
                <a:cubicBezTo>
                  <a:pt x="3704" y="7003"/>
                  <a:pt x="3738" y="6995"/>
                  <a:pt x="3820" y="6995"/>
                </a:cubicBezTo>
                <a:cubicBezTo>
                  <a:pt x="3837" y="6995"/>
                  <a:pt x="3853" y="6995"/>
                  <a:pt x="3870" y="6995"/>
                </a:cubicBezTo>
              </a:path>
              <a:path w="6401" h="993">
                <a:moveTo>
                  <a:pt x="4366" y="6672"/>
                </a:moveTo>
                <a:cubicBezTo>
                  <a:pt x="4374" y="6729"/>
                  <a:pt x="4396" y="6790"/>
                  <a:pt x="4415" y="6846"/>
                </a:cubicBezTo>
                <a:cubicBezTo>
                  <a:pt x="4435" y="6905"/>
                  <a:pt x="4485" y="6963"/>
                  <a:pt x="4514" y="7020"/>
                </a:cubicBezTo>
                <a:cubicBezTo>
                  <a:pt x="4552" y="7096"/>
                  <a:pt x="4600" y="7122"/>
                  <a:pt x="4663" y="7169"/>
                </a:cubicBezTo>
                <a:cubicBezTo>
                  <a:pt x="4720" y="7211"/>
                  <a:pt x="4765" y="7240"/>
                  <a:pt x="4837" y="7243"/>
                </a:cubicBezTo>
                <a:cubicBezTo>
                  <a:pt x="4862" y="7243"/>
                  <a:pt x="4886" y="7243"/>
                  <a:pt x="4911" y="7243"/>
                </a:cubicBezTo>
              </a:path>
              <a:path w="6401" h="993">
                <a:moveTo>
                  <a:pt x="4638" y="6722"/>
                </a:moveTo>
                <a:cubicBezTo>
                  <a:pt x="4584" y="6830"/>
                  <a:pt x="4541" y="6937"/>
                  <a:pt x="4490" y="7045"/>
                </a:cubicBezTo>
                <a:cubicBezTo>
                  <a:pt x="4455" y="7120"/>
                  <a:pt x="4422" y="7192"/>
                  <a:pt x="4390" y="7268"/>
                </a:cubicBezTo>
                <a:cubicBezTo>
                  <a:pt x="4370" y="7308"/>
                  <a:pt x="4352" y="7324"/>
                  <a:pt x="4390" y="7317"/>
                </a:cubicBezTo>
              </a:path>
              <a:path w="6401" h="993">
                <a:moveTo>
                  <a:pt x="4887" y="6375"/>
                </a:moveTo>
                <a:cubicBezTo>
                  <a:pt x="4958" y="6313"/>
                  <a:pt x="5021" y="6302"/>
                  <a:pt x="5110" y="6375"/>
                </a:cubicBezTo>
                <a:cubicBezTo>
                  <a:pt x="5160" y="6416"/>
                  <a:pt x="5144" y="6506"/>
                  <a:pt x="5110" y="6548"/>
                </a:cubicBezTo>
                <a:cubicBezTo>
                  <a:pt x="5083" y="6581"/>
                  <a:pt x="5062" y="6615"/>
                  <a:pt x="5035" y="6648"/>
                </a:cubicBezTo>
                <a:cubicBezTo>
                  <a:pt x="5113" y="6673"/>
                  <a:pt x="5219" y="6686"/>
                  <a:pt x="5308" y="6697"/>
                </a:cubicBezTo>
              </a:path>
              <a:path w="6401" h="993">
                <a:moveTo>
                  <a:pt x="5259" y="6921"/>
                </a:moveTo>
                <a:cubicBezTo>
                  <a:pt x="5352" y="6912"/>
                  <a:pt x="5393" y="6916"/>
                  <a:pt x="5482" y="6921"/>
                </a:cubicBezTo>
                <a:cubicBezTo>
                  <a:pt x="5533" y="6921"/>
                  <a:pt x="5552" y="6920"/>
                  <a:pt x="5581" y="6896"/>
                </a:cubicBezTo>
              </a:path>
              <a:path w="6401" h="993">
                <a:moveTo>
                  <a:pt x="6102" y="6524"/>
                </a:moveTo>
                <a:cubicBezTo>
                  <a:pt x="6060" y="6565"/>
                  <a:pt x="6031" y="6595"/>
                  <a:pt x="6003" y="6648"/>
                </a:cubicBezTo>
                <a:cubicBezTo>
                  <a:pt x="5960" y="6728"/>
                  <a:pt x="5932" y="6781"/>
                  <a:pt x="5928" y="6871"/>
                </a:cubicBezTo>
                <a:cubicBezTo>
                  <a:pt x="5925" y="6931"/>
                  <a:pt x="5929" y="7017"/>
                  <a:pt x="5953" y="7069"/>
                </a:cubicBezTo>
                <a:cubicBezTo>
                  <a:pt x="5971" y="7107"/>
                  <a:pt x="6066" y="7150"/>
                  <a:pt x="6102" y="7169"/>
                </a:cubicBezTo>
                <a:cubicBezTo>
                  <a:pt x="6166" y="7202"/>
                  <a:pt x="6229" y="7193"/>
                  <a:pt x="6300" y="7193"/>
                </a:cubicBezTo>
                <a:cubicBezTo>
                  <a:pt x="6400" y="7193"/>
                  <a:pt x="6440" y="7138"/>
                  <a:pt x="6499" y="7069"/>
                </a:cubicBezTo>
                <a:cubicBezTo>
                  <a:pt x="6547" y="7013"/>
                  <a:pt x="6520" y="6971"/>
                  <a:pt x="6474" y="6921"/>
                </a:cubicBezTo>
                <a:cubicBezTo>
                  <a:pt x="6427" y="6869"/>
                  <a:pt x="6387" y="6846"/>
                  <a:pt x="6325" y="6896"/>
                </a:cubicBezTo>
                <a:cubicBezTo>
                  <a:pt x="6255" y="6953"/>
                  <a:pt x="6233" y="7001"/>
                  <a:pt x="6251" y="7094"/>
                </a:cubicBezTo>
                <a:cubicBezTo>
                  <a:pt x="6271" y="7200"/>
                  <a:pt x="6324" y="7191"/>
                  <a:pt x="6400" y="7218"/>
                </a:cubicBezTo>
                <a:cubicBezTo>
                  <a:pt x="6416" y="7226"/>
                  <a:pt x="6433" y="7235"/>
                  <a:pt x="6449" y="7243"/>
                </a:cubicBezTo>
              </a:path>
              <a:path w="6401" h="993">
                <a:moveTo>
                  <a:pt x="6796" y="6697"/>
                </a:moveTo>
                <a:cubicBezTo>
                  <a:pt x="6828" y="6782"/>
                  <a:pt x="6845" y="6820"/>
                  <a:pt x="6896" y="6896"/>
                </a:cubicBezTo>
                <a:cubicBezTo>
                  <a:pt x="6981" y="7022"/>
                  <a:pt x="7080" y="7067"/>
                  <a:pt x="7218" y="7144"/>
                </a:cubicBezTo>
                <a:cubicBezTo>
                  <a:pt x="7280" y="7179"/>
                  <a:pt x="7321" y="7193"/>
                  <a:pt x="7392" y="7193"/>
                </a:cubicBezTo>
              </a:path>
              <a:path w="6401" h="993">
                <a:moveTo>
                  <a:pt x="7218" y="6648"/>
                </a:moveTo>
                <a:cubicBezTo>
                  <a:pt x="7172" y="6727"/>
                  <a:pt x="7128" y="6810"/>
                  <a:pt x="7094" y="6896"/>
                </a:cubicBezTo>
                <a:cubicBezTo>
                  <a:pt x="7059" y="6985"/>
                  <a:pt x="7026" y="7089"/>
                  <a:pt x="6970" y="7169"/>
                </a:cubicBezTo>
                <a:cubicBezTo>
                  <a:pt x="6931" y="7224"/>
                  <a:pt x="6921" y="7248"/>
                  <a:pt x="6921" y="7317"/>
                </a:cubicBezTo>
              </a:path>
              <a:path w="6401" h="993">
                <a:moveTo>
                  <a:pt x="7838" y="6648"/>
                </a:moveTo>
                <a:cubicBezTo>
                  <a:pt x="7838" y="6768"/>
                  <a:pt x="7842" y="6890"/>
                  <a:pt x="7863" y="6995"/>
                </a:cubicBezTo>
                <a:cubicBezTo>
                  <a:pt x="7872" y="7038"/>
                  <a:pt x="7880" y="7077"/>
                  <a:pt x="7888" y="7119"/>
                </a:cubicBezTo>
              </a:path>
              <a:path w="6401" h="993">
                <a:moveTo>
                  <a:pt x="7665" y="6896"/>
                </a:moveTo>
                <a:cubicBezTo>
                  <a:pt x="7762" y="6863"/>
                  <a:pt x="7815" y="6892"/>
                  <a:pt x="7913" y="6896"/>
                </a:cubicBezTo>
                <a:cubicBezTo>
                  <a:pt x="7987" y="6896"/>
                  <a:pt x="8012" y="6896"/>
                  <a:pt x="8062" y="6896"/>
                </a:cubicBezTo>
              </a:path>
              <a:path w="6401" h="993">
                <a:moveTo>
                  <a:pt x="8830" y="6499"/>
                </a:moveTo>
                <a:cubicBezTo>
                  <a:pt x="8750" y="6463"/>
                  <a:pt x="8694" y="6449"/>
                  <a:pt x="8607" y="6449"/>
                </a:cubicBezTo>
                <a:cubicBezTo>
                  <a:pt x="8485" y="6449"/>
                  <a:pt x="8478" y="6473"/>
                  <a:pt x="8483" y="6573"/>
                </a:cubicBezTo>
                <a:cubicBezTo>
                  <a:pt x="8487" y="6646"/>
                  <a:pt x="8546" y="6703"/>
                  <a:pt x="8607" y="6747"/>
                </a:cubicBezTo>
                <a:cubicBezTo>
                  <a:pt x="8681" y="6801"/>
                  <a:pt x="8718" y="6854"/>
                  <a:pt x="8781" y="6921"/>
                </a:cubicBezTo>
                <a:cubicBezTo>
                  <a:pt x="8833" y="6976"/>
                  <a:pt x="8914" y="7068"/>
                  <a:pt x="8930" y="7144"/>
                </a:cubicBezTo>
                <a:cubicBezTo>
                  <a:pt x="8943" y="7205"/>
                  <a:pt x="8932" y="7248"/>
                  <a:pt x="8905" y="7293"/>
                </a:cubicBezTo>
                <a:cubicBezTo>
                  <a:pt x="8855" y="7287"/>
                  <a:pt x="8763" y="7284"/>
                  <a:pt x="8731" y="7243"/>
                </a:cubicBezTo>
                <a:cubicBezTo>
                  <a:pt x="8689" y="7189"/>
                  <a:pt x="8677" y="7151"/>
                  <a:pt x="8657" y="7094"/>
                </a:cubicBezTo>
                <a:cubicBezTo>
                  <a:pt x="8631" y="7020"/>
                  <a:pt x="8621" y="6988"/>
                  <a:pt x="8657" y="6921"/>
                </a:cubicBezTo>
                <a:cubicBezTo>
                  <a:pt x="8697" y="6846"/>
                  <a:pt x="8759" y="6806"/>
                  <a:pt x="8806" y="6747"/>
                </a:cubicBezTo>
                <a:cubicBezTo>
                  <a:pt x="8848" y="6694"/>
                  <a:pt x="8913" y="6647"/>
                  <a:pt x="8930" y="6573"/>
                </a:cubicBezTo>
                <a:cubicBezTo>
                  <a:pt x="8942" y="6521"/>
                  <a:pt x="8928" y="6488"/>
                  <a:pt x="8905" y="64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Ink 6"/>
          <p:cNvSpPr/>
          <p:nvPr/>
        </p:nvSpPr>
        <p:spPr>
          <a:xfrm>
            <a:off x="820800" y="2795760"/>
            <a:ext cx="2367000" cy="473040"/>
          </a:xfrm>
          <a:custGeom>
            <a:avLst/>
            <a:gdLst/>
            <a:ahLst/>
            <a:rect l="l" t="t" r="r" b="b"/>
            <a:pathLst>
              <a:path w="6574" h="1316">
                <a:moveTo>
                  <a:pt x="2406" y="8037"/>
                </a:moveTo>
                <a:cubicBezTo>
                  <a:pt x="2374" y="8111"/>
                  <a:pt x="2325" y="8205"/>
                  <a:pt x="2307" y="8285"/>
                </a:cubicBezTo>
                <a:cubicBezTo>
                  <a:pt x="2291" y="8358"/>
                  <a:pt x="2282" y="8432"/>
                  <a:pt x="2282" y="8508"/>
                </a:cubicBezTo>
                <a:cubicBezTo>
                  <a:pt x="2282" y="8574"/>
                  <a:pt x="2272" y="8659"/>
                  <a:pt x="2332" y="8706"/>
                </a:cubicBezTo>
                <a:cubicBezTo>
                  <a:pt x="2355" y="8724"/>
                  <a:pt x="2453" y="8794"/>
                  <a:pt x="2480" y="8781"/>
                </a:cubicBezTo>
                <a:cubicBezTo>
                  <a:pt x="2551" y="8747"/>
                  <a:pt x="2609" y="8703"/>
                  <a:pt x="2679" y="8657"/>
                </a:cubicBezTo>
                <a:cubicBezTo>
                  <a:pt x="2769" y="8597"/>
                  <a:pt x="2816" y="8512"/>
                  <a:pt x="2853" y="8409"/>
                </a:cubicBezTo>
                <a:cubicBezTo>
                  <a:pt x="2884" y="8324"/>
                  <a:pt x="2924" y="8258"/>
                  <a:pt x="2902" y="8161"/>
                </a:cubicBezTo>
                <a:cubicBezTo>
                  <a:pt x="2881" y="8071"/>
                  <a:pt x="2792" y="7936"/>
                  <a:pt x="2704" y="7913"/>
                </a:cubicBezTo>
                <a:cubicBezTo>
                  <a:pt x="2625" y="7892"/>
                  <a:pt x="2538" y="7910"/>
                  <a:pt x="2480" y="7962"/>
                </a:cubicBezTo>
                <a:cubicBezTo>
                  <a:pt x="2436" y="8002"/>
                  <a:pt x="2439" y="8004"/>
                  <a:pt x="2431" y="8062"/>
                </a:cubicBezTo>
              </a:path>
              <a:path w="6574" h="1316">
                <a:moveTo>
                  <a:pt x="3200" y="8260"/>
                </a:moveTo>
                <a:cubicBezTo>
                  <a:pt x="3316" y="8260"/>
                  <a:pt x="3349" y="8260"/>
                  <a:pt x="3423" y="8260"/>
                </a:cubicBezTo>
              </a:path>
              <a:path w="6574" h="1316">
                <a:moveTo>
                  <a:pt x="3200" y="8434"/>
                </a:moveTo>
                <a:cubicBezTo>
                  <a:pt x="3276" y="8479"/>
                  <a:pt x="3303" y="8483"/>
                  <a:pt x="3398" y="8483"/>
                </a:cubicBezTo>
              </a:path>
              <a:path w="6574" h="1316">
                <a:moveTo>
                  <a:pt x="3969" y="7913"/>
                </a:moveTo>
                <a:cubicBezTo>
                  <a:pt x="3927" y="7995"/>
                  <a:pt x="3882" y="8079"/>
                  <a:pt x="3845" y="8161"/>
                </a:cubicBezTo>
                <a:cubicBezTo>
                  <a:pt x="3797" y="8269"/>
                  <a:pt x="3750" y="8365"/>
                  <a:pt x="3746" y="8483"/>
                </a:cubicBezTo>
                <a:cubicBezTo>
                  <a:pt x="3741" y="8620"/>
                  <a:pt x="3794" y="8679"/>
                  <a:pt x="3870" y="8781"/>
                </a:cubicBezTo>
                <a:cubicBezTo>
                  <a:pt x="3922" y="8860"/>
                  <a:pt x="3943" y="8889"/>
                  <a:pt x="3994" y="8930"/>
                </a:cubicBezTo>
              </a:path>
              <a:path w="6574" h="1316">
                <a:moveTo>
                  <a:pt x="6251" y="7764"/>
                </a:moveTo>
                <a:cubicBezTo>
                  <a:pt x="6341" y="7865"/>
                  <a:pt x="6388" y="7954"/>
                  <a:pt x="6424" y="8086"/>
                </a:cubicBezTo>
                <a:cubicBezTo>
                  <a:pt x="6468" y="8245"/>
                  <a:pt x="6461" y="8348"/>
                  <a:pt x="6449" y="8508"/>
                </a:cubicBezTo>
                <a:cubicBezTo>
                  <a:pt x="6439" y="8652"/>
                  <a:pt x="6427" y="8732"/>
                  <a:pt x="6350" y="8855"/>
                </a:cubicBezTo>
                <a:cubicBezTo>
                  <a:pt x="6297" y="8939"/>
                  <a:pt x="6248" y="8968"/>
                  <a:pt x="6176" y="9029"/>
                </a:cubicBezTo>
                <a:cubicBezTo>
                  <a:pt x="6138" y="9068"/>
                  <a:pt x="6136" y="9085"/>
                  <a:pt x="6102" y="9079"/>
                </a:cubicBezTo>
              </a:path>
              <a:path w="6574" h="1316">
                <a:moveTo>
                  <a:pt x="6796" y="7938"/>
                </a:moveTo>
                <a:cubicBezTo>
                  <a:pt x="6716" y="8129"/>
                  <a:pt x="6661" y="8223"/>
                  <a:pt x="6672" y="8409"/>
                </a:cubicBezTo>
                <a:cubicBezTo>
                  <a:pt x="6681" y="8552"/>
                  <a:pt x="6717" y="8612"/>
                  <a:pt x="6796" y="8731"/>
                </a:cubicBezTo>
                <a:cubicBezTo>
                  <a:pt x="6877" y="8853"/>
                  <a:pt x="6985" y="8912"/>
                  <a:pt x="7094" y="9004"/>
                </a:cubicBezTo>
              </a:path>
              <a:path w="6574" h="1316">
                <a:moveTo>
                  <a:pt x="4043" y="8161"/>
                </a:moveTo>
                <a:cubicBezTo>
                  <a:pt x="4081" y="8208"/>
                  <a:pt x="4106" y="8296"/>
                  <a:pt x="4142" y="8334"/>
                </a:cubicBezTo>
                <a:cubicBezTo>
                  <a:pt x="4198" y="8394"/>
                  <a:pt x="4251" y="8478"/>
                  <a:pt x="4291" y="8558"/>
                </a:cubicBezTo>
                <a:cubicBezTo>
                  <a:pt x="4336" y="8647"/>
                  <a:pt x="4385" y="8657"/>
                  <a:pt x="4465" y="8706"/>
                </a:cubicBezTo>
                <a:cubicBezTo>
                  <a:pt x="4503" y="8729"/>
                  <a:pt x="4524" y="8765"/>
                  <a:pt x="4564" y="8781"/>
                </a:cubicBezTo>
              </a:path>
              <a:path w="6574" h="1316">
                <a:moveTo>
                  <a:pt x="4440" y="8111"/>
                </a:moveTo>
                <a:cubicBezTo>
                  <a:pt x="4358" y="8223"/>
                  <a:pt x="4231" y="8360"/>
                  <a:pt x="4167" y="8483"/>
                </a:cubicBezTo>
                <a:cubicBezTo>
                  <a:pt x="4141" y="8533"/>
                  <a:pt x="4078" y="8650"/>
                  <a:pt x="4068" y="8706"/>
                </a:cubicBezTo>
                <a:cubicBezTo>
                  <a:pt x="4068" y="8731"/>
                  <a:pt x="4068" y="8756"/>
                  <a:pt x="4068" y="8781"/>
                </a:cubicBezTo>
              </a:path>
              <a:path w="6574" h="1316">
                <a:moveTo>
                  <a:pt x="7045" y="8285"/>
                </a:moveTo>
                <a:cubicBezTo>
                  <a:pt x="7083" y="8343"/>
                  <a:pt x="7136" y="8429"/>
                  <a:pt x="7193" y="8483"/>
                </a:cubicBezTo>
                <a:cubicBezTo>
                  <a:pt x="7259" y="8545"/>
                  <a:pt x="7365" y="8607"/>
                  <a:pt x="7441" y="8657"/>
                </a:cubicBezTo>
                <a:cubicBezTo>
                  <a:pt x="7524" y="8712"/>
                  <a:pt x="7577" y="8768"/>
                  <a:pt x="7665" y="8806"/>
                </a:cubicBezTo>
              </a:path>
              <a:path w="6574" h="1316">
                <a:moveTo>
                  <a:pt x="7367" y="8161"/>
                </a:moveTo>
                <a:cubicBezTo>
                  <a:pt x="7260" y="8317"/>
                  <a:pt x="7192" y="8474"/>
                  <a:pt x="7094" y="8632"/>
                </a:cubicBezTo>
                <a:cubicBezTo>
                  <a:pt x="7047" y="8708"/>
                  <a:pt x="6995" y="8781"/>
                  <a:pt x="6945" y="8855"/>
                </a:cubicBezTo>
              </a:path>
              <a:path w="6574" h="1316">
                <a:moveTo>
                  <a:pt x="4762" y="8359"/>
                </a:moveTo>
                <a:cubicBezTo>
                  <a:pt x="4859" y="8359"/>
                  <a:pt x="4945" y="8364"/>
                  <a:pt x="5035" y="8334"/>
                </a:cubicBezTo>
              </a:path>
              <a:path w="6574" h="1316">
                <a:moveTo>
                  <a:pt x="5432" y="8062"/>
                </a:moveTo>
                <a:cubicBezTo>
                  <a:pt x="5423" y="8132"/>
                  <a:pt x="5394" y="8221"/>
                  <a:pt x="5358" y="8285"/>
                </a:cubicBezTo>
                <a:cubicBezTo>
                  <a:pt x="5325" y="8344"/>
                  <a:pt x="5333" y="8317"/>
                  <a:pt x="5333" y="8409"/>
                </a:cubicBezTo>
                <a:cubicBezTo>
                  <a:pt x="5424" y="8409"/>
                  <a:pt x="5515" y="8409"/>
                  <a:pt x="5606" y="8409"/>
                </a:cubicBezTo>
              </a:path>
              <a:path w="6574" h="1316">
                <a:moveTo>
                  <a:pt x="5730" y="7813"/>
                </a:moveTo>
                <a:cubicBezTo>
                  <a:pt x="5730" y="7910"/>
                  <a:pt x="5730" y="7991"/>
                  <a:pt x="5705" y="8086"/>
                </a:cubicBezTo>
                <a:cubicBezTo>
                  <a:pt x="5677" y="8190"/>
                  <a:pt x="5662" y="8324"/>
                  <a:pt x="5680" y="8434"/>
                </a:cubicBezTo>
                <a:cubicBezTo>
                  <a:pt x="5696" y="8530"/>
                  <a:pt x="5721" y="8614"/>
                  <a:pt x="5755" y="8706"/>
                </a:cubicBezTo>
                <a:cubicBezTo>
                  <a:pt x="5777" y="8767"/>
                  <a:pt x="5780" y="8799"/>
                  <a:pt x="5804" y="8855"/>
                </a:cubicBezTo>
              </a:path>
              <a:path w="6574" h="1316">
                <a:moveTo>
                  <a:pt x="7863" y="8434"/>
                </a:moveTo>
                <a:cubicBezTo>
                  <a:pt x="7970" y="8434"/>
                  <a:pt x="8038" y="8421"/>
                  <a:pt x="8136" y="8409"/>
                </a:cubicBezTo>
              </a:path>
              <a:path w="6574" h="1316">
                <a:moveTo>
                  <a:pt x="8310" y="8037"/>
                </a:moveTo>
                <a:cubicBezTo>
                  <a:pt x="8389" y="7957"/>
                  <a:pt x="8439" y="7942"/>
                  <a:pt x="8558" y="7938"/>
                </a:cubicBezTo>
                <a:cubicBezTo>
                  <a:pt x="8590" y="7937"/>
                  <a:pt x="8716" y="7947"/>
                  <a:pt x="8731" y="7987"/>
                </a:cubicBezTo>
                <a:cubicBezTo>
                  <a:pt x="8753" y="8044"/>
                  <a:pt x="8717" y="8119"/>
                  <a:pt x="8682" y="8161"/>
                </a:cubicBezTo>
                <a:cubicBezTo>
                  <a:pt x="8629" y="8225"/>
                  <a:pt x="8551" y="8288"/>
                  <a:pt x="8483" y="8334"/>
                </a:cubicBezTo>
                <a:cubicBezTo>
                  <a:pt x="8415" y="8380"/>
                  <a:pt x="8392" y="8433"/>
                  <a:pt x="8359" y="8508"/>
                </a:cubicBezTo>
                <a:cubicBezTo>
                  <a:pt x="8344" y="8542"/>
                  <a:pt x="8298" y="8633"/>
                  <a:pt x="8359" y="8657"/>
                </a:cubicBezTo>
                <a:cubicBezTo>
                  <a:pt x="8440" y="8688"/>
                  <a:pt x="8484" y="8706"/>
                  <a:pt x="8582" y="8706"/>
                </a:cubicBezTo>
                <a:cubicBezTo>
                  <a:pt x="8688" y="8706"/>
                  <a:pt x="8766" y="8728"/>
                  <a:pt x="8830" y="8657"/>
                </a:cubicBezTo>
                <a:cubicBezTo>
                  <a:pt x="8838" y="8649"/>
                  <a:pt x="8847" y="8640"/>
                  <a:pt x="8855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Ink 7"/>
          <p:cNvSpPr/>
          <p:nvPr/>
        </p:nvSpPr>
        <p:spPr>
          <a:xfrm>
            <a:off x="3367080" y="2724120"/>
            <a:ext cx="160200" cy="554040"/>
          </a:xfrm>
          <a:custGeom>
            <a:avLst/>
            <a:gdLst/>
            <a:ahLst/>
            <a:rect l="l" t="t" r="r" b="b"/>
            <a:pathLst>
              <a:path w="448" h="1539">
                <a:moveTo>
                  <a:pt x="9351" y="7565"/>
                </a:moveTo>
                <a:cubicBezTo>
                  <a:pt x="9448" y="7600"/>
                  <a:pt x="9541" y="7645"/>
                  <a:pt x="9599" y="7739"/>
                </a:cubicBezTo>
                <a:cubicBezTo>
                  <a:pt x="9676" y="7863"/>
                  <a:pt x="9695" y="8020"/>
                  <a:pt x="9723" y="8161"/>
                </a:cubicBezTo>
                <a:cubicBezTo>
                  <a:pt x="9760" y="8348"/>
                  <a:pt x="9752" y="8520"/>
                  <a:pt x="9773" y="8706"/>
                </a:cubicBezTo>
                <a:cubicBezTo>
                  <a:pt x="9784" y="8806"/>
                  <a:pt x="9846" y="8984"/>
                  <a:pt x="9773" y="9079"/>
                </a:cubicBezTo>
                <a:cubicBezTo>
                  <a:pt x="9756" y="9087"/>
                  <a:pt x="9740" y="9095"/>
                  <a:pt x="9723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Ink 8"/>
          <p:cNvSpPr/>
          <p:nvPr/>
        </p:nvSpPr>
        <p:spPr>
          <a:xfrm>
            <a:off x="768240" y="3348000"/>
            <a:ext cx="1062000" cy="322200"/>
          </a:xfrm>
          <a:custGeom>
            <a:avLst/>
            <a:gdLst/>
            <a:ahLst/>
            <a:rect l="l" t="t" r="r" b="b"/>
            <a:pathLst>
              <a:path w="2953" h="894">
                <a:moveTo>
                  <a:pt x="2133" y="9451"/>
                </a:moveTo>
                <a:cubicBezTo>
                  <a:pt x="2169" y="9537"/>
                  <a:pt x="2229" y="9690"/>
                  <a:pt x="2307" y="9748"/>
                </a:cubicBezTo>
                <a:cubicBezTo>
                  <a:pt x="2382" y="9803"/>
                  <a:pt x="2468" y="9926"/>
                  <a:pt x="2555" y="9971"/>
                </a:cubicBezTo>
                <a:cubicBezTo>
                  <a:pt x="2608" y="9999"/>
                  <a:pt x="2646" y="10024"/>
                  <a:pt x="2704" y="10046"/>
                </a:cubicBezTo>
              </a:path>
              <a:path w="2953" h="894">
                <a:moveTo>
                  <a:pt x="2629" y="9451"/>
                </a:moveTo>
                <a:cubicBezTo>
                  <a:pt x="2556" y="9576"/>
                  <a:pt x="2487" y="9653"/>
                  <a:pt x="2406" y="9773"/>
                </a:cubicBezTo>
                <a:cubicBezTo>
                  <a:pt x="2383" y="9808"/>
                  <a:pt x="2286" y="9954"/>
                  <a:pt x="2282" y="9971"/>
                </a:cubicBezTo>
                <a:cubicBezTo>
                  <a:pt x="2282" y="10038"/>
                  <a:pt x="2282" y="10071"/>
                  <a:pt x="2282" y="9996"/>
                </a:cubicBezTo>
              </a:path>
              <a:path w="2953" h="894">
                <a:moveTo>
                  <a:pt x="2778" y="9748"/>
                </a:moveTo>
                <a:cubicBezTo>
                  <a:pt x="2886" y="9748"/>
                  <a:pt x="2993" y="9748"/>
                  <a:pt x="3101" y="9748"/>
                </a:cubicBezTo>
              </a:path>
              <a:path w="2953" h="894">
                <a:moveTo>
                  <a:pt x="3299" y="9500"/>
                </a:moveTo>
                <a:cubicBezTo>
                  <a:pt x="3270" y="9572"/>
                  <a:pt x="3194" y="9707"/>
                  <a:pt x="3324" y="9748"/>
                </a:cubicBezTo>
                <a:cubicBezTo>
                  <a:pt x="3424" y="9780"/>
                  <a:pt x="3534" y="9736"/>
                  <a:pt x="3621" y="9699"/>
                </a:cubicBezTo>
              </a:path>
              <a:path w="2953" h="894">
                <a:moveTo>
                  <a:pt x="3646" y="9302"/>
                </a:moveTo>
                <a:cubicBezTo>
                  <a:pt x="3605" y="9441"/>
                  <a:pt x="3577" y="9554"/>
                  <a:pt x="3572" y="9699"/>
                </a:cubicBezTo>
                <a:cubicBezTo>
                  <a:pt x="3568" y="9826"/>
                  <a:pt x="3574" y="9959"/>
                  <a:pt x="3597" y="10071"/>
                </a:cubicBezTo>
                <a:cubicBezTo>
                  <a:pt x="3597" y="10112"/>
                  <a:pt x="3589" y="10128"/>
                  <a:pt x="3621" y="10120"/>
                </a:cubicBezTo>
              </a:path>
              <a:path w="2953" h="894">
                <a:moveTo>
                  <a:pt x="3894" y="9748"/>
                </a:moveTo>
                <a:cubicBezTo>
                  <a:pt x="4024" y="9714"/>
                  <a:pt x="4055" y="9699"/>
                  <a:pt x="4167" y="9699"/>
                </a:cubicBezTo>
              </a:path>
              <a:path w="2953" h="894">
                <a:moveTo>
                  <a:pt x="3944" y="9897"/>
                </a:moveTo>
                <a:cubicBezTo>
                  <a:pt x="4063" y="9923"/>
                  <a:pt x="4124" y="9907"/>
                  <a:pt x="4242" y="9897"/>
                </a:cubicBezTo>
              </a:path>
              <a:path w="2953" h="894">
                <a:moveTo>
                  <a:pt x="4663" y="9624"/>
                </a:moveTo>
                <a:cubicBezTo>
                  <a:pt x="4569" y="9739"/>
                  <a:pt x="4524" y="9772"/>
                  <a:pt x="4490" y="9897"/>
                </a:cubicBezTo>
                <a:cubicBezTo>
                  <a:pt x="4463" y="9996"/>
                  <a:pt x="4475" y="10058"/>
                  <a:pt x="4564" y="10120"/>
                </a:cubicBezTo>
                <a:cubicBezTo>
                  <a:pt x="4651" y="10181"/>
                  <a:pt x="4709" y="10195"/>
                  <a:pt x="4812" y="10195"/>
                </a:cubicBezTo>
                <a:cubicBezTo>
                  <a:pt x="4927" y="10195"/>
                  <a:pt x="4995" y="10146"/>
                  <a:pt x="5035" y="10046"/>
                </a:cubicBezTo>
                <a:cubicBezTo>
                  <a:pt x="5078" y="9938"/>
                  <a:pt x="5101" y="9860"/>
                  <a:pt x="5060" y="9748"/>
                </a:cubicBezTo>
                <a:cubicBezTo>
                  <a:pt x="5035" y="9679"/>
                  <a:pt x="4926" y="9650"/>
                  <a:pt x="4887" y="9599"/>
                </a:cubicBezTo>
                <a:cubicBezTo>
                  <a:pt x="4867" y="9559"/>
                  <a:pt x="4868" y="9543"/>
                  <a:pt x="4837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Ink 9"/>
          <p:cNvSpPr/>
          <p:nvPr/>
        </p:nvSpPr>
        <p:spPr>
          <a:xfrm>
            <a:off x="2320920" y="3375000"/>
            <a:ext cx="1073160" cy="295200"/>
          </a:xfrm>
          <a:custGeom>
            <a:avLst/>
            <a:gdLst/>
            <a:ahLst/>
            <a:rect l="l" t="t" r="r" b="b"/>
            <a:pathLst>
              <a:path w="2978" h="820">
                <a:moveTo>
                  <a:pt x="6449" y="9599"/>
                </a:moveTo>
                <a:cubicBezTo>
                  <a:pt x="6508" y="9702"/>
                  <a:pt x="6584" y="9816"/>
                  <a:pt x="6672" y="9897"/>
                </a:cubicBezTo>
                <a:cubicBezTo>
                  <a:pt x="6767" y="9985"/>
                  <a:pt x="6908" y="10136"/>
                  <a:pt x="7020" y="10195"/>
                </a:cubicBezTo>
                <a:cubicBezTo>
                  <a:pt x="7061" y="10195"/>
                  <a:pt x="7069" y="10195"/>
                  <a:pt x="7094" y="10195"/>
                </a:cubicBezTo>
              </a:path>
              <a:path w="2978" h="820">
                <a:moveTo>
                  <a:pt x="6871" y="9550"/>
                </a:moveTo>
                <a:cubicBezTo>
                  <a:pt x="6803" y="9632"/>
                  <a:pt x="6721" y="9725"/>
                  <a:pt x="6672" y="9823"/>
                </a:cubicBezTo>
                <a:cubicBezTo>
                  <a:pt x="6625" y="9917"/>
                  <a:pt x="6589" y="10023"/>
                  <a:pt x="6548" y="10120"/>
                </a:cubicBezTo>
              </a:path>
              <a:path w="2978" h="820">
                <a:moveTo>
                  <a:pt x="7045" y="9847"/>
                </a:moveTo>
                <a:cubicBezTo>
                  <a:pt x="7136" y="9839"/>
                  <a:pt x="7226" y="9831"/>
                  <a:pt x="7317" y="9823"/>
                </a:cubicBezTo>
              </a:path>
              <a:path w="2978" h="820">
                <a:moveTo>
                  <a:pt x="7516" y="9451"/>
                </a:moveTo>
                <a:cubicBezTo>
                  <a:pt x="7679" y="9385"/>
                  <a:pt x="7666" y="9409"/>
                  <a:pt x="7813" y="9451"/>
                </a:cubicBezTo>
                <a:cubicBezTo>
                  <a:pt x="7878" y="9470"/>
                  <a:pt x="7913" y="9458"/>
                  <a:pt x="7888" y="9525"/>
                </a:cubicBezTo>
                <a:cubicBezTo>
                  <a:pt x="7848" y="9631"/>
                  <a:pt x="7820" y="9643"/>
                  <a:pt x="7714" y="9674"/>
                </a:cubicBezTo>
                <a:cubicBezTo>
                  <a:pt x="7639" y="9696"/>
                  <a:pt x="7547" y="9750"/>
                  <a:pt x="7516" y="9823"/>
                </a:cubicBezTo>
                <a:cubicBezTo>
                  <a:pt x="7496" y="9872"/>
                  <a:pt x="7607" y="9959"/>
                  <a:pt x="7640" y="9971"/>
                </a:cubicBezTo>
                <a:cubicBezTo>
                  <a:pt x="7742" y="10008"/>
                  <a:pt x="7842" y="10007"/>
                  <a:pt x="7938" y="9971"/>
                </a:cubicBezTo>
              </a:path>
              <a:path w="2978" h="820">
                <a:moveTo>
                  <a:pt x="8111" y="9748"/>
                </a:moveTo>
                <a:cubicBezTo>
                  <a:pt x="8213" y="9748"/>
                  <a:pt x="8279" y="9742"/>
                  <a:pt x="8359" y="9699"/>
                </a:cubicBezTo>
                <a:cubicBezTo>
                  <a:pt x="8392" y="9666"/>
                  <a:pt x="8409" y="9649"/>
                  <a:pt x="8434" y="9624"/>
                </a:cubicBezTo>
              </a:path>
              <a:path w="2978" h="820">
                <a:moveTo>
                  <a:pt x="8186" y="9847"/>
                </a:moveTo>
                <a:cubicBezTo>
                  <a:pt x="8285" y="9901"/>
                  <a:pt x="8321" y="9897"/>
                  <a:pt x="8434" y="9897"/>
                </a:cubicBezTo>
                <a:cubicBezTo>
                  <a:pt x="8483" y="9897"/>
                  <a:pt x="8500" y="9897"/>
                  <a:pt x="8533" y="9897"/>
                </a:cubicBezTo>
              </a:path>
              <a:path w="2978" h="820">
                <a:moveTo>
                  <a:pt x="8905" y="9525"/>
                </a:moveTo>
                <a:cubicBezTo>
                  <a:pt x="8866" y="9553"/>
                  <a:pt x="8780" y="9610"/>
                  <a:pt x="8806" y="9674"/>
                </a:cubicBezTo>
                <a:cubicBezTo>
                  <a:pt x="8835" y="9746"/>
                  <a:pt x="8912" y="9871"/>
                  <a:pt x="8979" y="9897"/>
                </a:cubicBezTo>
                <a:cubicBezTo>
                  <a:pt x="9063" y="9930"/>
                  <a:pt x="9146" y="9910"/>
                  <a:pt x="9227" y="9897"/>
                </a:cubicBezTo>
                <a:cubicBezTo>
                  <a:pt x="9313" y="9883"/>
                  <a:pt x="9348" y="9836"/>
                  <a:pt x="9401" y="9773"/>
                </a:cubicBezTo>
                <a:cubicBezTo>
                  <a:pt x="9443" y="9722"/>
                  <a:pt x="9438" y="9609"/>
                  <a:pt x="9401" y="9550"/>
                </a:cubicBezTo>
                <a:cubicBezTo>
                  <a:pt x="9340" y="9451"/>
                  <a:pt x="9203" y="9409"/>
                  <a:pt x="9103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Ink 10"/>
          <p:cNvSpPr/>
          <p:nvPr/>
        </p:nvSpPr>
        <p:spPr>
          <a:xfrm>
            <a:off x="1116000" y="3751200"/>
            <a:ext cx="615960" cy="276120"/>
          </a:xfrm>
          <a:custGeom>
            <a:avLst/>
            <a:gdLst/>
            <a:ahLst/>
            <a:rect l="l" t="t" r="r" b="b"/>
            <a:pathLst>
              <a:path w="1712" h="770">
                <a:moveTo>
                  <a:pt x="3101" y="10567"/>
                </a:moveTo>
                <a:cubicBezTo>
                  <a:pt x="3222" y="10768"/>
                  <a:pt x="3271" y="10878"/>
                  <a:pt x="3423" y="11013"/>
                </a:cubicBezTo>
                <a:cubicBezTo>
                  <a:pt x="3472" y="11057"/>
                  <a:pt x="3541" y="11103"/>
                  <a:pt x="3597" y="11063"/>
                </a:cubicBezTo>
                <a:cubicBezTo>
                  <a:pt x="3605" y="11055"/>
                  <a:pt x="3613" y="11046"/>
                  <a:pt x="3621" y="11038"/>
                </a:cubicBezTo>
              </a:path>
              <a:path w="1712" h="770">
                <a:moveTo>
                  <a:pt x="3448" y="10443"/>
                </a:moveTo>
                <a:cubicBezTo>
                  <a:pt x="3364" y="10544"/>
                  <a:pt x="3321" y="10652"/>
                  <a:pt x="3249" y="10765"/>
                </a:cubicBezTo>
                <a:cubicBezTo>
                  <a:pt x="3198" y="10844"/>
                  <a:pt x="3178" y="10936"/>
                  <a:pt x="3125" y="11013"/>
                </a:cubicBezTo>
                <a:cubicBezTo>
                  <a:pt x="3096" y="11056"/>
                  <a:pt x="3105" y="11052"/>
                  <a:pt x="3150" y="11063"/>
                </a:cubicBezTo>
              </a:path>
              <a:path w="1712" h="770">
                <a:moveTo>
                  <a:pt x="3770" y="10691"/>
                </a:moveTo>
                <a:cubicBezTo>
                  <a:pt x="3904" y="10710"/>
                  <a:pt x="3926" y="10701"/>
                  <a:pt x="3994" y="10740"/>
                </a:cubicBezTo>
              </a:path>
              <a:path w="1712" h="770">
                <a:moveTo>
                  <a:pt x="3721" y="10914"/>
                </a:moveTo>
                <a:cubicBezTo>
                  <a:pt x="3778" y="10948"/>
                  <a:pt x="3872" y="10952"/>
                  <a:pt x="3944" y="10939"/>
                </a:cubicBezTo>
                <a:cubicBezTo>
                  <a:pt x="4017" y="10914"/>
                  <a:pt x="4041" y="10906"/>
                  <a:pt x="4093" y="10914"/>
                </a:cubicBezTo>
              </a:path>
              <a:path w="1712" h="770">
                <a:moveTo>
                  <a:pt x="4390" y="10641"/>
                </a:moveTo>
                <a:cubicBezTo>
                  <a:pt x="4333" y="10732"/>
                  <a:pt x="4296" y="10764"/>
                  <a:pt x="4341" y="10864"/>
                </a:cubicBezTo>
                <a:cubicBezTo>
                  <a:pt x="4377" y="10945"/>
                  <a:pt x="4458" y="10914"/>
                  <a:pt x="4539" y="10914"/>
                </a:cubicBezTo>
                <a:cubicBezTo>
                  <a:pt x="4556" y="10914"/>
                  <a:pt x="4572" y="10914"/>
                  <a:pt x="4589" y="10914"/>
                </a:cubicBezTo>
              </a:path>
              <a:path w="1712" h="770">
                <a:moveTo>
                  <a:pt x="4812" y="10418"/>
                </a:moveTo>
                <a:cubicBezTo>
                  <a:pt x="4751" y="10539"/>
                  <a:pt x="4718" y="10627"/>
                  <a:pt x="4713" y="10765"/>
                </a:cubicBezTo>
                <a:cubicBezTo>
                  <a:pt x="4709" y="10874"/>
                  <a:pt x="4701" y="10985"/>
                  <a:pt x="4738" y="11088"/>
                </a:cubicBezTo>
                <a:cubicBezTo>
                  <a:pt x="4762" y="11137"/>
                  <a:pt x="4770" y="11154"/>
                  <a:pt x="4787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Ink 11"/>
          <p:cNvSpPr/>
          <p:nvPr/>
        </p:nvSpPr>
        <p:spPr>
          <a:xfrm>
            <a:off x="2536920" y="3759120"/>
            <a:ext cx="722160" cy="277920"/>
          </a:xfrm>
          <a:custGeom>
            <a:avLst/>
            <a:gdLst/>
            <a:ahLst/>
            <a:rect l="l" t="t" r="r" b="b"/>
            <a:pathLst>
              <a:path w="2010" h="770">
                <a:moveTo>
                  <a:pt x="7045" y="10641"/>
                </a:moveTo>
                <a:cubicBezTo>
                  <a:pt x="7101" y="10756"/>
                  <a:pt x="7166" y="10857"/>
                  <a:pt x="7268" y="10939"/>
                </a:cubicBezTo>
                <a:cubicBezTo>
                  <a:pt x="7366" y="11018"/>
                  <a:pt x="7479" y="11129"/>
                  <a:pt x="7590" y="11187"/>
                </a:cubicBezTo>
                <a:cubicBezTo>
                  <a:pt x="7615" y="11195"/>
                  <a:pt x="7640" y="11204"/>
                  <a:pt x="7665" y="11212"/>
                </a:cubicBezTo>
              </a:path>
              <a:path w="2010" h="770">
                <a:moveTo>
                  <a:pt x="7367" y="10567"/>
                </a:moveTo>
                <a:cubicBezTo>
                  <a:pt x="7328" y="10636"/>
                  <a:pt x="7147" y="10889"/>
                  <a:pt x="7119" y="11013"/>
                </a:cubicBezTo>
                <a:cubicBezTo>
                  <a:pt x="7119" y="11058"/>
                  <a:pt x="7116" y="11071"/>
                  <a:pt x="7144" y="11088"/>
                </a:cubicBezTo>
              </a:path>
              <a:path w="2010" h="770">
                <a:moveTo>
                  <a:pt x="7987" y="10716"/>
                </a:moveTo>
                <a:cubicBezTo>
                  <a:pt x="8045" y="10716"/>
                  <a:pt x="8103" y="10716"/>
                  <a:pt x="8161" y="10716"/>
                </a:cubicBezTo>
              </a:path>
              <a:path w="2010" h="770">
                <a:moveTo>
                  <a:pt x="7962" y="10889"/>
                </a:moveTo>
                <a:cubicBezTo>
                  <a:pt x="8065" y="10889"/>
                  <a:pt x="8162" y="10899"/>
                  <a:pt x="8260" y="10864"/>
                </a:cubicBezTo>
                <a:cubicBezTo>
                  <a:pt x="8277" y="10856"/>
                  <a:pt x="8293" y="10848"/>
                  <a:pt x="8310" y="10840"/>
                </a:cubicBezTo>
              </a:path>
              <a:path w="2010" h="770">
                <a:moveTo>
                  <a:pt x="8582" y="10517"/>
                </a:moveTo>
                <a:cubicBezTo>
                  <a:pt x="8709" y="10454"/>
                  <a:pt x="8690" y="10443"/>
                  <a:pt x="8855" y="10443"/>
                </a:cubicBezTo>
                <a:cubicBezTo>
                  <a:pt x="8895" y="10560"/>
                  <a:pt x="8861" y="10597"/>
                  <a:pt x="8781" y="10691"/>
                </a:cubicBezTo>
                <a:cubicBezTo>
                  <a:pt x="8753" y="10724"/>
                  <a:pt x="8642" y="10769"/>
                  <a:pt x="8632" y="10815"/>
                </a:cubicBezTo>
                <a:cubicBezTo>
                  <a:pt x="8617" y="10887"/>
                  <a:pt x="8675" y="10970"/>
                  <a:pt x="8731" y="11013"/>
                </a:cubicBezTo>
                <a:cubicBezTo>
                  <a:pt x="8816" y="11078"/>
                  <a:pt x="8899" y="11107"/>
                  <a:pt x="9004" y="11112"/>
                </a:cubicBezTo>
                <a:cubicBezTo>
                  <a:pt x="9021" y="11112"/>
                  <a:pt x="9037" y="11112"/>
                  <a:pt x="9054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Ink 12"/>
          <p:cNvSpPr/>
          <p:nvPr/>
        </p:nvSpPr>
        <p:spPr>
          <a:xfrm>
            <a:off x="901800" y="4133880"/>
            <a:ext cx="812880" cy="447480"/>
          </a:xfrm>
          <a:custGeom>
            <a:avLst/>
            <a:gdLst/>
            <a:ahLst/>
            <a:rect l="l" t="t" r="r" b="b"/>
            <a:pathLst>
              <a:path w="2258" h="1241">
                <a:moveTo>
                  <a:pt x="2803" y="11485"/>
                </a:moveTo>
                <a:cubicBezTo>
                  <a:pt x="2746" y="11542"/>
                  <a:pt x="2666" y="11612"/>
                  <a:pt x="2629" y="11683"/>
                </a:cubicBezTo>
                <a:cubicBezTo>
                  <a:pt x="2578" y="11781"/>
                  <a:pt x="2520" y="11893"/>
                  <a:pt x="2505" y="12005"/>
                </a:cubicBezTo>
                <a:cubicBezTo>
                  <a:pt x="2490" y="12114"/>
                  <a:pt x="2521" y="12202"/>
                  <a:pt x="2555" y="12303"/>
                </a:cubicBezTo>
                <a:cubicBezTo>
                  <a:pt x="2588" y="12400"/>
                  <a:pt x="2633" y="12456"/>
                  <a:pt x="2704" y="12526"/>
                </a:cubicBezTo>
              </a:path>
              <a:path w="2258" h="1241">
                <a:moveTo>
                  <a:pt x="3125" y="11857"/>
                </a:moveTo>
                <a:cubicBezTo>
                  <a:pt x="3061" y="11921"/>
                  <a:pt x="2997" y="11976"/>
                  <a:pt x="2927" y="12030"/>
                </a:cubicBezTo>
                <a:cubicBezTo>
                  <a:pt x="2919" y="12038"/>
                  <a:pt x="2910" y="12047"/>
                  <a:pt x="2902" y="12055"/>
                </a:cubicBezTo>
                <a:cubicBezTo>
                  <a:pt x="2956" y="12088"/>
                  <a:pt x="3015" y="12085"/>
                  <a:pt x="3076" y="12105"/>
                </a:cubicBezTo>
                <a:cubicBezTo>
                  <a:pt x="3138" y="12125"/>
                  <a:pt x="3182" y="12129"/>
                  <a:pt x="3249" y="12129"/>
                </a:cubicBezTo>
              </a:path>
              <a:path w="2258" h="1241">
                <a:moveTo>
                  <a:pt x="3324" y="11683"/>
                </a:moveTo>
                <a:cubicBezTo>
                  <a:pt x="3306" y="11823"/>
                  <a:pt x="3278" y="11965"/>
                  <a:pt x="3274" y="12105"/>
                </a:cubicBezTo>
                <a:cubicBezTo>
                  <a:pt x="3269" y="12253"/>
                  <a:pt x="3247" y="12438"/>
                  <a:pt x="3299" y="12576"/>
                </a:cubicBezTo>
              </a:path>
              <a:path w="2258" h="1241">
                <a:moveTo>
                  <a:pt x="3621" y="12427"/>
                </a:moveTo>
                <a:cubicBezTo>
                  <a:pt x="3616" y="12521"/>
                  <a:pt x="3576" y="12647"/>
                  <a:pt x="3621" y="12725"/>
                </a:cubicBezTo>
              </a:path>
              <a:path w="2258" h="1241">
                <a:moveTo>
                  <a:pt x="4043" y="11807"/>
                </a:moveTo>
                <a:cubicBezTo>
                  <a:pt x="3995" y="11855"/>
                  <a:pt x="3952" y="11897"/>
                  <a:pt x="3919" y="11956"/>
                </a:cubicBezTo>
                <a:cubicBezTo>
                  <a:pt x="3867" y="12048"/>
                  <a:pt x="3870" y="12127"/>
                  <a:pt x="3870" y="12229"/>
                </a:cubicBezTo>
                <a:cubicBezTo>
                  <a:pt x="3870" y="12312"/>
                  <a:pt x="3907" y="12418"/>
                  <a:pt x="3969" y="12477"/>
                </a:cubicBezTo>
                <a:cubicBezTo>
                  <a:pt x="4039" y="12544"/>
                  <a:pt x="4140" y="12601"/>
                  <a:pt x="4242" y="12576"/>
                </a:cubicBezTo>
                <a:cubicBezTo>
                  <a:pt x="4310" y="12560"/>
                  <a:pt x="4379" y="12470"/>
                  <a:pt x="4390" y="12402"/>
                </a:cubicBezTo>
                <a:cubicBezTo>
                  <a:pt x="4407" y="12300"/>
                  <a:pt x="4395" y="12178"/>
                  <a:pt x="4366" y="12080"/>
                </a:cubicBezTo>
                <a:cubicBezTo>
                  <a:pt x="4337" y="11981"/>
                  <a:pt x="4264" y="11928"/>
                  <a:pt x="4192" y="11857"/>
                </a:cubicBezTo>
                <a:cubicBezTo>
                  <a:pt x="4138" y="11803"/>
                  <a:pt x="4103" y="11796"/>
                  <a:pt x="4043" y="11832"/>
                </a:cubicBezTo>
              </a:path>
              <a:path w="2258" h="1241">
                <a:moveTo>
                  <a:pt x="4366" y="11559"/>
                </a:moveTo>
                <a:cubicBezTo>
                  <a:pt x="4493" y="11692"/>
                  <a:pt x="4644" y="11828"/>
                  <a:pt x="4713" y="12005"/>
                </a:cubicBezTo>
                <a:cubicBezTo>
                  <a:pt x="4757" y="12118"/>
                  <a:pt x="4780" y="12238"/>
                  <a:pt x="4738" y="12353"/>
                </a:cubicBezTo>
                <a:cubicBezTo>
                  <a:pt x="4704" y="12446"/>
                  <a:pt x="4664" y="12451"/>
                  <a:pt x="4589" y="12502"/>
                </a:cubicBezTo>
                <a:cubicBezTo>
                  <a:pt x="4577" y="12510"/>
                  <a:pt x="4435" y="12549"/>
                  <a:pt x="4514" y="12576"/>
                </a:cubicBezTo>
                <a:cubicBezTo>
                  <a:pt x="4556" y="12576"/>
                  <a:pt x="4564" y="12576"/>
                  <a:pt x="4589" y="125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Ink 13"/>
          <p:cNvSpPr/>
          <p:nvPr/>
        </p:nvSpPr>
        <p:spPr>
          <a:xfrm>
            <a:off x="2009880" y="4295880"/>
            <a:ext cx="142920" cy="1602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5730" y="11931"/>
                </a:moveTo>
                <a:cubicBezTo>
                  <a:pt x="5730" y="12080"/>
                  <a:pt x="5730" y="12229"/>
                  <a:pt x="5730" y="12378"/>
                </a:cubicBezTo>
                <a:cubicBezTo>
                  <a:pt x="5679" y="12327"/>
                  <a:pt x="5683" y="12294"/>
                  <a:pt x="5655" y="12229"/>
                </a:cubicBezTo>
                <a:cubicBezTo>
                  <a:pt x="5633" y="12178"/>
                  <a:pt x="5606" y="12129"/>
                  <a:pt x="5581" y="12080"/>
                </a:cubicBezTo>
                <a:cubicBezTo>
                  <a:pt x="5692" y="12089"/>
                  <a:pt x="5796" y="12121"/>
                  <a:pt x="5904" y="12154"/>
                </a:cubicBezTo>
                <a:cubicBezTo>
                  <a:pt x="5929" y="12162"/>
                  <a:pt x="5953" y="12171"/>
                  <a:pt x="5978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Ink 14"/>
          <p:cNvSpPr/>
          <p:nvPr/>
        </p:nvSpPr>
        <p:spPr>
          <a:xfrm>
            <a:off x="2401920" y="4187880"/>
            <a:ext cx="876240" cy="393480"/>
          </a:xfrm>
          <a:custGeom>
            <a:avLst/>
            <a:gdLst/>
            <a:ahLst/>
            <a:rect l="l" t="t" r="r" b="b"/>
            <a:pathLst>
              <a:path w="2432" h="1093">
                <a:moveTo>
                  <a:pt x="6846" y="11633"/>
                </a:moveTo>
                <a:cubicBezTo>
                  <a:pt x="6752" y="11681"/>
                  <a:pt x="6734" y="11705"/>
                  <a:pt x="6697" y="11807"/>
                </a:cubicBezTo>
                <a:cubicBezTo>
                  <a:pt x="6665" y="11895"/>
                  <a:pt x="6655" y="12012"/>
                  <a:pt x="6672" y="12105"/>
                </a:cubicBezTo>
                <a:cubicBezTo>
                  <a:pt x="6688" y="12196"/>
                  <a:pt x="6756" y="12294"/>
                  <a:pt x="6796" y="12378"/>
                </a:cubicBezTo>
                <a:cubicBezTo>
                  <a:pt x="6804" y="12394"/>
                  <a:pt x="6813" y="12411"/>
                  <a:pt x="6821" y="12427"/>
                </a:cubicBezTo>
              </a:path>
              <a:path w="2432" h="1093">
                <a:moveTo>
                  <a:pt x="7069" y="11857"/>
                </a:moveTo>
                <a:cubicBezTo>
                  <a:pt x="7160" y="11799"/>
                  <a:pt x="7192" y="11762"/>
                  <a:pt x="7293" y="11807"/>
                </a:cubicBezTo>
                <a:cubicBezTo>
                  <a:pt x="7378" y="11845"/>
                  <a:pt x="7424" y="11914"/>
                  <a:pt x="7441" y="12005"/>
                </a:cubicBezTo>
                <a:cubicBezTo>
                  <a:pt x="7457" y="12090"/>
                  <a:pt x="7435" y="12181"/>
                  <a:pt x="7392" y="12254"/>
                </a:cubicBezTo>
                <a:cubicBezTo>
                  <a:pt x="7364" y="12302"/>
                  <a:pt x="7289" y="12407"/>
                  <a:pt x="7218" y="12402"/>
                </a:cubicBezTo>
                <a:cubicBezTo>
                  <a:pt x="7188" y="12373"/>
                  <a:pt x="7174" y="12362"/>
                  <a:pt x="7144" y="12353"/>
                </a:cubicBezTo>
                <a:cubicBezTo>
                  <a:pt x="7198" y="12335"/>
                  <a:pt x="7277" y="12357"/>
                  <a:pt x="7342" y="12378"/>
                </a:cubicBezTo>
                <a:cubicBezTo>
                  <a:pt x="7405" y="12408"/>
                  <a:pt x="7436" y="12416"/>
                  <a:pt x="7491" y="12402"/>
                </a:cubicBezTo>
              </a:path>
              <a:path w="2432" h="1093">
                <a:moveTo>
                  <a:pt x="7813" y="12328"/>
                </a:moveTo>
                <a:cubicBezTo>
                  <a:pt x="7824" y="12399"/>
                  <a:pt x="7830" y="12556"/>
                  <a:pt x="7863" y="12626"/>
                </a:cubicBezTo>
                <a:cubicBezTo>
                  <a:pt x="7885" y="12648"/>
                  <a:pt x="7894" y="12659"/>
                  <a:pt x="7888" y="12626"/>
                </a:cubicBezTo>
              </a:path>
              <a:path w="2432" h="1093">
                <a:moveTo>
                  <a:pt x="8235" y="11832"/>
                </a:moveTo>
                <a:cubicBezTo>
                  <a:pt x="8169" y="11905"/>
                  <a:pt x="8124" y="11958"/>
                  <a:pt x="8111" y="12055"/>
                </a:cubicBezTo>
                <a:cubicBezTo>
                  <a:pt x="8099" y="12149"/>
                  <a:pt x="8151" y="12237"/>
                  <a:pt x="8210" y="12303"/>
                </a:cubicBezTo>
                <a:cubicBezTo>
                  <a:pt x="8261" y="12360"/>
                  <a:pt x="8330" y="12434"/>
                  <a:pt x="8409" y="12452"/>
                </a:cubicBezTo>
                <a:cubicBezTo>
                  <a:pt x="8496" y="12472"/>
                  <a:pt x="8547" y="12391"/>
                  <a:pt x="8582" y="12328"/>
                </a:cubicBezTo>
                <a:cubicBezTo>
                  <a:pt x="8631" y="12238"/>
                  <a:pt x="8650" y="12132"/>
                  <a:pt x="8632" y="12030"/>
                </a:cubicBezTo>
                <a:cubicBezTo>
                  <a:pt x="8610" y="11910"/>
                  <a:pt x="8534" y="11780"/>
                  <a:pt x="8434" y="11708"/>
                </a:cubicBezTo>
                <a:cubicBezTo>
                  <a:pt x="8325" y="11629"/>
                  <a:pt x="8317" y="11697"/>
                  <a:pt x="8359" y="11782"/>
                </a:cubicBezTo>
              </a:path>
              <a:path w="2432" h="1093">
                <a:moveTo>
                  <a:pt x="8905" y="11683"/>
                </a:moveTo>
                <a:cubicBezTo>
                  <a:pt x="9051" y="12008"/>
                  <a:pt x="9141" y="12157"/>
                  <a:pt x="9079" y="12502"/>
                </a:cubicBezTo>
                <a:cubicBezTo>
                  <a:pt x="9057" y="12624"/>
                  <a:pt x="9019" y="12651"/>
                  <a:pt x="8930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Ink 15"/>
          <p:cNvSpPr/>
          <p:nvPr/>
        </p:nvSpPr>
        <p:spPr>
          <a:xfrm>
            <a:off x="392040" y="4510080"/>
            <a:ext cx="3100320" cy="276120"/>
          </a:xfrm>
          <a:custGeom>
            <a:avLst/>
            <a:gdLst/>
            <a:ahLst/>
            <a:rect l="l" t="t" r="r" b="b"/>
            <a:pathLst>
              <a:path w="8609" h="770">
                <a:moveTo>
                  <a:pt x="1091" y="12750"/>
                </a:moveTo>
                <a:cubicBezTo>
                  <a:pt x="1143" y="12707"/>
                  <a:pt x="1156" y="12660"/>
                  <a:pt x="1215" y="12626"/>
                </a:cubicBezTo>
                <a:cubicBezTo>
                  <a:pt x="1390" y="12524"/>
                  <a:pt x="1568" y="12504"/>
                  <a:pt x="1761" y="12551"/>
                </a:cubicBezTo>
                <a:cubicBezTo>
                  <a:pt x="1880" y="12580"/>
                  <a:pt x="1955" y="12645"/>
                  <a:pt x="2059" y="12700"/>
                </a:cubicBezTo>
                <a:cubicBezTo>
                  <a:pt x="2199" y="12774"/>
                  <a:pt x="2338" y="12854"/>
                  <a:pt x="2480" y="12923"/>
                </a:cubicBezTo>
                <a:cubicBezTo>
                  <a:pt x="2692" y="13026"/>
                  <a:pt x="2911" y="13090"/>
                  <a:pt x="3150" y="13097"/>
                </a:cubicBezTo>
                <a:cubicBezTo>
                  <a:pt x="3348" y="13103"/>
                  <a:pt x="3549" y="12944"/>
                  <a:pt x="3721" y="12874"/>
                </a:cubicBezTo>
                <a:cubicBezTo>
                  <a:pt x="3831" y="12829"/>
                  <a:pt x="3924" y="12819"/>
                  <a:pt x="4043" y="12824"/>
                </a:cubicBezTo>
                <a:cubicBezTo>
                  <a:pt x="4240" y="12832"/>
                  <a:pt x="4446" y="12874"/>
                  <a:pt x="4638" y="12923"/>
                </a:cubicBezTo>
                <a:cubicBezTo>
                  <a:pt x="4904" y="12991"/>
                  <a:pt x="5143" y="13140"/>
                  <a:pt x="5407" y="13196"/>
                </a:cubicBezTo>
                <a:cubicBezTo>
                  <a:pt x="5513" y="13218"/>
                  <a:pt x="5556" y="13214"/>
                  <a:pt x="5655" y="13196"/>
                </a:cubicBezTo>
                <a:cubicBezTo>
                  <a:pt x="5750" y="13179"/>
                  <a:pt x="5832" y="13151"/>
                  <a:pt x="5928" y="13122"/>
                </a:cubicBezTo>
                <a:cubicBezTo>
                  <a:pt x="6052" y="13085"/>
                  <a:pt x="6173" y="13065"/>
                  <a:pt x="6300" y="13047"/>
                </a:cubicBezTo>
                <a:cubicBezTo>
                  <a:pt x="6443" y="13027"/>
                  <a:pt x="6577" y="13006"/>
                  <a:pt x="6722" y="12998"/>
                </a:cubicBezTo>
                <a:cubicBezTo>
                  <a:pt x="6934" y="12987"/>
                  <a:pt x="7138" y="13012"/>
                  <a:pt x="7342" y="13072"/>
                </a:cubicBezTo>
                <a:cubicBezTo>
                  <a:pt x="7484" y="13113"/>
                  <a:pt x="7622" y="13155"/>
                  <a:pt x="7764" y="13196"/>
                </a:cubicBezTo>
                <a:cubicBezTo>
                  <a:pt x="8019" y="13270"/>
                  <a:pt x="8218" y="13324"/>
                  <a:pt x="8483" y="13271"/>
                </a:cubicBezTo>
                <a:cubicBezTo>
                  <a:pt x="8613" y="13245"/>
                  <a:pt x="8690" y="13169"/>
                  <a:pt x="8806" y="13122"/>
                </a:cubicBezTo>
                <a:cubicBezTo>
                  <a:pt x="8917" y="13078"/>
                  <a:pt x="9035" y="13047"/>
                  <a:pt x="9153" y="13047"/>
                </a:cubicBezTo>
                <a:cubicBezTo>
                  <a:pt x="9309" y="13047"/>
                  <a:pt x="9407" y="13134"/>
                  <a:pt x="9550" y="13146"/>
                </a:cubicBezTo>
                <a:cubicBezTo>
                  <a:pt x="9775" y="13165"/>
                  <a:pt x="9584" y="13144"/>
                  <a:pt x="9674" y="130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Ink 16"/>
          <p:cNvSpPr/>
          <p:nvPr/>
        </p:nvSpPr>
        <p:spPr>
          <a:xfrm>
            <a:off x="1054080" y="4714920"/>
            <a:ext cx="2009880" cy="652320"/>
          </a:xfrm>
          <a:custGeom>
            <a:avLst/>
            <a:gdLst/>
            <a:ahLst/>
            <a:rect l="l" t="t" r="r" b="b"/>
            <a:pathLst>
              <a:path w="5582" h="1812">
                <a:moveTo>
                  <a:pt x="2927" y="13419"/>
                </a:moveTo>
                <a:cubicBezTo>
                  <a:pt x="2960" y="13584"/>
                  <a:pt x="3017" y="13622"/>
                  <a:pt x="3076" y="13767"/>
                </a:cubicBezTo>
                <a:cubicBezTo>
                  <a:pt x="3121" y="13878"/>
                  <a:pt x="3173" y="13996"/>
                  <a:pt x="3249" y="14089"/>
                </a:cubicBezTo>
                <a:cubicBezTo>
                  <a:pt x="3257" y="14097"/>
                  <a:pt x="3266" y="14106"/>
                  <a:pt x="3274" y="14114"/>
                </a:cubicBezTo>
              </a:path>
              <a:path w="5582" h="1812">
                <a:moveTo>
                  <a:pt x="3349" y="13370"/>
                </a:moveTo>
                <a:cubicBezTo>
                  <a:pt x="3309" y="13536"/>
                  <a:pt x="3280" y="13697"/>
                  <a:pt x="3249" y="13866"/>
                </a:cubicBezTo>
                <a:cubicBezTo>
                  <a:pt x="3209" y="14089"/>
                  <a:pt x="3186" y="14308"/>
                  <a:pt x="3175" y="14536"/>
                </a:cubicBezTo>
                <a:cubicBezTo>
                  <a:pt x="3170" y="14636"/>
                  <a:pt x="3148" y="14792"/>
                  <a:pt x="3200" y="14883"/>
                </a:cubicBezTo>
                <a:cubicBezTo>
                  <a:pt x="3208" y="14891"/>
                  <a:pt x="3217" y="14900"/>
                  <a:pt x="3225" y="14908"/>
                </a:cubicBezTo>
              </a:path>
              <a:path w="5582" h="1812">
                <a:moveTo>
                  <a:pt x="3597" y="13519"/>
                </a:moveTo>
                <a:cubicBezTo>
                  <a:pt x="3711" y="13445"/>
                  <a:pt x="3740" y="13419"/>
                  <a:pt x="3870" y="13469"/>
                </a:cubicBezTo>
                <a:cubicBezTo>
                  <a:pt x="3928" y="13491"/>
                  <a:pt x="3955" y="13494"/>
                  <a:pt x="4018" y="13494"/>
                </a:cubicBezTo>
              </a:path>
              <a:path w="5582" h="1812">
                <a:moveTo>
                  <a:pt x="3721" y="13717"/>
                </a:moveTo>
                <a:cubicBezTo>
                  <a:pt x="3811" y="13770"/>
                  <a:pt x="3933" y="13845"/>
                  <a:pt x="4043" y="13841"/>
                </a:cubicBezTo>
                <a:cubicBezTo>
                  <a:pt x="4060" y="13833"/>
                  <a:pt x="4076" y="13824"/>
                  <a:pt x="4093" y="13816"/>
                </a:cubicBezTo>
              </a:path>
              <a:path w="5582" h="1812">
                <a:moveTo>
                  <a:pt x="4490" y="13370"/>
                </a:moveTo>
                <a:cubicBezTo>
                  <a:pt x="4448" y="13453"/>
                  <a:pt x="4407" y="13535"/>
                  <a:pt x="4366" y="13618"/>
                </a:cubicBezTo>
                <a:cubicBezTo>
                  <a:pt x="4318" y="13713"/>
                  <a:pt x="4339" y="13815"/>
                  <a:pt x="4366" y="13915"/>
                </a:cubicBezTo>
                <a:cubicBezTo>
                  <a:pt x="4385" y="13986"/>
                  <a:pt x="4467" y="14107"/>
                  <a:pt x="4539" y="14139"/>
                </a:cubicBezTo>
                <a:cubicBezTo>
                  <a:pt x="4592" y="14163"/>
                  <a:pt x="4686" y="14177"/>
                  <a:pt x="4738" y="14139"/>
                </a:cubicBezTo>
                <a:cubicBezTo>
                  <a:pt x="4824" y="14077"/>
                  <a:pt x="4817" y="14003"/>
                  <a:pt x="4837" y="13915"/>
                </a:cubicBezTo>
                <a:cubicBezTo>
                  <a:pt x="4866" y="13793"/>
                  <a:pt x="4852" y="13738"/>
                  <a:pt x="4812" y="13618"/>
                </a:cubicBezTo>
                <a:cubicBezTo>
                  <a:pt x="4782" y="13529"/>
                  <a:pt x="4716" y="13451"/>
                  <a:pt x="4638" y="13395"/>
                </a:cubicBezTo>
                <a:cubicBezTo>
                  <a:pt x="4581" y="13354"/>
                  <a:pt x="4521" y="13325"/>
                  <a:pt x="4465" y="13370"/>
                </a:cubicBezTo>
                <a:cubicBezTo>
                  <a:pt x="4457" y="13378"/>
                  <a:pt x="4448" y="13387"/>
                  <a:pt x="4440" y="13395"/>
                </a:cubicBezTo>
              </a:path>
              <a:path w="5582" h="1812">
                <a:moveTo>
                  <a:pt x="4887" y="13146"/>
                </a:moveTo>
                <a:cubicBezTo>
                  <a:pt x="4980" y="13100"/>
                  <a:pt x="5007" y="13069"/>
                  <a:pt x="5085" y="13146"/>
                </a:cubicBezTo>
                <a:cubicBezTo>
                  <a:pt x="5138" y="13198"/>
                  <a:pt x="5103" y="13229"/>
                  <a:pt x="5060" y="13271"/>
                </a:cubicBezTo>
                <a:cubicBezTo>
                  <a:pt x="5013" y="13317"/>
                  <a:pt x="4965" y="13342"/>
                  <a:pt x="4986" y="13419"/>
                </a:cubicBezTo>
                <a:cubicBezTo>
                  <a:pt x="5004" y="13486"/>
                  <a:pt x="5078" y="13515"/>
                  <a:pt x="5135" y="13543"/>
                </a:cubicBezTo>
                <a:cubicBezTo>
                  <a:pt x="5151" y="13551"/>
                  <a:pt x="5168" y="13560"/>
                  <a:pt x="5184" y="13568"/>
                </a:cubicBezTo>
              </a:path>
              <a:path w="5582" h="1812">
                <a:moveTo>
                  <a:pt x="5308" y="13692"/>
                </a:moveTo>
                <a:cubicBezTo>
                  <a:pt x="5441" y="13712"/>
                  <a:pt x="5452" y="13732"/>
                  <a:pt x="5556" y="13692"/>
                </a:cubicBezTo>
              </a:path>
              <a:path w="5582" h="1812">
                <a:moveTo>
                  <a:pt x="5928" y="13345"/>
                </a:moveTo>
                <a:cubicBezTo>
                  <a:pt x="5910" y="13466"/>
                  <a:pt x="5850" y="13513"/>
                  <a:pt x="5804" y="13618"/>
                </a:cubicBezTo>
                <a:cubicBezTo>
                  <a:pt x="5769" y="13698"/>
                  <a:pt x="5778" y="13786"/>
                  <a:pt x="5804" y="13866"/>
                </a:cubicBezTo>
                <a:cubicBezTo>
                  <a:pt x="5843" y="13989"/>
                  <a:pt x="5912" y="14034"/>
                  <a:pt x="6028" y="14039"/>
                </a:cubicBezTo>
                <a:cubicBezTo>
                  <a:pt x="6081" y="14041"/>
                  <a:pt x="6158" y="13995"/>
                  <a:pt x="6176" y="13940"/>
                </a:cubicBezTo>
                <a:cubicBezTo>
                  <a:pt x="6193" y="13889"/>
                  <a:pt x="6168" y="13836"/>
                  <a:pt x="6152" y="13791"/>
                </a:cubicBezTo>
                <a:cubicBezTo>
                  <a:pt x="6116" y="13798"/>
                  <a:pt x="6041" y="13819"/>
                  <a:pt x="6028" y="13866"/>
                </a:cubicBezTo>
                <a:cubicBezTo>
                  <a:pt x="6013" y="13920"/>
                  <a:pt x="6035" y="13968"/>
                  <a:pt x="6052" y="14015"/>
                </a:cubicBezTo>
              </a:path>
              <a:path w="5582" h="1812">
                <a:moveTo>
                  <a:pt x="6499" y="13395"/>
                </a:moveTo>
                <a:cubicBezTo>
                  <a:pt x="6418" y="13484"/>
                  <a:pt x="6359" y="13545"/>
                  <a:pt x="6350" y="13667"/>
                </a:cubicBezTo>
                <a:cubicBezTo>
                  <a:pt x="6341" y="13783"/>
                  <a:pt x="6365" y="13880"/>
                  <a:pt x="6400" y="13990"/>
                </a:cubicBezTo>
                <a:cubicBezTo>
                  <a:pt x="6423" y="14064"/>
                  <a:pt x="6446" y="14086"/>
                  <a:pt x="6499" y="14139"/>
                </a:cubicBezTo>
              </a:path>
              <a:path w="5582" h="1812">
                <a:moveTo>
                  <a:pt x="6772" y="13593"/>
                </a:moveTo>
                <a:cubicBezTo>
                  <a:pt x="6677" y="13711"/>
                  <a:pt x="6640" y="13742"/>
                  <a:pt x="6697" y="13891"/>
                </a:cubicBezTo>
                <a:cubicBezTo>
                  <a:pt x="6728" y="13971"/>
                  <a:pt x="6773" y="14025"/>
                  <a:pt x="6846" y="14064"/>
                </a:cubicBezTo>
                <a:cubicBezTo>
                  <a:pt x="6904" y="14095"/>
                  <a:pt x="6982" y="14055"/>
                  <a:pt x="7020" y="13990"/>
                </a:cubicBezTo>
                <a:cubicBezTo>
                  <a:pt x="7077" y="13894"/>
                  <a:pt x="7075" y="13794"/>
                  <a:pt x="7045" y="13692"/>
                </a:cubicBezTo>
                <a:cubicBezTo>
                  <a:pt x="7021" y="13612"/>
                  <a:pt x="6959" y="13498"/>
                  <a:pt x="6896" y="13444"/>
                </a:cubicBezTo>
                <a:cubicBezTo>
                  <a:pt x="6849" y="13403"/>
                  <a:pt x="6835" y="13427"/>
                  <a:pt x="6821" y="13370"/>
                </a:cubicBezTo>
              </a:path>
              <a:path w="5582" h="1812">
                <a:moveTo>
                  <a:pt x="7119" y="13196"/>
                </a:moveTo>
                <a:cubicBezTo>
                  <a:pt x="7198" y="13315"/>
                  <a:pt x="7259" y="13427"/>
                  <a:pt x="7293" y="13568"/>
                </a:cubicBezTo>
                <a:cubicBezTo>
                  <a:pt x="7322" y="13688"/>
                  <a:pt x="7338" y="13825"/>
                  <a:pt x="7293" y="13940"/>
                </a:cubicBezTo>
                <a:cubicBezTo>
                  <a:pt x="7287" y="13955"/>
                  <a:pt x="7217" y="14125"/>
                  <a:pt x="7169" y="14064"/>
                </a:cubicBezTo>
                <a:cubicBezTo>
                  <a:pt x="7169" y="14048"/>
                  <a:pt x="7169" y="14031"/>
                  <a:pt x="7169" y="14015"/>
                </a:cubicBezTo>
              </a:path>
              <a:path w="5582" h="1812">
                <a:moveTo>
                  <a:pt x="7640" y="13469"/>
                </a:moveTo>
                <a:cubicBezTo>
                  <a:pt x="7640" y="13643"/>
                  <a:pt x="7686" y="13767"/>
                  <a:pt x="7714" y="13940"/>
                </a:cubicBezTo>
                <a:cubicBezTo>
                  <a:pt x="7714" y="14006"/>
                  <a:pt x="7714" y="14023"/>
                  <a:pt x="7714" y="14064"/>
                </a:cubicBezTo>
              </a:path>
              <a:path w="5582" h="1812">
                <a:moveTo>
                  <a:pt x="7565" y="13717"/>
                </a:moveTo>
                <a:cubicBezTo>
                  <a:pt x="7664" y="13717"/>
                  <a:pt x="7743" y="13731"/>
                  <a:pt x="7838" y="13742"/>
                </a:cubicBezTo>
              </a:path>
              <a:path w="5582" h="1812">
                <a:moveTo>
                  <a:pt x="8210" y="13494"/>
                </a:moveTo>
                <a:cubicBezTo>
                  <a:pt x="8144" y="13398"/>
                  <a:pt x="8143" y="13419"/>
                  <a:pt x="8062" y="13370"/>
                </a:cubicBezTo>
                <a:cubicBezTo>
                  <a:pt x="8001" y="13470"/>
                  <a:pt x="8059" y="13533"/>
                  <a:pt x="8111" y="13643"/>
                </a:cubicBezTo>
                <a:cubicBezTo>
                  <a:pt x="8168" y="13764"/>
                  <a:pt x="8229" y="13856"/>
                  <a:pt x="8235" y="13990"/>
                </a:cubicBezTo>
                <a:cubicBezTo>
                  <a:pt x="8235" y="14039"/>
                  <a:pt x="8235" y="14056"/>
                  <a:pt x="8235" y="14089"/>
                </a:cubicBezTo>
                <a:cubicBezTo>
                  <a:pt x="8181" y="14081"/>
                  <a:pt x="8144" y="14066"/>
                  <a:pt x="8111" y="14015"/>
                </a:cubicBezTo>
                <a:cubicBezTo>
                  <a:pt x="8078" y="13964"/>
                  <a:pt x="8039" y="13879"/>
                  <a:pt x="8062" y="13816"/>
                </a:cubicBezTo>
                <a:cubicBezTo>
                  <a:pt x="8091" y="13737"/>
                  <a:pt x="8142" y="13735"/>
                  <a:pt x="8210" y="13717"/>
                </a:cubicBezTo>
                <a:cubicBezTo>
                  <a:pt x="8293" y="13695"/>
                  <a:pt x="8412" y="13683"/>
                  <a:pt x="8483" y="13643"/>
                </a:cubicBezTo>
                <a:cubicBezTo>
                  <a:pt x="8506" y="13620"/>
                  <a:pt x="8514" y="13616"/>
                  <a:pt x="8508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Ink 17"/>
          <p:cNvSpPr/>
          <p:nvPr/>
        </p:nvSpPr>
        <p:spPr>
          <a:xfrm>
            <a:off x="1285920" y="5313240"/>
            <a:ext cx="571320" cy="509760"/>
          </a:xfrm>
          <a:custGeom>
            <a:avLst/>
            <a:gdLst/>
            <a:ahLst/>
            <a:rect l="l" t="t" r="r" b="b"/>
            <a:pathLst>
              <a:path w="1588" h="1415">
                <a:moveTo>
                  <a:pt x="3572" y="14784"/>
                </a:moveTo>
                <a:cubicBezTo>
                  <a:pt x="3623" y="14917"/>
                  <a:pt x="3661" y="15052"/>
                  <a:pt x="3721" y="15180"/>
                </a:cubicBezTo>
                <a:cubicBezTo>
                  <a:pt x="3785" y="15316"/>
                  <a:pt x="3846" y="15447"/>
                  <a:pt x="3919" y="15577"/>
                </a:cubicBezTo>
                <a:cubicBezTo>
                  <a:pt x="3927" y="15594"/>
                  <a:pt x="3936" y="15610"/>
                  <a:pt x="3944" y="15627"/>
                </a:cubicBezTo>
              </a:path>
              <a:path w="1588" h="1415">
                <a:moveTo>
                  <a:pt x="4018" y="14858"/>
                </a:moveTo>
                <a:cubicBezTo>
                  <a:pt x="4008" y="14984"/>
                  <a:pt x="3970" y="15105"/>
                  <a:pt x="3944" y="15230"/>
                </a:cubicBezTo>
                <a:cubicBezTo>
                  <a:pt x="3906" y="15415"/>
                  <a:pt x="3859" y="15613"/>
                  <a:pt x="3845" y="15801"/>
                </a:cubicBezTo>
                <a:cubicBezTo>
                  <a:pt x="3836" y="15923"/>
                  <a:pt x="3845" y="16050"/>
                  <a:pt x="3845" y="16173"/>
                </a:cubicBezTo>
              </a:path>
              <a:path w="1588" h="1415">
                <a:moveTo>
                  <a:pt x="4242" y="15106"/>
                </a:moveTo>
                <a:cubicBezTo>
                  <a:pt x="4335" y="15113"/>
                  <a:pt x="4439" y="15110"/>
                  <a:pt x="4514" y="15156"/>
                </a:cubicBezTo>
              </a:path>
              <a:path w="1588" h="1415">
                <a:moveTo>
                  <a:pt x="4291" y="15354"/>
                </a:moveTo>
                <a:cubicBezTo>
                  <a:pt x="4351" y="15402"/>
                  <a:pt x="4411" y="15421"/>
                  <a:pt x="4490" y="15404"/>
                </a:cubicBezTo>
                <a:cubicBezTo>
                  <a:pt x="4515" y="15396"/>
                  <a:pt x="4539" y="15387"/>
                  <a:pt x="4564" y="15379"/>
                </a:cubicBezTo>
              </a:path>
              <a:path w="1588" h="1415">
                <a:moveTo>
                  <a:pt x="4986" y="14883"/>
                </a:moveTo>
                <a:cubicBezTo>
                  <a:pt x="4837" y="14753"/>
                  <a:pt x="4900" y="14723"/>
                  <a:pt x="4812" y="14808"/>
                </a:cubicBezTo>
                <a:cubicBezTo>
                  <a:pt x="4824" y="14917"/>
                  <a:pt x="4874" y="14983"/>
                  <a:pt x="4911" y="15081"/>
                </a:cubicBezTo>
                <a:cubicBezTo>
                  <a:pt x="4954" y="15194"/>
                  <a:pt x="4984" y="15317"/>
                  <a:pt x="5011" y="15429"/>
                </a:cubicBezTo>
                <a:cubicBezTo>
                  <a:pt x="5034" y="15522"/>
                  <a:pt x="5027" y="15520"/>
                  <a:pt x="4986" y="15602"/>
                </a:cubicBezTo>
                <a:cubicBezTo>
                  <a:pt x="4938" y="15575"/>
                  <a:pt x="4858" y="15512"/>
                  <a:pt x="4862" y="15453"/>
                </a:cubicBezTo>
                <a:cubicBezTo>
                  <a:pt x="4866" y="15395"/>
                  <a:pt x="4926" y="15281"/>
                  <a:pt x="4961" y="15230"/>
                </a:cubicBezTo>
                <a:cubicBezTo>
                  <a:pt x="5001" y="15173"/>
                  <a:pt x="5042" y="15111"/>
                  <a:pt x="5085" y="15056"/>
                </a:cubicBezTo>
                <a:cubicBezTo>
                  <a:pt x="5111" y="15023"/>
                  <a:pt x="5133" y="14990"/>
                  <a:pt x="5159" y="149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Ink 18"/>
          <p:cNvSpPr/>
          <p:nvPr/>
        </p:nvSpPr>
        <p:spPr>
          <a:xfrm>
            <a:off x="2330280" y="5268960"/>
            <a:ext cx="71640" cy="347760"/>
          </a:xfrm>
          <a:custGeom>
            <a:avLst/>
            <a:gdLst/>
            <a:ahLst/>
            <a:rect l="l" t="t" r="r" b="b"/>
            <a:pathLst>
              <a:path w="199" h="968">
                <a:moveTo>
                  <a:pt x="6598" y="14635"/>
                </a:moveTo>
                <a:cubicBezTo>
                  <a:pt x="6557" y="14734"/>
                  <a:pt x="6487" y="14823"/>
                  <a:pt x="6474" y="14932"/>
                </a:cubicBezTo>
                <a:cubicBezTo>
                  <a:pt x="6459" y="15063"/>
                  <a:pt x="6493" y="15179"/>
                  <a:pt x="6524" y="15304"/>
                </a:cubicBezTo>
                <a:cubicBezTo>
                  <a:pt x="6557" y="15440"/>
                  <a:pt x="6574" y="15504"/>
                  <a:pt x="6672" y="156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Ink 19"/>
          <p:cNvSpPr/>
          <p:nvPr/>
        </p:nvSpPr>
        <p:spPr>
          <a:xfrm>
            <a:off x="2536920" y="5259240"/>
            <a:ext cx="249120" cy="465120"/>
          </a:xfrm>
          <a:custGeom>
            <a:avLst/>
            <a:gdLst/>
            <a:ahLst/>
            <a:rect l="l" t="t" r="r" b="b"/>
            <a:pathLst>
              <a:path w="695" h="1291">
                <a:moveTo>
                  <a:pt x="7119" y="14709"/>
                </a:moveTo>
                <a:cubicBezTo>
                  <a:pt x="7062" y="14848"/>
                  <a:pt x="7045" y="14908"/>
                  <a:pt x="7045" y="15056"/>
                </a:cubicBezTo>
                <a:cubicBezTo>
                  <a:pt x="7045" y="15208"/>
                  <a:pt x="7101" y="15347"/>
                  <a:pt x="7169" y="15478"/>
                </a:cubicBezTo>
                <a:cubicBezTo>
                  <a:pt x="7203" y="15544"/>
                  <a:pt x="7275" y="15641"/>
                  <a:pt x="7367" y="15602"/>
                </a:cubicBezTo>
                <a:cubicBezTo>
                  <a:pt x="7443" y="15570"/>
                  <a:pt x="7515" y="15423"/>
                  <a:pt x="7541" y="15354"/>
                </a:cubicBezTo>
                <a:cubicBezTo>
                  <a:pt x="7589" y="15226"/>
                  <a:pt x="7588" y="15062"/>
                  <a:pt x="7565" y="14932"/>
                </a:cubicBezTo>
                <a:cubicBezTo>
                  <a:pt x="7543" y="14806"/>
                  <a:pt x="7460" y="14669"/>
                  <a:pt x="7342" y="14610"/>
                </a:cubicBezTo>
                <a:cubicBezTo>
                  <a:pt x="7293" y="14610"/>
                  <a:pt x="7276" y="14610"/>
                  <a:pt x="7243" y="14610"/>
                </a:cubicBezTo>
                <a:cubicBezTo>
                  <a:pt x="7190" y="14676"/>
                  <a:pt x="7160" y="14745"/>
                  <a:pt x="7169" y="14833"/>
                </a:cubicBezTo>
                <a:cubicBezTo>
                  <a:pt x="7190" y="14942"/>
                  <a:pt x="7193" y="14968"/>
                  <a:pt x="7218" y="15032"/>
                </a:cubicBezTo>
              </a:path>
              <a:path w="695" h="1291">
                <a:moveTo>
                  <a:pt x="7739" y="15553"/>
                </a:moveTo>
                <a:cubicBezTo>
                  <a:pt x="7724" y="15674"/>
                  <a:pt x="7714" y="15780"/>
                  <a:pt x="7714" y="159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Ink 20"/>
          <p:cNvSpPr/>
          <p:nvPr/>
        </p:nvSpPr>
        <p:spPr>
          <a:xfrm>
            <a:off x="2938320" y="5249880"/>
            <a:ext cx="249480" cy="403200"/>
          </a:xfrm>
          <a:custGeom>
            <a:avLst/>
            <a:gdLst/>
            <a:ahLst/>
            <a:rect l="l" t="t" r="r" b="b"/>
            <a:pathLst>
              <a:path w="695" h="1117">
                <a:moveTo>
                  <a:pt x="8359" y="14982"/>
                </a:moveTo>
                <a:cubicBezTo>
                  <a:pt x="8359" y="14901"/>
                  <a:pt x="8385" y="14710"/>
                  <a:pt x="8310" y="14635"/>
                </a:cubicBezTo>
                <a:cubicBezTo>
                  <a:pt x="8266" y="14613"/>
                  <a:pt x="8254" y="14610"/>
                  <a:pt x="8235" y="14585"/>
                </a:cubicBezTo>
                <a:cubicBezTo>
                  <a:pt x="8135" y="14686"/>
                  <a:pt x="8175" y="14747"/>
                  <a:pt x="8210" y="14883"/>
                </a:cubicBezTo>
                <a:cubicBezTo>
                  <a:pt x="8244" y="15017"/>
                  <a:pt x="8313" y="15146"/>
                  <a:pt x="8334" y="15280"/>
                </a:cubicBezTo>
                <a:cubicBezTo>
                  <a:pt x="8348" y="15370"/>
                  <a:pt x="8337" y="15470"/>
                  <a:pt x="8310" y="15553"/>
                </a:cubicBezTo>
                <a:cubicBezTo>
                  <a:pt x="8238" y="15512"/>
                  <a:pt x="8215" y="15491"/>
                  <a:pt x="8210" y="15404"/>
                </a:cubicBezTo>
                <a:cubicBezTo>
                  <a:pt x="8205" y="15315"/>
                  <a:pt x="8209" y="15240"/>
                  <a:pt x="8235" y="15156"/>
                </a:cubicBezTo>
                <a:cubicBezTo>
                  <a:pt x="8268" y="15048"/>
                  <a:pt x="8306" y="14956"/>
                  <a:pt x="8359" y="14858"/>
                </a:cubicBezTo>
                <a:cubicBezTo>
                  <a:pt x="8389" y="14798"/>
                  <a:pt x="8404" y="14772"/>
                  <a:pt x="8434" y="14734"/>
                </a:cubicBezTo>
              </a:path>
              <a:path w="695" h="1117">
                <a:moveTo>
                  <a:pt x="8806" y="14585"/>
                </a:moveTo>
                <a:cubicBezTo>
                  <a:pt x="8841" y="14882"/>
                  <a:pt x="8901" y="15204"/>
                  <a:pt x="8830" y="15503"/>
                </a:cubicBezTo>
                <a:cubicBezTo>
                  <a:pt x="8784" y="15618"/>
                  <a:pt x="8775" y="15653"/>
                  <a:pt x="8706" y="157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F(x) = x</a:t>
            </a:r>
            <a:r>
              <a:rPr b="0" lang="en-US" sz="44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 + 8x - 30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2" descr="handygraph1"/>
          <p:cNvPicPr/>
          <p:nvPr/>
        </p:nvPicPr>
        <p:blipFill>
          <a:blip r:embed="rId1"/>
          <a:stretch/>
        </p:blipFill>
        <p:spPr>
          <a:xfrm>
            <a:off x="3809880" y="1662120"/>
            <a:ext cx="50580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Tahoma"/>
              </a:rPr>
              <a:t>Page 143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Tahoma"/>
              </a:rPr>
              <a:t>#14-26 even</a:t>
            </a:r>
            <a:endParaRPr b="0" lang="en-US" sz="75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Vertices and Intercepts of parabola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ecff"/>
                </a:solidFill>
                <a:latin typeface="Tahoma"/>
              </a:rPr>
              <a:t>The </a:t>
            </a:r>
            <a:r>
              <a:rPr b="0" lang="en-US" sz="5000" spc="-1" strike="noStrike" u="sng">
                <a:solidFill>
                  <a:srgbClr val="ccecff"/>
                </a:solidFill>
                <a:uFillTx/>
                <a:latin typeface="Tahoma"/>
              </a:rPr>
              <a:t>vertex</a:t>
            </a:r>
            <a:r>
              <a:rPr b="0" lang="en-US" sz="5000" spc="-1" strike="noStrike">
                <a:solidFill>
                  <a:srgbClr val="ccecff"/>
                </a:solidFill>
                <a:latin typeface="Tahoma"/>
              </a:rPr>
              <a:t> of a parabola is its min or max point</a:t>
            </a:r>
            <a:endParaRPr b="0" lang="en-US" sz="5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5000" spc="-1" strike="noStrike" u="sng">
                <a:solidFill>
                  <a:srgbClr val="ffffff"/>
                </a:solidFill>
                <a:uFillTx/>
                <a:latin typeface="Tahoma"/>
              </a:rPr>
              <a:t>intercepts</a:t>
            </a: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 of a parabola are where the graph intersects the x and y axes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o find the vertex of a parabola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equation is written in standard for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a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bx+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x = 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x value to solve for y or f(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answer as an ordered p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equation is written in vertex 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(x-a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b  the vertex is (a,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Find the vertex of these function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4x +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4" descr="handygraph1"/>
          <p:cNvPicPr/>
          <p:nvPr/>
        </p:nvPicPr>
        <p:blipFill>
          <a:blip r:embed="rId1"/>
          <a:stretch/>
        </p:blipFill>
        <p:spPr>
          <a:xfrm>
            <a:off x="4267080" y="1847880"/>
            <a:ext cx="4876920" cy="5010120"/>
          </a:xfrm>
          <a:prstGeom prst="rect">
            <a:avLst/>
          </a:prstGeom>
          <a:ln w="0">
            <a:noFill/>
          </a:ln>
        </p:spPr>
      </p:pic>
      <p:sp>
        <p:nvSpPr>
          <p:cNvPr id="393" name="Ink 5"/>
          <p:cNvSpPr/>
          <p:nvPr/>
        </p:nvSpPr>
        <p:spPr>
          <a:xfrm>
            <a:off x="2027160" y="1285920"/>
            <a:ext cx="231840" cy="428760"/>
          </a:xfrm>
          <a:custGeom>
            <a:avLst/>
            <a:gdLst/>
            <a:ahLst/>
            <a:rect l="l" t="t" r="r" b="b"/>
            <a:pathLst>
              <a:path w="646" h="1191">
                <a:moveTo>
                  <a:pt x="5804" y="4093"/>
                </a:moveTo>
                <a:cubicBezTo>
                  <a:pt x="5804" y="4275"/>
                  <a:pt x="5804" y="4456"/>
                  <a:pt x="5804" y="4638"/>
                </a:cubicBezTo>
              </a:path>
              <a:path w="646" h="1191">
                <a:moveTo>
                  <a:pt x="5631" y="4539"/>
                </a:moveTo>
                <a:cubicBezTo>
                  <a:pt x="5687" y="4597"/>
                  <a:pt x="5742" y="4641"/>
                  <a:pt x="5804" y="4688"/>
                </a:cubicBezTo>
                <a:cubicBezTo>
                  <a:pt x="5849" y="4722"/>
                  <a:pt x="5915" y="4781"/>
                  <a:pt x="5978" y="4762"/>
                </a:cubicBezTo>
                <a:cubicBezTo>
                  <a:pt x="6024" y="4749"/>
                  <a:pt x="6046" y="4626"/>
                  <a:pt x="6052" y="4589"/>
                </a:cubicBezTo>
                <a:cubicBezTo>
                  <a:pt x="6052" y="4544"/>
                  <a:pt x="6049" y="4531"/>
                  <a:pt x="6077" y="4514"/>
                </a:cubicBezTo>
              </a:path>
              <a:path w="646" h="1191">
                <a:moveTo>
                  <a:pt x="6127" y="3721"/>
                </a:moveTo>
                <a:cubicBezTo>
                  <a:pt x="6097" y="3672"/>
                  <a:pt x="6097" y="3642"/>
                  <a:pt x="6052" y="3597"/>
                </a:cubicBezTo>
                <a:cubicBezTo>
                  <a:pt x="6044" y="3589"/>
                  <a:pt x="6036" y="3580"/>
                  <a:pt x="6028" y="3572"/>
                </a:cubicBezTo>
                <a:cubicBezTo>
                  <a:pt x="5986" y="3614"/>
                  <a:pt x="5918" y="3659"/>
                  <a:pt x="5904" y="3721"/>
                </a:cubicBezTo>
                <a:cubicBezTo>
                  <a:pt x="5887" y="3795"/>
                  <a:pt x="5911" y="3887"/>
                  <a:pt x="5953" y="3944"/>
                </a:cubicBezTo>
                <a:cubicBezTo>
                  <a:pt x="6006" y="4014"/>
                  <a:pt x="6066" y="3987"/>
                  <a:pt x="6127" y="3944"/>
                </a:cubicBezTo>
                <a:cubicBezTo>
                  <a:pt x="6174" y="3911"/>
                  <a:pt x="6170" y="3869"/>
                  <a:pt x="6176" y="3820"/>
                </a:cubicBezTo>
                <a:cubicBezTo>
                  <a:pt x="6224" y="3854"/>
                  <a:pt x="6239" y="3874"/>
                  <a:pt x="6276" y="39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Ink 6"/>
          <p:cNvSpPr/>
          <p:nvPr/>
        </p:nvSpPr>
        <p:spPr>
          <a:xfrm>
            <a:off x="990720" y="2241720"/>
            <a:ext cx="2617560" cy="758520"/>
          </a:xfrm>
          <a:custGeom>
            <a:avLst/>
            <a:gdLst/>
            <a:ahLst/>
            <a:rect l="l" t="t" r="r" b="b"/>
            <a:pathLst>
              <a:path w="7269" h="2109">
                <a:moveTo>
                  <a:pt x="2753" y="6548"/>
                </a:moveTo>
                <a:cubicBezTo>
                  <a:pt x="2792" y="6587"/>
                  <a:pt x="2832" y="6619"/>
                  <a:pt x="2853" y="6672"/>
                </a:cubicBezTo>
                <a:cubicBezTo>
                  <a:pt x="2890" y="6764"/>
                  <a:pt x="2919" y="6890"/>
                  <a:pt x="2977" y="6970"/>
                </a:cubicBezTo>
                <a:cubicBezTo>
                  <a:pt x="3037" y="7052"/>
                  <a:pt x="3082" y="7138"/>
                  <a:pt x="3150" y="7218"/>
                </a:cubicBezTo>
                <a:cubicBezTo>
                  <a:pt x="3224" y="7304"/>
                  <a:pt x="3312" y="7369"/>
                  <a:pt x="3398" y="7441"/>
                </a:cubicBezTo>
                <a:cubicBezTo>
                  <a:pt x="3461" y="7494"/>
                  <a:pt x="3441" y="7515"/>
                  <a:pt x="3522" y="7491"/>
                </a:cubicBezTo>
              </a:path>
              <a:path w="7269" h="2109">
                <a:moveTo>
                  <a:pt x="3299" y="6573"/>
                </a:moveTo>
                <a:cubicBezTo>
                  <a:pt x="3250" y="6687"/>
                  <a:pt x="3219" y="6802"/>
                  <a:pt x="3175" y="6921"/>
                </a:cubicBezTo>
                <a:cubicBezTo>
                  <a:pt x="3144" y="7005"/>
                  <a:pt x="3107" y="7086"/>
                  <a:pt x="3076" y="7169"/>
                </a:cubicBezTo>
                <a:cubicBezTo>
                  <a:pt x="3047" y="7246"/>
                  <a:pt x="3031" y="7346"/>
                  <a:pt x="3001" y="7417"/>
                </a:cubicBezTo>
                <a:cubicBezTo>
                  <a:pt x="2986" y="7453"/>
                  <a:pt x="2937" y="7519"/>
                  <a:pt x="2952" y="7565"/>
                </a:cubicBezTo>
                <a:cubicBezTo>
                  <a:pt x="2975" y="7588"/>
                  <a:pt x="2983" y="7599"/>
                  <a:pt x="2977" y="7565"/>
                </a:cubicBezTo>
              </a:path>
              <a:path w="7269" h="2109">
                <a:moveTo>
                  <a:pt x="3522" y="6995"/>
                </a:moveTo>
                <a:cubicBezTo>
                  <a:pt x="3663" y="6995"/>
                  <a:pt x="3803" y="6995"/>
                  <a:pt x="3944" y="6995"/>
                </a:cubicBezTo>
              </a:path>
              <a:path w="7269" h="2109">
                <a:moveTo>
                  <a:pt x="3646" y="7169"/>
                </a:moveTo>
                <a:cubicBezTo>
                  <a:pt x="3798" y="7169"/>
                  <a:pt x="3943" y="7172"/>
                  <a:pt x="4093" y="7144"/>
                </a:cubicBezTo>
              </a:path>
              <a:path w="7269" h="2109">
                <a:moveTo>
                  <a:pt x="4366" y="6945"/>
                </a:moveTo>
                <a:cubicBezTo>
                  <a:pt x="4475" y="6945"/>
                  <a:pt x="4565" y="6957"/>
                  <a:pt x="4663" y="6921"/>
                </a:cubicBezTo>
              </a:path>
              <a:path w="7269" h="2109">
                <a:moveTo>
                  <a:pt x="4911" y="6375"/>
                </a:moveTo>
                <a:cubicBezTo>
                  <a:pt x="4960" y="6436"/>
                  <a:pt x="4961" y="6470"/>
                  <a:pt x="4961" y="6548"/>
                </a:cubicBezTo>
                <a:cubicBezTo>
                  <a:pt x="4961" y="6726"/>
                  <a:pt x="4961" y="6897"/>
                  <a:pt x="4986" y="7069"/>
                </a:cubicBezTo>
                <a:cubicBezTo>
                  <a:pt x="4995" y="7134"/>
                  <a:pt x="5008" y="7182"/>
                  <a:pt x="5035" y="7243"/>
                </a:cubicBezTo>
                <a:cubicBezTo>
                  <a:pt x="5078" y="7200"/>
                  <a:pt x="5100" y="7155"/>
                  <a:pt x="5110" y="7094"/>
                </a:cubicBezTo>
                <a:cubicBezTo>
                  <a:pt x="5123" y="7016"/>
                  <a:pt x="5103" y="6965"/>
                  <a:pt x="5159" y="6896"/>
                </a:cubicBezTo>
                <a:cubicBezTo>
                  <a:pt x="5210" y="6833"/>
                  <a:pt x="5248" y="6839"/>
                  <a:pt x="5308" y="6846"/>
                </a:cubicBezTo>
                <a:cubicBezTo>
                  <a:pt x="5380" y="6855"/>
                  <a:pt x="5394" y="6881"/>
                  <a:pt x="5432" y="6945"/>
                </a:cubicBezTo>
                <a:cubicBezTo>
                  <a:pt x="5475" y="7017"/>
                  <a:pt x="5467" y="7119"/>
                  <a:pt x="5432" y="7193"/>
                </a:cubicBezTo>
                <a:cubicBezTo>
                  <a:pt x="5409" y="7240"/>
                  <a:pt x="5346" y="7265"/>
                  <a:pt x="5308" y="7293"/>
                </a:cubicBezTo>
                <a:cubicBezTo>
                  <a:pt x="5268" y="7323"/>
                  <a:pt x="5230" y="7344"/>
                  <a:pt x="5184" y="7367"/>
                </a:cubicBezTo>
              </a:path>
              <a:path w="7269" h="2109">
                <a:moveTo>
                  <a:pt x="4837" y="7466"/>
                </a:moveTo>
                <a:cubicBezTo>
                  <a:pt x="4980" y="7466"/>
                  <a:pt x="5096" y="7446"/>
                  <a:pt x="5234" y="7441"/>
                </a:cubicBezTo>
                <a:cubicBezTo>
                  <a:pt x="5378" y="7436"/>
                  <a:pt x="5519" y="7444"/>
                  <a:pt x="5655" y="7466"/>
                </a:cubicBezTo>
                <a:cubicBezTo>
                  <a:pt x="5705" y="7466"/>
                  <a:pt x="5722" y="7466"/>
                  <a:pt x="5755" y="7466"/>
                </a:cubicBezTo>
              </a:path>
              <a:path w="7269" h="2109">
                <a:moveTo>
                  <a:pt x="4986" y="7813"/>
                </a:moveTo>
                <a:cubicBezTo>
                  <a:pt x="5032" y="7734"/>
                  <a:pt x="5034" y="7741"/>
                  <a:pt x="5110" y="7714"/>
                </a:cubicBezTo>
                <a:cubicBezTo>
                  <a:pt x="5176" y="7691"/>
                  <a:pt x="5235" y="7715"/>
                  <a:pt x="5209" y="7813"/>
                </a:cubicBezTo>
                <a:cubicBezTo>
                  <a:pt x="5193" y="7872"/>
                  <a:pt x="5118" y="7938"/>
                  <a:pt x="5085" y="7987"/>
                </a:cubicBezTo>
                <a:cubicBezTo>
                  <a:pt x="5031" y="8068"/>
                  <a:pt x="4994" y="8130"/>
                  <a:pt x="4936" y="8210"/>
                </a:cubicBezTo>
                <a:cubicBezTo>
                  <a:pt x="4907" y="8250"/>
                  <a:pt x="4895" y="8284"/>
                  <a:pt x="4887" y="8334"/>
                </a:cubicBezTo>
                <a:cubicBezTo>
                  <a:pt x="4968" y="8334"/>
                  <a:pt x="4949" y="8303"/>
                  <a:pt x="5011" y="8285"/>
                </a:cubicBezTo>
                <a:cubicBezTo>
                  <a:pt x="5079" y="8265"/>
                  <a:pt x="5144" y="8306"/>
                  <a:pt x="5209" y="8310"/>
                </a:cubicBezTo>
                <a:cubicBezTo>
                  <a:pt x="5250" y="8310"/>
                  <a:pt x="5258" y="8310"/>
                  <a:pt x="5283" y="8310"/>
                </a:cubicBezTo>
              </a:path>
              <a:path w="7269" h="2109">
                <a:moveTo>
                  <a:pt x="5581" y="8037"/>
                </a:moveTo>
                <a:cubicBezTo>
                  <a:pt x="5599" y="7911"/>
                  <a:pt x="5614" y="7863"/>
                  <a:pt x="5482" y="7913"/>
                </a:cubicBezTo>
                <a:cubicBezTo>
                  <a:pt x="5421" y="7936"/>
                  <a:pt x="5352" y="7965"/>
                  <a:pt x="5333" y="8037"/>
                </a:cubicBezTo>
                <a:cubicBezTo>
                  <a:pt x="5309" y="8126"/>
                  <a:pt x="5349" y="8162"/>
                  <a:pt x="5407" y="8210"/>
                </a:cubicBezTo>
                <a:cubicBezTo>
                  <a:pt x="5442" y="8239"/>
                  <a:pt x="5533" y="8253"/>
                  <a:pt x="5581" y="8235"/>
                </a:cubicBezTo>
                <a:cubicBezTo>
                  <a:pt x="5634" y="8214"/>
                  <a:pt x="5649" y="8155"/>
                  <a:pt x="5655" y="8111"/>
                </a:cubicBezTo>
                <a:cubicBezTo>
                  <a:pt x="5719" y="8148"/>
                  <a:pt x="5762" y="8157"/>
                  <a:pt x="5829" y="8186"/>
                </a:cubicBezTo>
                <a:cubicBezTo>
                  <a:pt x="5942" y="8235"/>
                  <a:pt x="6029" y="8302"/>
                  <a:pt x="6152" y="8310"/>
                </a:cubicBezTo>
                <a:cubicBezTo>
                  <a:pt x="6160" y="8310"/>
                  <a:pt x="6168" y="8310"/>
                  <a:pt x="6176" y="8310"/>
                </a:cubicBezTo>
              </a:path>
              <a:path w="7269" h="2109">
                <a:moveTo>
                  <a:pt x="6127" y="7169"/>
                </a:moveTo>
                <a:cubicBezTo>
                  <a:pt x="6209" y="7147"/>
                  <a:pt x="6265" y="7144"/>
                  <a:pt x="6350" y="7144"/>
                </a:cubicBezTo>
              </a:path>
              <a:path w="7269" h="2109">
                <a:moveTo>
                  <a:pt x="6077" y="7317"/>
                </a:moveTo>
                <a:cubicBezTo>
                  <a:pt x="6146" y="7336"/>
                  <a:pt x="6181" y="7342"/>
                  <a:pt x="6251" y="7342"/>
                </a:cubicBezTo>
              </a:path>
              <a:path w="7269" h="2109">
                <a:moveTo>
                  <a:pt x="6722" y="6697"/>
                </a:moveTo>
                <a:cubicBezTo>
                  <a:pt x="6814" y="6697"/>
                  <a:pt x="6881" y="6718"/>
                  <a:pt x="6970" y="6722"/>
                </a:cubicBezTo>
                <a:cubicBezTo>
                  <a:pt x="7033" y="6725"/>
                  <a:pt x="7094" y="6742"/>
                  <a:pt x="7144" y="6772"/>
                </a:cubicBezTo>
              </a:path>
              <a:path w="7269" h="2109">
                <a:moveTo>
                  <a:pt x="7441" y="6474"/>
                </a:moveTo>
                <a:cubicBezTo>
                  <a:pt x="7432" y="6540"/>
                  <a:pt x="7399" y="6584"/>
                  <a:pt x="7367" y="6648"/>
                </a:cubicBezTo>
                <a:cubicBezTo>
                  <a:pt x="7331" y="6719"/>
                  <a:pt x="7368" y="6744"/>
                  <a:pt x="7441" y="6747"/>
                </a:cubicBezTo>
                <a:cubicBezTo>
                  <a:pt x="7490" y="6749"/>
                  <a:pt x="7541" y="6747"/>
                  <a:pt x="7590" y="6747"/>
                </a:cubicBezTo>
              </a:path>
              <a:path w="7269" h="2109">
                <a:moveTo>
                  <a:pt x="7689" y="6226"/>
                </a:moveTo>
                <a:cubicBezTo>
                  <a:pt x="7666" y="6312"/>
                  <a:pt x="7644" y="6386"/>
                  <a:pt x="7640" y="6474"/>
                </a:cubicBezTo>
                <a:cubicBezTo>
                  <a:pt x="7636" y="6556"/>
                  <a:pt x="7595" y="6637"/>
                  <a:pt x="7615" y="6722"/>
                </a:cubicBezTo>
                <a:cubicBezTo>
                  <a:pt x="7631" y="6790"/>
                  <a:pt x="7674" y="6853"/>
                  <a:pt x="7689" y="6921"/>
                </a:cubicBezTo>
                <a:cubicBezTo>
                  <a:pt x="7698" y="6963"/>
                  <a:pt x="7706" y="7003"/>
                  <a:pt x="7714" y="7045"/>
                </a:cubicBezTo>
              </a:path>
              <a:path w="7269" h="2109">
                <a:moveTo>
                  <a:pt x="7119" y="7218"/>
                </a:moveTo>
                <a:cubicBezTo>
                  <a:pt x="7229" y="7209"/>
                  <a:pt x="7328" y="7193"/>
                  <a:pt x="7441" y="7193"/>
                </a:cubicBezTo>
                <a:cubicBezTo>
                  <a:pt x="7585" y="7193"/>
                  <a:pt x="7753" y="7218"/>
                  <a:pt x="7888" y="7169"/>
                </a:cubicBezTo>
              </a:path>
              <a:path w="7269" h="2109">
                <a:moveTo>
                  <a:pt x="7045" y="7516"/>
                </a:moveTo>
                <a:cubicBezTo>
                  <a:pt x="7113" y="7470"/>
                  <a:pt x="7162" y="7466"/>
                  <a:pt x="7243" y="7466"/>
                </a:cubicBezTo>
                <a:cubicBezTo>
                  <a:pt x="7323" y="7466"/>
                  <a:pt x="7333" y="7513"/>
                  <a:pt x="7317" y="7590"/>
                </a:cubicBezTo>
                <a:cubicBezTo>
                  <a:pt x="7296" y="7688"/>
                  <a:pt x="7244" y="7736"/>
                  <a:pt x="7193" y="7813"/>
                </a:cubicBezTo>
                <a:cubicBezTo>
                  <a:pt x="7170" y="7848"/>
                  <a:pt x="7104" y="7925"/>
                  <a:pt x="7094" y="7962"/>
                </a:cubicBezTo>
                <a:cubicBezTo>
                  <a:pt x="7068" y="8059"/>
                  <a:pt x="7183" y="8059"/>
                  <a:pt x="7243" y="8062"/>
                </a:cubicBezTo>
                <a:cubicBezTo>
                  <a:pt x="7302" y="8062"/>
                  <a:pt x="7328" y="8059"/>
                  <a:pt x="7367" y="8037"/>
                </a:cubicBezTo>
              </a:path>
              <a:path w="7269" h="2109">
                <a:moveTo>
                  <a:pt x="7615" y="7640"/>
                </a:moveTo>
                <a:cubicBezTo>
                  <a:pt x="7557" y="7721"/>
                  <a:pt x="7487" y="7812"/>
                  <a:pt x="7466" y="7913"/>
                </a:cubicBezTo>
                <a:cubicBezTo>
                  <a:pt x="7455" y="7967"/>
                  <a:pt x="7497" y="8055"/>
                  <a:pt x="7541" y="8086"/>
                </a:cubicBezTo>
                <a:cubicBezTo>
                  <a:pt x="7578" y="8113"/>
                  <a:pt x="7623" y="8128"/>
                  <a:pt x="7665" y="8136"/>
                </a:cubicBezTo>
              </a:path>
              <a:path w="7269" h="2109">
                <a:moveTo>
                  <a:pt x="7813" y="7640"/>
                </a:moveTo>
                <a:cubicBezTo>
                  <a:pt x="7907" y="7614"/>
                  <a:pt x="7920" y="7599"/>
                  <a:pt x="7987" y="7665"/>
                </a:cubicBezTo>
                <a:cubicBezTo>
                  <a:pt x="8046" y="7723"/>
                  <a:pt x="7945" y="7849"/>
                  <a:pt x="7913" y="7913"/>
                </a:cubicBezTo>
                <a:cubicBezTo>
                  <a:pt x="7894" y="7951"/>
                  <a:pt x="7823" y="8001"/>
                  <a:pt x="7813" y="8037"/>
                </a:cubicBezTo>
                <a:cubicBezTo>
                  <a:pt x="7813" y="8053"/>
                  <a:pt x="7813" y="8070"/>
                  <a:pt x="7813" y="8086"/>
                </a:cubicBezTo>
                <a:cubicBezTo>
                  <a:pt x="7877" y="8095"/>
                  <a:pt x="7916" y="8111"/>
                  <a:pt x="7987" y="8111"/>
                </a:cubicBezTo>
                <a:cubicBezTo>
                  <a:pt x="8064" y="8111"/>
                  <a:pt x="8093" y="8112"/>
                  <a:pt x="8161" y="8086"/>
                </a:cubicBezTo>
              </a:path>
              <a:path w="7269" h="2109">
                <a:moveTo>
                  <a:pt x="8210" y="7516"/>
                </a:moveTo>
                <a:cubicBezTo>
                  <a:pt x="8301" y="7600"/>
                  <a:pt x="8370" y="7668"/>
                  <a:pt x="8409" y="7789"/>
                </a:cubicBezTo>
                <a:cubicBezTo>
                  <a:pt x="8440" y="7884"/>
                  <a:pt x="8448" y="7971"/>
                  <a:pt x="8409" y="8062"/>
                </a:cubicBezTo>
                <a:cubicBezTo>
                  <a:pt x="8373" y="8146"/>
                  <a:pt x="8353" y="8181"/>
                  <a:pt x="8260" y="8186"/>
                </a:cubicBezTo>
                <a:cubicBezTo>
                  <a:pt x="8200" y="8189"/>
                  <a:pt x="8198" y="8185"/>
                  <a:pt x="8186" y="8136"/>
                </a:cubicBezTo>
              </a:path>
              <a:path w="7269" h="2109">
                <a:moveTo>
                  <a:pt x="8731" y="7293"/>
                </a:moveTo>
                <a:cubicBezTo>
                  <a:pt x="8832" y="7293"/>
                  <a:pt x="8869" y="7286"/>
                  <a:pt x="8954" y="7317"/>
                </a:cubicBezTo>
              </a:path>
              <a:path w="7269" h="2109">
                <a:moveTo>
                  <a:pt x="8682" y="7466"/>
                </a:moveTo>
                <a:cubicBezTo>
                  <a:pt x="8816" y="7479"/>
                  <a:pt x="8924" y="7491"/>
                  <a:pt x="9054" y="7491"/>
                </a:cubicBezTo>
              </a:path>
              <a:path w="7269" h="2109">
                <a:moveTo>
                  <a:pt x="9847" y="6747"/>
                </a:moveTo>
                <a:cubicBezTo>
                  <a:pt x="9847" y="6885"/>
                  <a:pt x="9854" y="7010"/>
                  <a:pt x="9872" y="7144"/>
                </a:cubicBezTo>
                <a:cubicBezTo>
                  <a:pt x="9884" y="7234"/>
                  <a:pt x="9890" y="7330"/>
                  <a:pt x="9922" y="7417"/>
                </a:cubicBezTo>
                <a:cubicBezTo>
                  <a:pt x="9950" y="7493"/>
                  <a:pt x="9964" y="7596"/>
                  <a:pt x="9996" y="7665"/>
                </a:cubicBezTo>
                <a:cubicBezTo>
                  <a:pt x="10005" y="7684"/>
                  <a:pt x="10021" y="7775"/>
                  <a:pt x="10021" y="7714"/>
                </a:cubicBezTo>
              </a:path>
              <a:path w="7269" h="2109">
                <a:moveTo>
                  <a:pt x="9227" y="7020"/>
                </a:moveTo>
                <a:cubicBezTo>
                  <a:pt x="9287" y="6984"/>
                  <a:pt x="9351" y="6995"/>
                  <a:pt x="9426" y="6995"/>
                </a:cubicBezTo>
                <a:cubicBezTo>
                  <a:pt x="9485" y="6995"/>
                  <a:pt x="9511" y="6998"/>
                  <a:pt x="9550" y="70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Ink 7"/>
          <p:cNvSpPr/>
          <p:nvPr/>
        </p:nvSpPr>
        <p:spPr>
          <a:xfrm>
            <a:off x="1044720" y="3160800"/>
            <a:ext cx="2000160" cy="509400"/>
          </a:xfrm>
          <a:custGeom>
            <a:avLst/>
            <a:gdLst/>
            <a:ahLst/>
            <a:rect l="l" t="t" r="r" b="b"/>
            <a:pathLst>
              <a:path w="5557" h="1415">
                <a:moveTo>
                  <a:pt x="2902" y="9079"/>
                </a:moveTo>
                <a:cubicBezTo>
                  <a:pt x="2949" y="9126"/>
                  <a:pt x="2913" y="9169"/>
                  <a:pt x="2952" y="9227"/>
                </a:cubicBezTo>
                <a:cubicBezTo>
                  <a:pt x="2969" y="9253"/>
                  <a:pt x="2997" y="9333"/>
                  <a:pt x="3026" y="9376"/>
                </a:cubicBezTo>
                <a:cubicBezTo>
                  <a:pt x="3066" y="9436"/>
                  <a:pt x="3124" y="9483"/>
                  <a:pt x="3175" y="9525"/>
                </a:cubicBezTo>
                <a:cubicBezTo>
                  <a:pt x="3211" y="9555"/>
                  <a:pt x="3234" y="9583"/>
                  <a:pt x="3274" y="9599"/>
                </a:cubicBezTo>
              </a:path>
              <a:path w="5557" h="1415">
                <a:moveTo>
                  <a:pt x="3349" y="9004"/>
                </a:moveTo>
                <a:cubicBezTo>
                  <a:pt x="3331" y="9137"/>
                  <a:pt x="3330" y="9318"/>
                  <a:pt x="3299" y="9451"/>
                </a:cubicBezTo>
                <a:cubicBezTo>
                  <a:pt x="3276" y="9550"/>
                  <a:pt x="3274" y="9643"/>
                  <a:pt x="3274" y="9748"/>
                </a:cubicBezTo>
                <a:cubicBezTo>
                  <a:pt x="3274" y="9855"/>
                  <a:pt x="3267" y="9943"/>
                  <a:pt x="3249" y="10046"/>
                </a:cubicBezTo>
                <a:cubicBezTo>
                  <a:pt x="3239" y="10104"/>
                  <a:pt x="3249" y="10170"/>
                  <a:pt x="3274" y="10195"/>
                </a:cubicBezTo>
              </a:path>
              <a:path w="5557" h="1415">
                <a:moveTo>
                  <a:pt x="3597" y="9376"/>
                </a:moveTo>
                <a:cubicBezTo>
                  <a:pt x="3731" y="9304"/>
                  <a:pt x="3697" y="9337"/>
                  <a:pt x="3795" y="9376"/>
                </a:cubicBezTo>
                <a:cubicBezTo>
                  <a:pt x="3812" y="9376"/>
                  <a:pt x="3828" y="9376"/>
                  <a:pt x="3845" y="9376"/>
                </a:cubicBezTo>
              </a:path>
              <a:path w="5557" h="1415">
                <a:moveTo>
                  <a:pt x="3696" y="9525"/>
                </a:moveTo>
                <a:cubicBezTo>
                  <a:pt x="3799" y="9553"/>
                  <a:pt x="3841" y="9553"/>
                  <a:pt x="3944" y="9525"/>
                </a:cubicBezTo>
              </a:path>
              <a:path w="5557" h="1415">
                <a:moveTo>
                  <a:pt x="4118" y="9153"/>
                </a:moveTo>
                <a:cubicBezTo>
                  <a:pt x="4193" y="9138"/>
                  <a:pt x="4233" y="9065"/>
                  <a:pt x="4316" y="9079"/>
                </a:cubicBezTo>
                <a:cubicBezTo>
                  <a:pt x="4389" y="9091"/>
                  <a:pt x="4497" y="9178"/>
                  <a:pt x="4514" y="9252"/>
                </a:cubicBezTo>
                <a:cubicBezTo>
                  <a:pt x="4536" y="9346"/>
                  <a:pt x="4491" y="9416"/>
                  <a:pt x="4465" y="9500"/>
                </a:cubicBezTo>
                <a:cubicBezTo>
                  <a:pt x="4438" y="9586"/>
                  <a:pt x="4413" y="9638"/>
                  <a:pt x="4341" y="9674"/>
                </a:cubicBezTo>
                <a:cubicBezTo>
                  <a:pt x="4315" y="9687"/>
                  <a:pt x="4203" y="9718"/>
                  <a:pt x="4192" y="9674"/>
                </a:cubicBezTo>
                <a:cubicBezTo>
                  <a:pt x="4173" y="9597"/>
                  <a:pt x="4223" y="9531"/>
                  <a:pt x="4266" y="9475"/>
                </a:cubicBezTo>
                <a:cubicBezTo>
                  <a:pt x="4334" y="9509"/>
                  <a:pt x="4384" y="9524"/>
                  <a:pt x="4415" y="9599"/>
                </a:cubicBezTo>
                <a:cubicBezTo>
                  <a:pt x="4443" y="9668"/>
                  <a:pt x="4468" y="9714"/>
                  <a:pt x="4514" y="9773"/>
                </a:cubicBezTo>
              </a:path>
              <a:path w="5557" h="1415">
                <a:moveTo>
                  <a:pt x="4862" y="9079"/>
                </a:moveTo>
                <a:cubicBezTo>
                  <a:pt x="4840" y="9156"/>
                  <a:pt x="4792" y="9248"/>
                  <a:pt x="4787" y="9327"/>
                </a:cubicBezTo>
                <a:cubicBezTo>
                  <a:pt x="4783" y="9396"/>
                  <a:pt x="4776" y="9464"/>
                  <a:pt x="4812" y="9525"/>
                </a:cubicBezTo>
                <a:cubicBezTo>
                  <a:pt x="4838" y="9569"/>
                  <a:pt x="4912" y="9645"/>
                  <a:pt x="4961" y="9674"/>
                </a:cubicBezTo>
                <a:cubicBezTo>
                  <a:pt x="4969" y="9674"/>
                  <a:pt x="4978" y="9674"/>
                  <a:pt x="4986" y="9674"/>
                </a:cubicBezTo>
              </a:path>
              <a:path w="5557" h="1415">
                <a:moveTo>
                  <a:pt x="5060" y="9376"/>
                </a:moveTo>
                <a:cubicBezTo>
                  <a:pt x="5178" y="9376"/>
                  <a:pt x="5237" y="9378"/>
                  <a:pt x="5333" y="9327"/>
                </a:cubicBezTo>
              </a:path>
              <a:path w="5557" h="1415">
                <a:moveTo>
                  <a:pt x="5507" y="9079"/>
                </a:moveTo>
                <a:cubicBezTo>
                  <a:pt x="5507" y="9166"/>
                  <a:pt x="5463" y="9296"/>
                  <a:pt x="5482" y="9376"/>
                </a:cubicBezTo>
                <a:cubicBezTo>
                  <a:pt x="5494" y="9429"/>
                  <a:pt x="5549" y="9567"/>
                  <a:pt x="5556" y="9599"/>
                </a:cubicBezTo>
                <a:cubicBezTo>
                  <a:pt x="5556" y="9657"/>
                  <a:pt x="5539" y="9682"/>
                  <a:pt x="5581" y="9674"/>
                </a:cubicBezTo>
              </a:path>
              <a:path w="5557" h="1415">
                <a:moveTo>
                  <a:pt x="5631" y="8806"/>
                </a:moveTo>
                <a:cubicBezTo>
                  <a:pt x="5719" y="8885"/>
                  <a:pt x="5761" y="8963"/>
                  <a:pt x="5804" y="9079"/>
                </a:cubicBezTo>
                <a:cubicBezTo>
                  <a:pt x="5841" y="9178"/>
                  <a:pt x="5875" y="9271"/>
                  <a:pt x="5879" y="9376"/>
                </a:cubicBezTo>
                <a:cubicBezTo>
                  <a:pt x="5883" y="9479"/>
                  <a:pt x="5884" y="9582"/>
                  <a:pt x="5829" y="9674"/>
                </a:cubicBezTo>
                <a:cubicBezTo>
                  <a:pt x="5808" y="9709"/>
                  <a:pt x="5784" y="9734"/>
                  <a:pt x="5755" y="9748"/>
                </a:cubicBezTo>
              </a:path>
              <a:path w="5557" h="1415">
                <a:moveTo>
                  <a:pt x="5978" y="8781"/>
                </a:moveTo>
                <a:cubicBezTo>
                  <a:pt x="6067" y="8781"/>
                  <a:pt x="6137" y="8761"/>
                  <a:pt x="6176" y="8855"/>
                </a:cubicBezTo>
                <a:cubicBezTo>
                  <a:pt x="6203" y="8920"/>
                  <a:pt x="6124" y="8922"/>
                  <a:pt x="6102" y="8954"/>
                </a:cubicBezTo>
                <a:cubicBezTo>
                  <a:pt x="6061" y="9012"/>
                  <a:pt x="6059" y="8995"/>
                  <a:pt x="6003" y="9029"/>
                </a:cubicBezTo>
                <a:cubicBezTo>
                  <a:pt x="6043" y="9090"/>
                  <a:pt x="6071" y="9099"/>
                  <a:pt x="6152" y="9103"/>
                </a:cubicBezTo>
                <a:cubicBezTo>
                  <a:pt x="6201" y="9103"/>
                  <a:pt x="6218" y="9103"/>
                  <a:pt x="6251" y="9103"/>
                </a:cubicBezTo>
              </a:path>
              <a:path w="5557" h="1415">
                <a:moveTo>
                  <a:pt x="6573" y="9252"/>
                </a:moveTo>
                <a:cubicBezTo>
                  <a:pt x="6579" y="9353"/>
                  <a:pt x="6598" y="9404"/>
                  <a:pt x="6598" y="9500"/>
                </a:cubicBezTo>
              </a:path>
              <a:path w="5557" h="1415">
                <a:moveTo>
                  <a:pt x="6424" y="9302"/>
                </a:moveTo>
                <a:cubicBezTo>
                  <a:pt x="6509" y="9302"/>
                  <a:pt x="6570" y="9314"/>
                  <a:pt x="6648" y="9327"/>
                </a:cubicBezTo>
                <a:cubicBezTo>
                  <a:pt x="6699" y="9327"/>
                  <a:pt x="6718" y="9326"/>
                  <a:pt x="6747" y="9302"/>
                </a:cubicBezTo>
              </a:path>
              <a:path w="5557" h="1415">
                <a:moveTo>
                  <a:pt x="6995" y="9029"/>
                </a:moveTo>
                <a:cubicBezTo>
                  <a:pt x="6959" y="9083"/>
                  <a:pt x="6891" y="9182"/>
                  <a:pt x="6995" y="9227"/>
                </a:cubicBezTo>
                <a:cubicBezTo>
                  <a:pt x="7055" y="9253"/>
                  <a:pt x="7151" y="9252"/>
                  <a:pt x="7218" y="9252"/>
                </a:cubicBezTo>
              </a:path>
              <a:path w="5557" h="1415">
                <a:moveTo>
                  <a:pt x="7317" y="8930"/>
                </a:moveTo>
                <a:cubicBezTo>
                  <a:pt x="7295" y="9019"/>
                  <a:pt x="7272" y="9091"/>
                  <a:pt x="7268" y="9178"/>
                </a:cubicBezTo>
                <a:cubicBezTo>
                  <a:pt x="7262" y="9291"/>
                  <a:pt x="7276" y="9395"/>
                  <a:pt x="7293" y="9500"/>
                </a:cubicBezTo>
                <a:cubicBezTo>
                  <a:pt x="7304" y="9570"/>
                  <a:pt x="7319" y="9630"/>
                  <a:pt x="7342" y="9699"/>
                </a:cubicBezTo>
              </a:path>
              <a:path w="5557" h="1415">
                <a:moveTo>
                  <a:pt x="7615" y="9103"/>
                </a:moveTo>
                <a:cubicBezTo>
                  <a:pt x="7583" y="9189"/>
                  <a:pt x="7559" y="9295"/>
                  <a:pt x="7516" y="9376"/>
                </a:cubicBezTo>
                <a:cubicBezTo>
                  <a:pt x="7481" y="9442"/>
                  <a:pt x="7478" y="9524"/>
                  <a:pt x="7516" y="9599"/>
                </a:cubicBezTo>
                <a:cubicBezTo>
                  <a:pt x="7538" y="9643"/>
                  <a:pt x="7603" y="9722"/>
                  <a:pt x="7640" y="9748"/>
                </a:cubicBezTo>
                <a:cubicBezTo>
                  <a:pt x="7673" y="9748"/>
                  <a:pt x="7689" y="9748"/>
                  <a:pt x="7714" y="9748"/>
                </a:cubicBezTo>
              </a:path>
              <a:path w="5557" h="1415">
                <a:moveTo>
                  <a:pt x="7739" y="9376"/>
                </a:moveTo>
                <a:cubicBezTo>
                  <a:pt x="7871" y="9376"/>
                  <a:pt x="7949" y="9388"/>
                  <a:pt x="8062" y="9327"/>
                </a:cubicBezTo>
              </a:path>
              <a:path w="5557" h="1415">
                <a:moveTo>
                  <a:pt x="8136" y="9227"/>
                </a:moveTo>
                <a:cubicBezTo>
                  <a:pt x="8143" y="9313"/>
                  <a:pt x="8161" y="9388"/>
                  <a:pt x="8161" y="9475"/>
                </a:cubicBezTo>
                <a:cubicBezTo>
                  <a:pt x="8161" y="9543"/>
                  <a:pt x="8180" y="9605"/>
                  <a:pt x="8186" y="9674"/>
                </a:cubicBezTo>
              </a:path>
              <a:path w="5557" h="1415">
                <a:moveTo>
                  <a:pt x="8210" y="8855"/>
                </a:moveTo>
                <a:cubicBezTo>
                  <a:pt x="8352" y="8921"/>
                  <a:pt x="8350" y="8992"/>
                  <a:pt x="8409" y="9153"/>
                </a:cubicBezTo>
                <a:cubicBezTo>
                  <a:pt x="8450" y="9263"/>
                  <a:pt x="8442" y="9366"/>
                  <a:pt x="8434" y="9475"/>
                </a:cubicBezTo>
                <a:cubicBezTo>
                  <a:pt x="8427" y="9573"/>
                  <a:pt x="8408" y="9619"/>
                  <a:pt x="8359" y="9699"/>
                </a:cubicBezTo>
                <a:cubicBezTo>
                  <a:pt x="8335" y="9739"/>
                  <a:pt x="8330" y="9790"/>
                  <a:pt x="8310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Ink 8"/>
          <p:cNvSpPr/>
          <p:nvPr/>
        </p:nvSpPr>
        <p:spPr>
          <a:xfrm>
            <a:off x="3152880" y="3241800"/>
            <a:ext cx="347400" cy="241200"/>
          </a:xfrm>
          <a:custGeom>
            <a:avLst/>
            <a:gdLst/>
            <a:ahLst/>
            <a:rect l="l" t="t" r="r" b="b"/>
            <a:pathLst>
              <a:path w="968" h="671">
                <a:moveTo>
                  <a:pt x="8855" y="9302"/>
                </a:moveTo>
                <a:cubicBezTo>
                  <a:pt x="8855" y="9451"/>
                  <a:pt x="8868" y="9540"/>
                  <a:pt x="8880" y="9674"/>
                </a:cubicBezTo>
              </a:path>
              <a:path w="968" h="671">
                <a:moveTo>
                  <a:pt x="8756" y="9475"/>
                </a:moveTo>
                <a:cubicBezTo>
                  <a:pt x="8847" y="9459"/>
                  <a:pt x="8914" y="9451"/>
                  <a:pt x="9004" y="9451"/>
                </a:cubicBezTo>
              </a:path>
              <a:path w="968" h="671">
                <a:moveTo>
                  <a:pt x="9252" y="9004"/>
                </a:moveTo>
                <a:cubicBezTo>
                  <a:pt x="9302" y="9007"/>
                  <a:pt x="9499" y="9025"/>
                  <a:pt x="9525" y="9079"/>
                </a:cubicBezTo>
                <a:cubicBezTo>
                  <a:pt x="9561" y="9156"/>
                  <a:pt x="9485" y="9260"/>
                  <a:pt x="9426" y="9302"/>
                </a:cubicBezTo>
                <a:cubicBezTo>
                  <a:pt x="9382" y="9333"/>
                  <a:pt x="9306" y="9360"/>
                  <a:pt x="9277" y="9401"/>
                </a:cubicBezTo>
                <a:cubicBezTo>
                  <a:pt x="9234" y="9463"/>
                  <a:pt x="9289" y="9562"/>
                  <a:pt x="9351" y="9599"/>
                </a:cubicBezTo>
                <a:cubicBezTo>
                  <a:pt x="9451" y="9658"/>
                  <a:pt x="9506" y="9674"/>
                  <a:pt x="9624" y="9674"/>
                </a:cubicBezTo>
                <a:cubicBezTo>
                  <a:pt x="9709" y="9674"/>
                  <a:pt x="9700" y="9695"/>
                  <a:pt x="9723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Ink 9"/>
          <p:cNvSpPr/>
          <p:nvPr/>
        </p:nvSpPr>
        <p:spPr>
          <a:xfrm>
            <a:off x="3643200" y="3224160"/>
            <a:ext cx="349200" cy="285840"/>
          </a:xfrm>
          <a:custGeom>
            <a:avLst/>
            <a:gdLst/>
            <a:ahLst/>
            <a:rect l="l" t="t" r="r" b="b"/>
            <a:pathLst>
              <a:path w="969" h="795">
                <a:moveTo>
                  <a:pt x="10120" y="9302"/>
                </a:moveTo>
                <a:cubicBezTo>
                  <a:pt x="10161" y="9302"/>
                  <a:pt x="10203" y="9302"/>
                  <a:pt x="10244" y="9302"/>
                </a:cubicBezTo>
              </a:path>
              <a:path w="969" h="795">
                <a:moveTo>
                  <a:pt x="10220" y="9475"/>
                </a:moveTo>
                <a:cubicBezTo>
                  <a:pt x="10281" y="9492"/>
                  <a:pt x="10308" y="9500"/>
                  <a:pt x="10368" y="9500"/>
                </a:cubicBezTo>
              </a:path>
              <a:path w="969" h="795">
                <a:moveTo>
                  <a:pt x="10716" y="9103"/>
                </a:moveTo>
                <a:cubicBezTo>
                  <a:pt x="10687" y="9147"/>
                  <a:pt x="10626" y="9198"/>
                  <a:pt x="10616" y="9252"/>
                </a:cubicBezTo>
                <a:cubicBezTo>
                  <a:pt x="10601" y="9331"/>
                  <a:pt x="10582" y="9407"/>
                  <a:pt x="10616" y="9475"/>
                </a:cubicBezTo>
                <a:cubicBezTo>
                  <a:pt x="10643" y="9530"/>
                  <a:pt x="10686" y="9573"/>
                  <a:pt x="10716" y="9624"/>
                </a:cubicBezTo>
                <a:cubicBezTo>
                  <a:pt x="10735" y="9657"/>
                  <a:pt x="10855" y="9754"/>
                  <a:pt x="10889" y="9748"/>
                </a:cubicBezTo>
                <a:cubicBezTo>
                  <a:pt x="10950" y="9738"/>
                  <a:pt x="11038" y="9653"/>
                  <a:pt x="11063" y="9599"/>
                </a:cubicBezTo>
                <a:cubicBezTo>
                  <a:pt x="11097" y="9525"/>
                  <a:pt x="11088" y="9455"/>
                  <a:pt x="11088" y="9376"/>
                </a:cubicBezTo>
                <a:cubicBezTo>
                  <a:pt x="11088" y="9319"/>
                  <a:pt x="11071" y="9203"/>
                  <a:pt x="11038" y="9153"/>
                </a:cubicBezTo>
                <a:cubicBezTo>
                  <a:pt x="10996" y="9089"/>
                  <a:pt x="10907" y="8983"/>
                  <a:pt x="10840" y="8954"/>
                </a:cubicBezTo>
                <a:cubicBezTo>
                  <a:pt x="10766" y="8922"/>
                  <a:pt x="10706" y="8973"/>
                  <a:pt x="10666" y="9004"/>
                </a:cubicBezTo>
                <a:cubicBezTo>
                  <a:pt x="10602" y="9054"/>
                  <a:pt x="10610" y="9155"/>
                  <a:pt x="10592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Ink 10"/>
          <p:cNvSpPr/>
          <p:nvPr/>
        </p:nvSpPr>
        <p:spPr>
          <a:xfrm>
            <a:off x="1500120" y="3616200"/>
            <a:ext cx="330120" cy="331920"/>
          </a:xfrm>
          <a:custGeom>
            <a:avLst/>
            <a:gdLst/>
            <a:ahLst/>
            <a:rect l="l" t="t" r="r" b="b"/>
            <a:pathLst>
              <a:path w="919" h="919">
                <a:moveTo>
                  <a:pt x="4316" y="10046"/>
                </a:moveTo>
                <a:cubicBezTo>
                  <a:pt x="4282" y="10129"/>
                  <a:pt x="4268" y="10183"/>
                  <a:pt x="4242" y="10269"/>
                </a:cubicBezTo>
                <a:cubicBezTo>
                  <a:pt x="4216" y="10355"/>
                  <a:pt x="4213" y="10435"/>
                  <a:pt x="4192" y="10517"/>
                </a:cubicBezTo>
                <a:cubicBezTo>
                  <a:pt x="4175" y="10586"/>
                  <a:pt x="4171" y="10744"/>
                  <a:pt x="4217" y="10815"/>
                </a:cubicBezTo>
                <a:cubicBezTo>
                  <a:pt x="4241" y="10852"/>
                  <a:pt x="4319" y="10920"/>
                  <a:pt x="4366" y="10939"/>
                </a:cubicBezTo>
                <a:cubicBezTo>
                  <a:pt x="4391" y="10947"/>
                  <a:pt x="4415" y="10956"/>
                  <a:pt x="4440" y="10964"/>
                </a:cubicBezTo>
              </a:path>
              <a:path w="919" h="919">
                <a:moveTo>
                  <a:pt x="4514" y="10641"/>
                </a:moveTo>
                <a:cubicBezTo>
                  <a:pt x="4606" y="10691"/>
                  <a:pt x="4635" y="10691"/>
                  <a:pt x="4738" y="10691"/>
                </a:cubicBezTo>
                <a:cubicBezTo>
                  <a:pt x="4811" y="10691"/>
                  <a:pt x="4835" y="10692"/>
                  <a:pt x="4862" y="10641"/>
                </a:cubicBezTo>
              </a:path>
              <a:path w="919" h="919">
                <a:moveTo>
                  <a:pt x="5060" y="10145"/>
                </a:moveTo>
                <a:cubicBezTo>
                  <a:pt x="5060" y="10314"/>
                  <a:pt x="5068" y="10480"/>
                  <a:pt x="5085" y="10641"/>
                </a:cubicBezTo>
                <a:cubicBezTo>
                  <a:pt x="5095" y="10737"/>
                  <a:pt x="5085" y="10842"/>
                  <a:pt x="5085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Ink 11"/>
          <p:cNvSpPr/>
          <p:nvPr/>
        </p:nvSpPr>
        <p:spPr>
          <a:xfrm>
            <a:off x="1963800" y="3652920"/>
            <a:ext cx="474480" cy="392040"/>
          </a:xfrm>
          <a:custGeom>
            <a:avLst/>
            <a:gdLst/>
            <a:ahLst/>
            <a:rect l="l" t="t" r="r" b="b"/>
            <a:pathLst>
              <a:path w="1316" h="1093">
                <a:moveTo>
                  <a:pt x="5457" y="10815"/>
                </a:moveTo>
                <a:cubicBezTo>
                  <a:pt x="5457" y="10850"/>
                  <a:pt x="5436" y="11237"/>
                  <a:pt x="5482" y="11237"/>
                </a:cubicBezTo>
                <a:cubicBezTo>
                  <a:pt x="5482" y="11229"/>
                  <a:pt x="5482" y="11220"/>
                  <a:pt x="5482" y="11212"/>
                </a:cubicBezTo>
              </a:path>
              <a:path w="1316" h="1093">
                <a:moveTo>
                  <a:pt x="5829" y="10368"/>
                </a:moveTo>
                <a:cubicBezTo>
                  <a:pt x="5791" y="10467"/>
                  <a:pt x="5755" y="10538"/>
                  <a:pt x="5755" y="10641"/>
                </a:cubicBezTo>
                <a:cubicBezTo>
                  <a:pt x="5755" y="10737"/>
                  <a:pt x="5761" y="10779"/>
                  <a:pt x="5804" y="10864"/>
                </a:cubicBezTo>
                <a:cubicBezTo>
                  <a:pt x="5836" y="10927"/>
                  <a:pt x="5891" y="10955"/>
                  <a:pt x="5953" y="10988"/>
                </a:cubicBezTo>
                <a:cubicBezTo>
                  <a:pt x="6018" y="11022"/>
                  <a:pt x="6087" y="11027"/>
                  <a:pt x="6152" y="10988"/>
                </a:cubicBezTo>
                <a:cubicBezTo>
                  <a:pt x="6180" y="10971"/>
                  <a:pt x="6245" y="10873"/>
                  <a:pt x="6251" y="10840"/>
                </a:cubicBezTo>
                <a:cubicBezTo>
                  <a:pt x="6272" y="10723"/>
                  <a:pt x="6246" y="10600"/>
                  <a:pt x="6201" y="10492"/>
                </a:cubicBezTo>
                <a:cubicBezTo>
                  <a:pt x="6177" y="10435"/>
                  <a:pt x="6119" y="10334"/>
                  <a:pt x="6077" y="10294"/>
                </a:cubicBezTo>
                <a:cubicBezTo>
                  <a:pt x="6033" y="10253"/>
                  <a:pt x="5957" y="10269"/>
                  <a:pt x="5904" y="10269"/>
                </a:cubicBezTo>
                <a:cubicBezTo>
                  <a:pt x="5864" y="10269"/>
                  <a:pt x="5814" y="10333"/>
                  <a:pt x="5804" y="10368"/>
                </a:cubicBezTo>
                <a:cubicBezTo>
                  <a:pt x="5790" y="10422"/>
                  <a:pt x="5806" y="10522"/>
                  <a:pt x="5829" y="10567"/>
                </a:cubicBezTo>
                <a:cubicBezTo>
                  <a:pt x="5854" y="10617"/>
                  <a:pt x="5894" y="10672"/>
                  <a:pt x="5928" y="10716"/>
                </a:cubicBezTo>
              </a:path>
              <a:path w="1316" h="1093">
                <a:moveTo>
                  <a:pt x="6548" y="10145"/>
                </a:moveTo>
                <a:cubicBezTo>
                  <a:pt x="6605" y="10234"/>
                  <a:pt x="6660" y="10319"/>
                  <a:pt x="6697" y="10418"/>
                </a:cubicBezTo>
                <a:cubicBezTo>
                  <a:pt x="6738" y="10528"/>
                  <a:pt x="6768" y="10623"/>
                  <a:pt x="6772" y="10740"/>
                </a:cubicBezTo>
                <a:cubicBezTo>
                  <a:pt x="6776" y="10845"/>
                  <a:pt x="6764" y="10917"/>
                  <a:pt x="6722" y="11013"/>
                </a:cubicBezTo>
                <a:cubicBezTo>
                  <a:pt x="6688" y="11091"/>
                  <a:pt x="6643" y="11139"/>
                  <a:pt x="6573" y="11187"/>
                </a:cubicBezTo>
                <a:cubicBezTo>
                  <a:pt x="6557" y="11195"/>
                  <a:pt x="6540" y="11204"/>
                  <a:pt x="6524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Ink 12"/>
          <p:cNvSpPr/>
          <p:nvPr/>
        </p:nvSpPr>
        <p:spPr>
          <a:xfrm>
            <a:off x="3143160" y="1187280"/>
            <a:ext cx="277920" cy="544680"/>
          </a:xfrm>
          <a:custGeom>
            <a:avLst/>
            <a:gdLst/>
            <a:ahLst/>
            <a:rect l="l" t="t" r="r" b="b"/>
            <a:pathLst>
              <a:path w="770" h="1514">
                <a:moveTo>
                  <a:pt x="8905" y="3597"/>
                </a:moveTo>
                <a:cubicBezTo>
                  <a:pt x="8905" y="3774"/>
                  <a:pt x="8899" y="3946"/>
                  <a:pt x="8880" y="4118"/>
                </a:cubicBezTo>
                <a:cubicBezTo>
                  <a:pt x="8870" y="4208"/>
                  <a:pt x="8892" y="4284"/>
                  <a:pt x="8905" y="4366"/>
                </a:cubicBezTo>
                <a:cubicBezTo>
                  <a:pt x="8918" y="4448"/>
                  <a:pt x="8899" y="4507"/>
                  <a:pt x="8930" y="4589"/>
                </a:cubicBezTo>
                <a:cubicBezTo>
                  <a:pt x="8947" y="4634"/>
                  <a:pt x="8970" y="4667"/>
                  <a:pt x="8979" y="4713"/>
                </a:cubicBezTo>
              </a:path>
              <a:path w="770" h="1514">
                <a:moveTo>
                  <a:pt x="8731" y="4539"/>
                </a:moveTo>
                <a:cubicBezTo>
                  <a:pt x="8761" y="4588"/>
                  <a:pt x="8762" y="4618"/>
                  <a:pt x="8806" y="4663"/>
                </a:cubicBezTo>
                <a:cubicBezTo>
                  <a:pt x="8855" y="4713"/>
                  <a:pt x="8905" y="4762"/>
                  <a:pt x="8954" y="4812"/>
                </a:cubicBezTo>
                <a:cubicBezTo>
                  <a:pt x="8992" y="4774"/>
                  <a:pt x="9027" y="4733"/>
                  <a:pt x="9054" y="4688"/>
                </a:cubicBezTo>
                <a:cubicBezTo>
                  <a:pt x="9085" y="4637"/>
                  <a:pt x="9111" y="4606"/>
                  <a:pt x="9153" y="4564"/>
                </a:cubicBezTo>
                <a:cubicBezTo>
                  <a:pt x="9176" y="4541"/>
                  <a:pt x="9184" y="4537"/>
                  <a:pt x="9178" y="4514"/>
                </a:cubicBezTo>
              </a:path>
              <a:path w="770" h="1514">
                <a:moveTo>
                  <a:pt x="9128" y="3299"/>
                </a:moveTo>
                <a:cubicBezTo>
                  <a:pt x="9128" y="3420"/>
                  <a:pt x="9122" y="3532"/>
                  <a:pt x="9103" y="3646"/>
                </a:cubicBezTo>
                <a:cubicBezTo>
                  <a:pt x="9093" y="3703"/>
                  <a:pt x="9094" y="3777"/>
                  <a:pt x="9128" y="3820"/>
                </a:cubicBezTo>
                <a:cubicBezTo>
                  <a:pt x="9136" y="3828"/>
                  <a:pt x="9145" y="3837"/>
                  <a:pt x="9153" y="3845"/>
                </a:cubicBezTo>
                <a:cubicBezTo>
                  <a:pt x="9183" y="3815"/>
                  <a:pt x="9229" y="3782"/>
                  <a:pt x="9252" y="3746"/>
                </a:cubicBezTo>
                <a:cubicBezTo>
                  <a:pt x="9278" y="3706"/>
                  <a:pt x="9302" y="3589"/>
                  <a:pt x="9351" y="3572"/>
                </a:cubicBezTo>
                <a:cubicBezTo>
                  <a:pt x="9425" y="3546"/>
                  <a:pt x="9456" y="3646"/>
                  <a:pt x="9475" y="3696"/>
                </a:cubicBezTo>
                <a:cubicBezTo>
                  <a:pt x="9495" y="3747"/>
                  <a:pt x="9503" y="3848"/>
                  <a:pt x="9426" y="3870"/>
                </a:cubicBezTo>
                <a:cubicBezTo>
                  <a:pt x="9373" y="3885"/>
                  <a:pt x="9304" y="3874"/>
                  <a:pt x="9252" y="3894"/>
                </a:cubicBezTo>
                <a:cubicBezTo>
                  <a:pt x="9244" y="3902"/>
                  <a:pt x="9235" y="3911"/>
                  <a:pt x="9227" y="39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Ink 13"/>
          <p:cNvSpPr/>
          <p:nvPr/>
        </p:nvSpPr>
        <p:spPr>
          <a:xfrm>
            <a:off x="3821040" y="1108080"/>
            <a:ext cx="509760" cy="588960"/>
          </a:xfrm>
          <a:custGeom>
            <a:avLst/>
            <a:gdLst/>
            <a:ahLst/>
            <a:rect l="l" t="t" r="r" b="b"/>
            <a:pathLst>
              <a:path w="1415" h="1638">
                <a:moveTo>
                  <a:pt x="11410" y="3473"/>
                </a:moveTo>
                <a:cubicBezTo>
                  <a:pt x="11466" y="3454"/>
                  <a:pt x="11435" y="3549"/>
                  <a:pt x="11435" y="3621"/>
                </a:cubicBezTo>
                <a:cubicBezTo>
                  <a:pt x="11435" y="3750"/>
                  <a:pt x="11445" y="3872"/>
                  <a:pt x="11460" y="3994"/>
                </a:cubicBezTo>
                <a:cubicBezTo>
                  <a:pt x="11473" y="4095"/>
                  <a:pt x="11493" y="4199"/>
                  <a:pt x="11534" y="4291"/>
                </a:cubicBezTo>
                <a:cubicBezTo>
                  <a:pt x="11554" y="4336"/>
                  <a:pt x="11639" y="4466"/>
                  <a:pt x="11633" y="4514"/>
                </a:cubicBezTo>
                <a:cubicBezTo>
                  <a:pt x="11625" y="4514"/>
                  <a:pt x="11617" y="4514"/>
                  <a:pt x="11609" y="4514"/>
                </a:cubicBezTo>
              </a:path>
              <a:path w="1415" h="1638">
                <a:moveTo>
                  <a:pt x="11311" y="4415"/>
                </a:moveTo>
                <a:cubicBezTo>
                  <a:pt x="11351" y="4455"/>
                  <a:pt x="11373" y="4498"/>
                  <a:pt x="11410" y="4539"/>
                </a:cubicBezTo>
                <a:cubicBezTo>
                  <a:pt x="11445" y="4578"/>
                  <a:pt x="11552" y="4716"/>
                  <a:pt x="11609" y="4713"/>
                </a:cubicBezTo>
                <a:cubicBezTo>
                  <a:pt x="11673" y="4709"/>
                  <a:pt x="11702" y="4607"/>
                  <a:pt x="11733" y="4564"/>
                </a:cubicBezTo>
                <a:cubicBezTo>
                  <a:pt x="11764" y="4522"/>
                  <a:pt x="11836" y="4489"/>
                  <a:pt x="11881" y="4465"/>
                </a:cubicBezTo>
                <a:cubicBezTo>
                  <a:pt x="11938" y="4435"/>
                  <a:pt x="12004" y="4417"/>
                  <a:pt x="12030" y="4366"/>
                </a:cubicBezTo>
              </a:path>
              <a:path w="1415" h="1638">
                <a:moveTo>
                  <a:pt x="10964" y="3225"/>
                </a:moveTo>
                <a:cubicBezTo>
                  <a:pt x="10942" y="3197"/>
                  <a:pt x="10893" y="3091"/>
                  <a:pt x="10864" y="3076"/>
                </a:cubicBezTo>
                <a:cubicBezTo>
                  <a:pt x="10809" y="3049"/>
                  <a:pt x="10732" y="3094"/>
                  <a:pt x="10691" y="3125"/>
                </a:cubicBezTo>
                <a:cubicBezTo>
                  <a:pt x="10644" y="3160"/>
                  <a:pt x="10601" y="3242"/>
                  <a:pt x="10616" y="3299"/>
                </a:cubicBezTo>
                <a:cubicBezTo>
                  <a:pt x="10626" y="3336"/>
                  <a:pt x="10732" y="3415"/>
                  <a:pt x="10765" y="3423"/>
                </a:cubicBezTo>
                <a:cubicBezTo>
                  <a:pt x="10829" y="3438"/>
                  <a:pt x="10900" y="3462"/>
                  <a:pt x="10964" y="3473"/>
                </a:cubicBezTo>
                <a:cubicBezTo>
                  <a:pt x="11034" y="3485"/>
                  <a:pt x="11099" y="3472"/>
                  <a:pt x="11162" y="34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Ink 14"/>
          <p:cNvSpPr/>
          <p:nvPr/>
        </p:nvSpPr>
        <p:spPr>
          <a:xfrm>
            <a:off x="5545080" y="2089080"/>
            <a:ext cx="1482840" cy="2714760"/>
          </a:xfrm>
          <a:custGeom>
            <a:avLst/>
            <a:gdLst/>
            <a:ahLst/>
            <a:rect l="l" t="t" r="r" b="b"/>
            <a:pathLst>
              <a:path w="4118" h="7542">
                <a:moveTo>
                  <a:pt x="17363" y="11534"/>
                </a:moveTo>
                <a:cubicBezTo>
                  <a:pt x="17402" y="11470"/>
                  <a:pt x="17399" y="11425"/>
                  <a:pt x="17314" y="11460"/>
                </a:cubicBezTo>
                <a:cubicBezTo>
                  <a:pt x="17313" y="11460"/>
                  <a:pt x="17159" y="11570"/>
                  <a:pt x="17239" y="11559"/>
                </a:cubicBezTo>
                <a:cubicBezTo>
                  <a:pt x="17281" y="11553"/>
                  <a:pt x="17328" y="11519"/>
                  <a:pt x="17363" y="11485"/>
                </a:cubicBezTo>
                <a:cubicBezTo>
                  <a:pt x="17410" y="11439"/>
                  <a:pt x="17438" y="11351"/>
                  <a:pt x="17338" y="11410"/>
                </a:cubicBezTo>
                <a:cubicBezTo>
                  <a:pt x="17273" y="11448"/>
                  <a:pt x="17271" y="11493"/>
                  <a:pt x="17264" y="11559"/>
                </a:cubicBezTo>
                <a:cubicBezTo>
                  <a:pt x="17276" y="11645"/>
                  <a:pt x="17297" y="11644"/>
                  <a:pt x="17363" y="11584"/>
                </a:cubicBezTo>
                <a:cubicBezTo>
                  <a:pt x="17384" y="11565"/>
                  <a:pt x="17419" y="11435"/>
                  <a:pt x="17363" y="11435"/>
                </a:cubicBezTo>
                <a:cubicBezTo>
                  <a:pt x="17338" y="11435"/>
                  <a:pt x="17247" y="11507"/>
                  <a:pt x="17239" y="11534"/>
                </a:cubicBezTo>
                <a:cubicBezTo>
                  <a:pt x="17212" y="11626"/>
                  <a:pt x="17294" y="11611"/>
                  <a:pt x="17338" y="11584"/>
                </a:cubicBezTo>
                <a:cubicBezTo>
                  <a:pt x="17385" y="11557"/>
                  <a:pt x="17467" y="11502"/>
                  <a:pt x="17462" y="11435"/>
                </a:cubicBezTo>
                <a:cubicBezTo>
                  <a:pt x="17457" y="11371"/>
                  <a:pt x="17330" y="11473"/>
                  <a:pt x="17314" y="11485"/>
                </a:cubicBezTo>
                <a:cubicBezTo>
                  <a:pt x="17274" y="11515"/>
                  <a:pt x="17226" y="11555"/>
                  <a:pt x="17239" y="11609"/>
                </a:cubicBezTo>
                <a:cubicBezTo>
                  <a:pt x="17247" y="11625"/>
                  <a:pt x="17256" y="11642"/>
                  <a:pt x="17264" y="11658"/>
                </a:cubicBezTo>
                <a:cubicBezTo>
                  <a:pt x="17307" y="11624"/>
                  <a:pt x="17349" y="11598"/>
                  <a:pt x="17388" y="11559"/>
                </a:cubicBezTo>
                <a:cubicBezTo>
                  <a:pt x="17414" y="11533"/>
                  <a:pt x="17424" y="11428"/>
                  <a:pt x="17363" y="11435"/>
                </a:cubicBezTo>
                <a:cubicBezTo>
                  <a:pt x="17274" y="11445"/>
                  <a:pt x="17219" y="11526"/>
                  <a:pt x="17214" y="11609"/>
                </a:cubicBezTo>
                <a:cubicBezTo>
                  <a:pt x="17210" y="11687"/>
                  <a:pt x="17252" y="11658"/>
                  <a:pt x="17314" y="11658"/>
                </a:cubicBezTo>
                <a:cubicBezTo>
                  <a:pt x="17386" y="11647"/>
                  <a:pt x="17408" y="11637"/>
                  <a:pt x="17413" y="11559"/>
                </a:cubicBezTo>
                <a:cubicBezTo>
                  <a:pt x="17418" y="11470"/>
                  <a:pt x="17356" y="11468"/>
                  <a:pt x="17289" y="11509"/>
                </a:cubicBezTo>
                <a:cubicBezTo>
                  <a:pt x="17254" y="11531"/>
                  <a:pt x="17197" y="11608"/>
                  <a:pt x="17264" y="11633"/>
                </a:cubicBezTo>
                <a:cubicBezTo>
                  <a:pt x="17300" y="11646"/>
                  <a:pt x="17421" y="11592"/>
                  <a:pt x="17438" y="11559"/>
                </a:cubicBezTo>
                <a:cubicBezTo>
                  <a:pt x="17438" y="11509"/>
                  <a:pt x="17438" y="11493"/>
                  <a:pt x="17438" y="11460"/>
                </a:cubicBezTo>
                <a:cubicBezTo>
                  <a:pt x="17417" y="11396"/>
                  <a:pt x="17384" y="11388"/>
                  <a:pt x="17338" y="11460"/>
                </a:cubicBezTo>
                <a:cubicBezTo>
                  <a:pt x="17307" y="11508"/>
                  <a:pt x="17258" y="11544"/>
                  <a:pt x="17289" y="11584"/>
                </a:cubicBezTo>
                <a:cubicBezTo>
                  <a:pt x="17297" y="11592"/>
                  <a:pt x="17306" y="11601"/>
                  <a:pt x="17314" y="11609"/>
                </a:cubicBezTo>
                <a:cubicBezTo>
                  <a:pt x="17355" y="11594"/>
                  <a:pt x="17447" y="11588"/>
                  <a:pt x="17462" y="11534"/>
                </a:cubicBezTo>
                <a:cubicBezTo>
                  <a:pt x="17477" y="11481"/>
                  <a:pt x="17470" y="11382"/>
                  <a:pt x="17388" y="11410"/>
                </a:cubicBezTo>
                <a:cubicBezTo>
                  <a:pt x="17355" y="11421"/>
                  <a:pt x="17290" y="11486"/>
                  <a:pt x="17264" y="11509"/>
                </a:cubicBezTo>
                <a:cubicBezTo>
                  <a:pt x="17224" y="11544"/>
                  <a:pt x="17290" y="11533"/>
                  <a:pt x="17338" y="11509"/>
                </a:cubicBezTo>
              </a:path>
              <a:path w="4118" h="7542">
                <a:moveTo>
                  <a:pt x="18504" y="9327"/>
                </a:moveTo>
                <a:cubicBezTo>
                  <a:pt x="18590" y="9290"/>
                  <a:pt x="18568" y="9326"/>
                  <a:pt x="18579" y="9227"/>
                </a:cubicBezTo>
                <a:cubicBezTo>
                  <a:pt x="18551" y="9245"/>
                  <a:pt x="18393" y="9326"/>
                  <a:pt x="18479" y="9376"/>
                </a:cubicBezTo>
                <a:cubicBezTo>
                  <a:pt x="18501" y="9388"/>
                  <a:pt x="18652" y="9306"/>
                  <a:pt x="18653" y="9302"/>
                </a:cubicBezTo>
                <a:cubicBezTo>
                  <a:pt x="18653" y="9277"/>
                  <a:pt x="18653" y="9252"/>
                  <a:pt x="18653" y="9227"/>
                </a:cubicBezTo>
                <a:cubicBezTo>
                  <a:pt x="18558" y="9227"/>
                  <a:pt x="18556" y="9260"/>
                  <a:pt x="18479" y="9302"/>
                </a:cubicBezTo>
                <a:cubicBezTo>
                  <a:pt x="18418" y="9335"/>
                  <a:pt x="18421" y="9366"/>
                  <a:pt x="18504" y="9376"/>
                </a:cubicBezTo>
                <a:cubicBezTo>
                  <a:pt x="18573" y="9384"/>
                  <a:pt x="18568" y="9357"/>
                  <a:pt x="18579" y="9302"/>
                </a:cubicBezTo>
                <a:cubicBezTo>
                  <a:pt x="18531" y="9263"/>
                  <a:pt x="18400" y="9299"/>
                  <a:pt x="18455" y="9327"/>
                </a:cubicBezTo>
                <a:cubicBezTo>
                  <a:pt x="18496" y="9327"/>
                  <a:pt x="18504" y="9327"/>
                  <a:pt x="18529" y="9327"/>
                </a:cubicBezTo>
              </a:path>
              <a:path w="4118" h="7542">
                <a:moveTo>
                  <a:pt x="16321" y="9302"/>
                </a:moveTo>
                <a:cubicBezTo>
                  <a:pt x="16329" y="9229"/>
                  <a:pt x="16313" y="9173"/>
                  <a:pt x="16197" y="9227"/>
                </a:cubicBezTo>
                <a:cubicBezTo>
                  <a:pt x="16168" y="9257"/>
                  <a:pt x="16157" y="9272"/>
                  <a:pt x="16148" y="9302"/>
                </a:cubicBezTo>
                <a:cubicBezTo>
                  <a:pt x="16168" y="9333"/>
                  <a:pt x="16242" y="9339"/>
                  <a:pt x="16297" y="9327"/>
                </a:cubicBezTo>
                <a:cubicBezTo>
                  <a:pt x="16419" y="9300"/>
                  <a:pt x="16441" y="9253"/>
                  <a:pt x="16421" y="9153"/>
                </a:cubicBezTo>
                <a:cubicBezTo>
                  <a:pt x="16302" y="9153"/>
                  <a:pt x="16292" y="9176"/>
                  <a:pt x="16197" y="9227"/>
                </a:cubicBezTo>
                <a:cubicBezTo>
                  <a:pt x="16146" y="9254"/>
                  <a:pt x="16158" y="9230"/>
                  <a:pt x="16148" y="9302"/>
                </a:cubicBezTo>
                <a:cubicBezTo>
                  <a:pt x="16205" y="9373"/>
                  <a:pt x="16194" y="9372"/>
                  <a:pt x="16272" y="9327"/>
                </a:cubicBezTo>
                <a:cubicBezTo>
                  <a:pt x="16331" y="9293"/>
                  <a:pt x="16355" y="9306"/>
                  <a:pt x="16371" y="9227"/>
                </a:cubicBezTo>
                <a:cubicBezTo>
                  <a:pt x="16337" y="9193"/>
                  <a:pt x="16308" y="9203"/>
                  <a:pt x="16222" y="9227"/>
                </a:cubicBezTo>
                <a:cubicBezTo>
                  <a:pt x="16175" y="9240"/>
                  <a:pt x="16135" y="9282"/>
                  <a:pt x="16098" y="9302"/>
                </a:cubicBezTo>
                <a:cubicBezTo>
                  <a:pt x="15990" y="9362"/>
                  <a:pt x="16081" y="9376"/>
                  <a:pt x="16148" y="9376"/>
                </a:cubicBezTo>
                <a:cubicBezTo>
                  <a:pt x="16164" y="9376"/>
                  <a:pt x="16181" y="9376"/>
                  <a:pt x="16197" y="9376"/>
                </a:cubicBezTo>
              </a:path>
              <a:path w="4118" h="7542">
                <a:moveTo>
                  <a:pt x="15553" y="6052"/>
                </a:moveTo>
                <a:lnTo>
                  <a:pt x="15553" y="6052"/>
                </a:lnTo>
              </a:path>
              <a:path w="4118" h="7542">
                <a:moveTo>
                  <a:pt x="15553" y="6052"/>
                </a:moveTo>
                <a:cubicBezTo>
                  <a:pt x="15561" y="6077"/>
                  <a:pt x="15569" y="6102"/>
                  <a:pt x="15577" y="6127"/>
                </a:cubicBezTo>
              </a:path>
              <a:path w="4118" h="7542">
                <a:moveTo>
                  <a:pt x="15577" y="6127"/>
                </a:moveTo>
                <a:cubicBezTo>
                  <a:pt x="15585" y="6200"/>
                  <a:pt x="15600" y="6270"/>
                  <a:pt x="15602" y="6350"/>
                </a:cubicBezTo>
                <a:cubicBezTo>
                  <a:pt x="15607" y="6612"/>
                  <a:pt x="15642" y="6887"/>
                  <a:pt x="15627" y="7144"/>
                </a:cubicBezTo>
                <a:cubicBezTo>
                  <a:pt x="15622" y="7230"/>
                  <a:pt x="15596" y="7320"/>
                  <a:pt x="15602" y="7417"/>
                </a:cubicBezTo>
                <a:cubicBezTo>
                  <a:pt x="15607" y="7486"/>
                  <a:pt x="15618" y="7527"/>
                  <a:pt x="15627" y="7590"/>
                </a:cubicBezTo>
                <a:cubicBezTo>
                  <a:pt x="15638" y="7670"/>
                  <a:pt x="15664" y="7740"/>
                  <a:pt x="15677" y="7813"/>
                </a:cubicBezTo>
                <a:cubicBezTo>
                  <a:pt x="15695" y="7912"/>
                  <a:pt x="15709" y="8012"/>
                  <a:pt x="15726" y="8111"/>
                </a:cubicBezTo>
                <a:cubicBezTo>
                  <a:pt x="15738" y="8180"/>
                  <a:pt x="15763" y="8242"/>
                  <a:pt x="15776" y="8310"/>
                </a:cubicBezTo>
                <a:cubicBezTo>
                  <a:pt x="15792" y="8392"/>
                  <a:pt x="15781" y="8409"/>
                  <a:pt x="15801" y="8483"/>
                </a:cubicBezTo>
                <a:cubicBezTo>
                  <a:pt x="15816" y="8537"/>
                  <a:pt x="15863" y="8605"/>
                  <a:pt x="15875" y="8657"/>
                </a:cubicBezTo>
                <a:cubicBezTo>
                  <a:pt x="15891" y="8726"/>
                  <a:pt x="15883" y="8790"/>
                  <a:pt x="15900" y="8855"/>
                </a:cubicBezTo>
                <a:cubicBezTo>
                  <a:pt x="15913" y="8907"/>
                  <a:pt x="15929" y="8981"/>
                  <a:pt x="15949" y="9029"/>
                </a:cubicBezTo>
                <a:cubicBezTo>
                  <a:pt x="15963" y="9062"/>
                  <a:pt x="16020" y="9143"/>
                  <a:pt x="16024" y="9153"/>
                </a:cubicBezTo>
                <a:cubicBezTo>
                  <a:pt x="16046" y="9209"/>
                  <a:pt x="16074" y="9262"/>
                  <a:pt x="16098" y="9327"/>
                </a:cubicBezTo>
                <a:cubicBezTo>
                  <a:pt x="16116" y="9378"/>
                  <a:pt x="16125" y="9450"/>
                  <a:pt x="16148" y="9500"/>
                </a:cubicBezTo>
                <a:cubicBezTo>
                  <a:pt x="16168" y="9543"/>
                  <a:pt x="16200" y="9584"/>
                  <a:pt x="16222" y="9624"/>
                </a:cubicBezTo>
                <a:cubicBezTo>
                  <a:pt x="16257" y="9687"/>
                  <a:pt x="16285" y="9762"/>
                  <a:pt x="16321" y="9823"/>
                </a:cubicBezTo>
                <a:cubicBezTo>
                  <a:pt x="16336" y="9848"/>
                  <a:pt x="16397" y="9923"/>
                  <a:pt x="16421" y="9971"/>
                </a:cubicBezTo>
                <a:cubicBezTo>
                  <a:pt x="16449" y="10025"/>
                  <a:pt x="16496" y="10091"/>
                  <a:pt x="16520" y="10145"/>
                </a:cubicBezTo>
                <a:cubicBezTo>
                  <a:pt x="16545" y="10201"/>
                  <a:pt x="16573" y="10279"/>
                  <a:pt x="16594" y="10344"/>
                </a:cubicBezTo>
                <a:cubicBezTo>
                  <a:pt x="16608" y="10387"/>
                  <a:pt x="16640" y="10480"/>
                  <a:pt x="16644" y="10492"/>
                </a:cubicBezTo>
                <a:cubicBezTo>
                  <a:pt x="16673" y="10575"/>
                  <a:pt x="16690" y="10655"/>
                  <a:pt x="16718" y="10740"/>
                </a:cubicBezTo>
                <a:cubicBezTo>
                  <a:pt x="16735" y="10793"/>
                  <a:pt x="16748" y="10838"/>
                  <a:pt x="16768" y="10889"/>
                </a:cubicBezTo>
                <a:cubicBezTo>
                  <a:pt x="16795" y="10957"/>
                  <a:pt x="16836" y="11026"/>
                  <a:pt x="16867" y="11088"/>
                </a:cubicBezTo>
                <a:cubicBezTo>
                  <a:pt x="16919" y="11192"/>
                  <a:pt x="16969" y="11296"/>
                  <a:pt x="17041" y="11385"/>
                </a:cubicBezTo>
                <a:cubicBezTo>
                  <a:pt x="17094" y="11450"/>
                  <a:pt x="17140" y="11490"/>
                  <a:pt x="17214" y="11509"/>
                </a:cubicBezTo>
                <a:cubicBezTo>
                  <a:pt x="17288" y="11528"/>
                  <a:pt x="17305" y="11532"/>
                  <a:pt x="17388" y="11509"/>
                </a:cubicBezTo>
                <a:cubicBezTo>
                  <a:pt x="17454" y="11490"/>
                  <a:pt x="17505" y="11463"/>
                  <a:pt x="17562" y="11410"/>
                </a:cubicBezTo>
                <a:cubicBezTo>
                  <a:pt x="17637" y="11340"/>
                  <a:pt x="17658" y="11276"/>
                  <a:pt x="17711" y="11187"/>
                </a:cubicBezTo>
                <a:cubicBezTo>
                  <a:pt x="17746" y="11128"/>
                  <a:pt x="17760" y="11068"/>
                  <a:pt x="17785" y="11013"/>
                </a:cubicBezTo>
                <a:cubicBezTo>
                  <a:pt x="17816" y="10944"/>
                  <a:pt x="17837" y="10879"/>
                  <a:pt x="17859" y="10815"/>
                </a:cubicBezTo>
                <a:cubicBezTo>
                  <a:pt x="17887" y="10733"/>
                  <a:pt x="17934" y="10643"/>
                  <a:pt x="17959" y="10567"/>
                </a:cubicBezTo>
                <a:cubicBezTo>
                  <a:pt x="17985" y="10490"/>
                  <a:pt x="18007" y="10420"/>
                  <a:pt x="18033" y="10344"/>
                </a:cubicBezTo>
                <a:cubicBezTo>
                  <a:pt x="18057" y="10273"/>
                  <a:pt x="18083" y="10218"/>
                  <a:pt x="18107" y="10145"/>
                </a:cubicBezTo>
                <a:cubicBezTo>
                  <a:pt x="18125" y="10092"/>
                  <a:pt x="18164" y="10026"/>
                  <a:pt x="18182" y="9971"/>
                </a:cubicBezTo>
                <a:cubicBezTo>
                  <a:pt x="18214" y="9876"/>
                  <a:pt x="18228" y="9776"/>
                  <a:pt x="18256" y="9674"/>
                </a:cubicBezTo>
                <a:cubicBezTo>
                  <a:pt x="18275" y="9605"/>
                  <a:pt x="18308" y="9546"/>
                  <a:pt x="18331" y="9475"/>
                </a:cubicBezTo>
                <a:cubicBezTo>
                  <a:pt x="18357" y="9393"/>
                  <a:pt x="18386" y="9311"/>
                  <a:pt x="18405" y="9227"/>
                </a:cubicBezTo>
                <a:cubicBezTo>
                  <a:pt x="18420" y="9160"/>
                  <a:pt x="18440" y="9099"/>
                  <a:pt x="18455" y="9029"/>
                </a:cubicBezTo>
                <a:cubicBezTo>
                  <a:pt x="18473" y="8947"/>
                  <a:pt x="18489" y="8864"/>
                  <a:pt x="18504" y="8781"/>
                </a:cubicBezTo>
                <a:cubicBezTo>
                  <a:pt x="18519" y="8700"/>
                  <a:pt x="18516" y="8636"/>
                  <a:pt x="18529" y="8558"/>
                </a:cubicBezTo>
                <a:cubicBezTo>
                  <a:pt x="18542" y="8482"/>
                  <a:pt x="18564" y="8410"/>
                  <a:pt x="18579" y="8334"/>
                </a:cubicBezTo>
                <a:cubicBezTo>
                  <a:pt x="18594" y="8258"/>
                  <a:pt x="18609" y="8186"/>
                  <a:pt x="18628" y="8111"/>
                </a:cubicBezTo>
                <a:cubicBezTo>
                  <a:pt x="18650" y="8023"/>
                  <a:pt x="18662" y="7928"/>
                  <a:pt x="18678" y="7838"/>
                </a:cubicBezTo>
                <a:cubicBezTo>
                  <a:pt x="18696" y="7737"/>
                  <a:pt x="18731" y="7642"/>
                  <a:pt x="18752" y="7541"/>
                </a:cubicBezTo>
                <a:cubicBezTo>
                  <a:pt x="18781" y="7399"/>
                  <a:pt x="18808" y="7261"/>
                  <a:pt x="18852" y="7119"/>
                </a:cubicBezTo>
                <a:cubicBezTo>
                  <a:pt x="18886" y="7009"/>
                  <a:pt x="18899" y="6906"/>
                  <a:pt x="18926" y="6796"/>
                </a:cubicBezTo>
                <a:cubicBezTo>
                  <a:pt x="18990" y="6532"/>
                  <a:pt x="19116" y="6286"/>
                  <a:pt x="19174" y="6028"/>
                </a:cubicBezTo>
                <a:cubicBezTo>
                  <a:pt x="19183" y="5985"/>
                  <a:pt x="19171" y="5946"/>
                  <a:pt x="19174" y="5928"/>
                </a:cubicBezTo>
                <a:cubicBezTo>
                  <a:pt x="19139" y="5996"/>
                  <a:pt x="19117" y="6063"/>
                  <a:pt x="19075" y="6127"/>
                </a:cubicBezTo>
                <a:cubicBezTo>
                  <a:pt x="19012" y="6222"/>
                  <a:pt x="18930" y="6293"/>
                  <a:pt x="18852" y="6375"/>
                </a:cubicBezTo>
                <a:cubicBezTo>
                  <a:pt x="18884" y="6302"/>
                  <a:pt x="18875" y="6255"/>
                  <a:pt x="18926" y="6176"/>
                </a:cubicBezTo>
                <a:cubicBezTo>
                  <a:pt x="18955" y="6131"/>
                  <a:pt x="18990" y="6093"/>
                  <a:pt x="19025" y="6052"/>
                </a:cubicBezTo>
                <a:cubicBezTo>
                  <a:pt x="19077" y="5991"/>
                  <a:pt x="19094" y="5964"/>
                  <a:pt x="19174" y="5953"/>
                </a:cubicBezTo>
                <a:cubicBezTo>
                  <a:pt x="19229" y="5946"/>
                  <a:pt x="19278" y="5983"/>
                  <a:pt x="19323" y="6003"/>
                </a:cubicBezTo>
                <a:cubicBezTo>
                  <a:pt x="19346" y="6013"/>
                  <a:pt x="19421" y="6085"/>
                  <a:pt x="19447" y="6102"/>
                </a:cubicBezTo>
              </a:path>
              <a:path w="4118" h="7542">
                <a:moveTo>
                  <a:pt x="15429" y="6201"/>
                </a:moveTo>
                <a:cubicBezTo>
                  <a:pt x="15429" y="6279"/>
                  <a:pt x="15414" y="6331"/>
                  <a:pt x="15404" y="6400"/>
                </a:cubicBezTo>
                <a:cubicBezTo>
                  <a:pt x="15412" y="6344"/>
                  <a:pt x="15443" y="6301"/>
                  <a:pt x="15453" y="6251"/>
                </a:cubicBezTo>
                <a:cubicBezTo>
                  <a:pt x="15470" y="6163"/>
                  <a:pt x="15509" y="6103"/>
                  <a:pt x="15553" y="6028"/>
                </a:cubicBezTo>
                <a:cubicBezTo>
                  <a:pt x="15606" y="5938"/>
                  <a:pt x="15633" y="5901"/>
                  <a:pt x="15726" y="5854"/>
                </a:cubicBezTo>
                <a:cubicBezTo>
                  <a:pt x="15801" y="5816"/>
                  <a:pt x="15841" y="5804"/>
                  <a:pt x="15925" y="5804"/>
                </a:cubicBezTo>
                <a:cubicBezTo>
                  <a:pt x="16001" y="5804"/>
                  <a:pt x="16037" y="5843"/>
                  <a:pt x="16098" y="5879"/>
                </a:cubicBezTo>
                <a:cubicBezTo>
                  <a:pt x="16154" y="5913"/>
                  <a:pt x="16197" y="5957"/>
                  <a:pt x="16247" y="6003"/>
                </a:cubicBezTo>
                <a:cubicBezTo>
                  <a:pt x="16305" y="6057"/>
                  <a:pt x="16352" y="6116"/>
                  <a:pt x="16396" y="6176"/>
                </a:cubicBezTo>
              </a:path>
              <a:path w="4118" h="7542">
                <a:moveTo>
                  <a:pt x="17438" y="12030"/>
                </a:moveTo>
                <a:cubicBezTo>
                  <a:pt x="17391" y="12088"/>
                  <a:pt x="17350" y="12163"/>
                  <a:pt x="17314" y="12229"/>
                </a:cubicBezTo>
                <a:cubicBezTo>
                  <a:pt x="17243" y="12359"/>
                  <a:pt x="17185" y="12487"/>
                  <a:pt x="17140" y="12626"/>
                </a:cubicBezTo>
                <a:cubicBezTo>
                  <a:pt x="17103" y="12741"/>
                  <a:pt x="17079" y="12808"/>
                  <a:pt x="17115" y="12923"/>
                </a:cubicBezTo>
                <a:cubicBezTo>
                  <a:pt x="17141" y="13007"/>
                  <a:pt x="17164" y="13032"/>
                  <a:pt x="17239" y="13072"/>
                </a:cubicBezTo>
                <a:cubicBezTo>
                  <a:pt x="17280" y="13092"/>
                  <a:pt x="17286" y="13101"/>
                  <a:pt x="17314" y="13097"/>
                </a:cubicBezTo>
              </a:path>
              <a:path w="4118" h="7542">
                <a:moveTo>
                  <a:pt x="17686" y="12551"/>
                </a:moveTo>
                <a:cubicBezTo>
                  <a:pt x="17774" y="12527"/>
                  <a:pt x="17839" y="12562"/>
                  <a:pt x="17909" y="12551"/>
                </a:cubicBezTo>
                <a:cubicBezTo>
                  <a:pt x="17917" y="12543"/>
                  <a:pt x="17926" y="12534"/>
                  <a:pt x="17934" y="12526"/>
                </a:cubicBezTo>
              </a:path>
              <a:path w="4118" h="7542">
                <a:moveTo>
                  <a:pt x="18207" y="12179"/>
                </a:moveTo>
                <a:cubicBezTo>
                  <a:pt x="18232" y="12274"/>
                  <a:pt x="18231" y="12353"/>
                  <a:pt x="18231" y="12452"/>
                </a:cubicBezTo>
                <a:cubicBezTo>
                  <a:pt x="18231" y="12542"/>
                  <a:pt x="18226" y="12638"/>
                  <a:pt x="18207" y="12725"/>
                </a:cubicBezTo>
                <a:cubicBezTo>
                  <a:pt x="18189" y="12807"/>
                  <a:pt x="18168" y="12808"/>
                  <a:pt x="18207" y="12874"/>
                </a:cubicBezTo>
              </a:path>
              <a:path w="4118" h="7542">
                <a:moveTo>
                  <a:pt x="18430" y="12675"/>
                </a:moveTo>
                <a:cubicBezTo>
                  <a:pt x="18424" y="12764"/>
                  <a:pt x="18405" y="12834"/>
                  <a:pt x="18405" y="12923"/>
                </a:cubicBezTo>
                <a:cubicBezTo>
                  <a:pt x="18405" y="12964"/>
                  <a:pt x="18405" y="13006"/>
                  <a:pt x="18405" y="13047"/>
                </a:cubicBezTo>
              </a:path>
              <a:path w="4118" h="7542">
                <a:moveTo>
                  <a:pt x="18802" y="12254"/>
                </a:moveTo>
                <a:cubicBezTo>
                  <a:pt x="18792" y="12333"/>
                  <a:pt x="18777" y="12393"/>
                  <a:pt x="18777" y="12477"/>
                </a:cubicBezTo>
                <a:cubicBezTo>
                  <a:pt x="18777" y="12570"/>
                  <a:pt x="18763" y="12672"/>
                  <a:pt x="18802" y="12750"/>
                </a:cubicBezTo>
                <a:cubicBezTo>
                  <a:pt x="18838" y="12820"/>
                  <a:pt x="18891" y="12855"/>
                  <a:pt x="18976" y="12824"/>
                </a:cubicBezTo>
                <a:cubicBezTo>
                  <a:pt x="19012" y="12811"/>
                  <a:pt x="19067" y="12685"/>
                  <a:pt x="19075" y="12650"/>
                </a:cubicBezTo>
                <a:cubicBezTo>
                  <a:pt x="19098" y="12548"/>
                  <a:pt x="19045" y="12509"/>
                  <a:pt x="19025" y="12427"/>
                </a:cubicBezTo>
                <a:cubicBezTo>
                  <a:pt x="19008" y="12356"/>
                  <a:pt x="18989" y="12317"/>
                  <a:pt x="18951" y="12254"/>
                </a:cubicBezTo>
                <a:cubicBezTo>
                  <a:pt x="18910" y="12186"/>
                  <a:pt x="18889" y="12175"/>
                  <a:pt x="18827" y="12129"/>
                </a:cubicBezTo>
                <a:cubicBezTo>
                  <a:pt x="18819" y="12121"/>
                  <a:pt x="18810" y="12113"/>
                  <a:pt x="18802" y="12105"/>
                </a:cubicBezTo>
              </a:path>
              <a:path w="4118" h="7542">
                <a:moveTo>
                  <a:pt x="19273" y="11981"/>
                </a:moveTo>
                <a:cubicBezTo>
                  <a:pt x="19352" y="12029"/>
                  <a:pt x="19429" y="12092"/>
                  <a:pt x="19472" y="12179"/>
                </a:cubicBezTo>
                <a:cubicBezTo>
                  <a:pt x="19523" y="12283"/>
                  <a:pt x="19535" y="12412"/>
                  <a:pt x="19521" y="12526"/>
                </a:cubicBezTo>
                <a:cubicBezTo>
                  <a:pt x="19498" y="12715"/>
                  <a:pt x="19432" y="12892"/>
                  <a:pt x="19372" y="13072"/>
                </a:cubicBezTo>
                <a:cubicBezTo>
                  <a:pt x="19325" y="13214"/>
                  <a:pt x="19312" y="13256"/>
                  <a:pt x="19273" y="133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F(x) = x</a:t>
            </a:r>
            <a:r>
              <a:rPr b="0" lang="en-US" sz="44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 – 7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2" descr="handygraph1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6419880"/>
          </a:xfrm>
          <a:prstGeom prst="rect">
            <a:avLst/>
          </a:prstGeom>
          <a:ln w="0">
            <a:noFill/>
          </a:ln>
        </p:spPr>
      </p:pic>
      <p:sp>
        <p:nvSpPr>
          <p:cNvPr id="406" name="Ink 5"/>
          <p:cNvSpPr/>
          <p:nvPr/>
        </p:nvSpPr>
        <p:spPr>
          <a:xfrm>
            <a:off x="2741760" y="857160"/>
            <a:ext cx="1724040" cy="893880"/>
          </a:xfrm>
          <a:custGeom>
            <a:avLst/>
            <a:gdLst/>
            <a:ahLst/>
            <a:rect l="l" t="t" r="r" b="b"/>
            <a:pathLst>
              <a:path w="4788" h="2482">
                <a:moveTo>
                  <a:pt x="7615" y="3051"/>
                </a:moveTo>
                <a:cubicBezTo>
                  <a:pt x="7663" y="3111"/>
                  <a:pt x="7651" y="3163"/>
                  <a:pt x="7689" y="3225"/>
                </a:cubicBezTo>
                <a:cubicBezTo>
                  <a:pt x="7722" y="3278"/>
                  <a:pt x="7719" y="3338"/>
                  <a:pt x="7739" y="3398"/>
                </a:cubicBezTo>
                <a:cubicBezTo>
                  <a:pt x="7761" y="3463"/>
                  <a:pt x="7779" y="3456"/>
                  <a:pt x="7789" y="3522"/>
                </a:cubicBezTo>
                <a:cubicBezTo>
                  <a:pt x="7869" y="3464"/>
                  <a:pt x="7851" y="3428"/>
                  <a:pt x="7888" y="3349"/>
                </a:cubicBezTo>
                <a:cubicBezTo>
                  <a:pt x="7914" y="3294"/>
                  <a:pt x="7940" y="3264"/>
                  <a:pt x="7962" y="3200"/>
                </a:cubicBezTo>
                <a:cubicBezTo>
                  <a:pt x="7987" y="3128"/>
                  <a:pt x="8020" y="3043"/>
                  <a:pt x="8062" y="2977"/>
                </a:cubicBezTo>
                <a:cubicBezTo>
                  <a:pt x="8070" y="2969"/>
                  <a:pt x="8078" y="2960"/>
                  <a:pt x="8086" y="2952"/>
                </a:cubicBezTo>
              </a:path>
              <a:path w="4788" h="2482">
                <a:moveTo>
                  <a:pt x="8161" y="3373"/>
                </a:moveTo>
                <a:cubicBezTo>
                  <a:pt x="8231" y="3364"/>
                  <a:pt x="8280" y="3348"/>
                  <a:pt x="8334" y="3299"/>
                </a:cubicBezTo>
                <a:cubicBezTo>
                  <a:pt x="8380" y="3257"/>
                  <a:pt x="8406" y="3207"/>
                  <a:pt x="8409" y="3150"/>
                </a:cubicBezTo>
                <a:cubicBezTo>
                  <a:pt x="8413" y="3082"/>
                  <a:pt x="8410" y="2995"/>
                  <a:pt x="8310" y="3026"/>
                </a:cubicBezTo>
                <a:cubicBezTo>
                  <a:pt x="8236" y="3049"/>
                  <a:pt x="8255" y="3152"/>
                  <a:pt x="8235" y="3200"/>
                </a:cubicBezTo>
                <a:cubicBezTo>
                  <a:pt x="8209" y="3261"/>
                  <a:pt x="8193" y="3348"/>
                  <a:pt x="8210" y="3423"/>
                </a:cubicBezTo>
                <a:cubicBezTo>
                  <a:pt x="8222" y="3476"/>
                  <a:pt x="8297" y="3568"/>
                  <a:pt x="8359" y="3547"/>
                </a:cubicBezTo>
                <a:cubicBezTo>
                  <a:pt x="8381" y="3540"/>
                  <a:pt x="8417" y="3490"/>
                  <a:pt x="8434" y="3473"/>
                </a:cubicBezTo>
              </a:path>
              <a:path w="4788" h="2482">
                <a:moveTo>
                  <a:pt x="8533" y="3200"/>
                </a:moveTo>
                <a:cubicBezTo>
                  <a:pt x="8533" y="3282"/>
                  <a:pt x="8544" y="3355"/>
                  <a:pt x="8558" y="3423"/>
                </a:cubicBezTo>
                <a:cubicBezTo>
                  <a:pt x="8558" y="3468"/>
                  <a:pt x="8554" y="3481"/>
                  <a:pt x="8582" y="3497"/>
                </a:cubicBezTo>
                <a:cubicBezTo>
                  <a:pt x="8575" y="3429"/>
                  <a:pt x="8541" y="3355"/>
                  <a:pt x="8533" y="3299"/>
                </a:cubicBezTo>
                <a:cubicBezTo>
                  <a:pt x="8518" y="3200"/>
                  <a:pt x="8568" y="3120"/>
                  <a:pt x="8632" y="3051"/>
                </a:cubicBezTo>
                <a:cubicBezTo>
                  <a:pt x="8688" y="2991"/>
                  <a:pt x="8733" y="2963"/>
                  <a:pt x="8806" y="2927"/>
                </a:cubicBezTo>
              </a:path>
              <a:path w="4788" h="2482">
                <a:moveTo>
                  <a:pt x="8930" y="2927"/>
                </a:moveTo>
                <a:cubicBezTo>
                  <a:pt x="8944" y="3014"/>
                  <a:pt x="8930" y="3141"/>
                  <a:pt x="8954" y="3225"/>
                </a:cubicBezTo>
                <a:cubicBezTo>
                  <a:pt x="8973" y="3293"/>
                  <a:pt x="8998" y="3351"/>
                  <a:pt x="9004" y="3423"/>
                </a:cubicBezTo>
                <a:cubicBezTo>
                  <a:pt x="9004" y="3431"/>
                  <a:pt x="9004" y="3440"/>
                  <a:pt x="9004" y="3448"/>
                </a:cubicBezTo>
              </a:path>
              <a:path w="4788" h="2482">
                <a:moveTo>
                  <a:pt x="8806" y="3225"/>
                </a:moveTo>
                <a:cubicBezTo>
                  <a:pt x="8883" y="3215"/>
                  <a:pt x="8954" y="3191"/>
                  <a:pt x="9029" y="3175"/>
                </a:cubicBezTo>
                <a:cubicBezTo>
                  <a:pt x="9037" y="3175"/>
                  <a:pt x="9046" y="3175"/>
                  <a:pt x="9054" y="3175"/>
                </a:cubicBezTo>
              </a:path>
              <a:path w="4788" h="2482">
                <a:moveTo>
                  <a:pt x="9252" y="3200"/>
                </a:moveTo>
                <a:cubicBezTo>
                  <a:pt x="9303" y="3195"/>
                  <a:pt x="9391" y="3194"/>
                  <a:pt x="9426" y="3150"/>
                </a:cubicBezTo>
                <a:cubicBezTo>
                  <a:pt x="9463" y="3103"/>
                  <a:pt x="9465" y="2997"/>
                  <a:pt x="9376" y="3001"/>
                </a:cubicBezTo>
                <a:cubicBezTo>
                  <a:pt x="9313" y="3004"/>
                  <a:pt x="9237" y="3076"/>
                  <a:pt x="9203" y="3125"/>
                </a:cubicBezTo>
                <a:cubicBezTo>
                  <a:pt x="9151" y="3199"/>
                  <a:pt x="9142" y="3238"/>
                  <a:pt x="9178" y="3324"/>
                </a:cubicBezTo>
                <a:cubicBezTo>
                  <a:pt x="9210" y="3400"/>
                  <a:pt x="9242" y="3390"/>
                  <a:pt x="9302" y="3423"/>
                </a:cubicBezTo>
                <a:cubicBezTo>
                  <a:pt x="9373" y="3461"/>
                  <a:pt x="9389" y="3439"/>
                  <a:pt x="9451" y="3423"/>
                </a:cubicBezTo>
              </a:path>
              <a:path w="4788" h="2482">
                <a:moveTo>
                  <a:pt x="9500" y="3051"/>
                </a:moveTo>
                <a:cubicBezTo>
                  <a:pt x="9525" y="3126"/>
                  <a:pt x="9527" y="3184"/>
                  <a:pt x="9575" y="3249"/>
                </a:cubicBezTo>
                <a:cubicBezTo>
                  <a:pt x="9610" y="3296"/>
                  <a:pt x="9654" y="3316"/>
                  <a:pt x="9699" y="3349"/>
                </a:cubicBezTo>
                <a:cubicBezTo>
                  <a:pt x="9770" y="3402"/>
                  <a:pt x="9790" y="3404"/>
                  <a:pt x="9872" y="3373"/>
                </a:cubicBezTo>
              </a:path>
              <a:path w="4788" h="2482">
                <a:moveTo>
                  <a:pt x="9699" y="2927"/>
                </a:moveTo>
                <a:cubicBezTo>
                  <a:pt x="9630" y="3051"/>
                  <a:pt x="9563" y="3186"/>
                  <a:pt x="9475" y="3299"/>
                </a:cubicBezTo>
                <a:cubicBezTo>
                  <a:pt x="9424" y="3365"/>
                  <a:pt x="9368" y="3413"/>
                  <a:pt x="9351" y="3497"/>
                </a:cubicBezTo>
              </a:path>
              <a:path w="4788" h="2482">
                <a:moveTo>
                  <a:pt x="10269" y="2654"/>
                </a:moveTo>
                <a:cubicBezTo>
                  <a:pt x="10269" y="2739"/>
                  <a:pt x="10237" y="2775"/>
                  <a:pt x="10220" y="2853"/>
                </a:cubicBezTo>
                <a:cubicBezTo>
                  <a:pt x="10205" y="2920"/>
                  <a:pt x="10157" y="2985"/>
                  <a:pt x="10145" y="3051"/>
                </a:cubicBezTo>
                <a:cubicBezTo>
                  <a:pt x="10134" y="3111"/>
                  <a:pt x="10102" y="3211"/>
                  <a:pt x="10120" y="3274"/>
                </a:cubicBezTo>
                <a:cubicBezTo>
                  <a:pt x="10134" y="3324"/>
                  <a:pt x="10174" y="3393"/>
                  <a:pt x="10220" y="3423"/>
                </a:cubicBezTo>
                <a:cubicBezTo>
                  <a:pt x="10236" y="3431"/>
                  <a:pt x="10253" y="3440"/>
                  <a:pt x="10269" y="3448"/>
                </a:cubicBezTo>
              </a:path>
              <a:path w="4788" h="2482">
                <a:moveTo>
                  <a:pt x="10567" y="2753"/>
                </a:moveTo>
                <a:cubicBezTo>
                  <a:pt x="10539" y="2826"/>
                  <a:pt x="10536" y="2901"/>
                  <a:pt x="10517" y="2977"/>
                </a:cubicBezTo>
                <a:cubicBezTo>
                  <a:pt x="10494" y="3067"/>
                  <a:pt x="10503" y="3139"/>
                  <a:pt x="10542" y="3225"/>
                </a:cubicBezTo>
                <a:cubicBezTo>
                  <a:pt x="10561" y="3268"/>
                  <a:pt x="10630" y="3375"/>
                  <a:pt x="10691" y="3373"/>
                </a:cubicBezTo>
                <a:cubicBezTo>
                  <a:pt x="10797" y="3369"/>
                  <a:pt x="10831" y="3314"/>
                  <a:pt x="10889" y="3249"/>
                </a:cubicBezTo>
                <a:cubicBezTo>
                  <a:pt x="10947" y="3184"/>
                  <a:pt x="10983" y="3140"/>
                  <a:pt x="10988" y="3051"/>
                </a:cubicBezTo>
                <a:cubicBezTo>
                  <a:pt x="10993" y="2955"/>
                  <a:pt x="10973" y="2907"/>
                  <a:pt x="10914" y="2828"/>
                </a:cubicBezTo>
                <a:cubicBezTo>
                  <a:pt x="10864" y="2762"/>
                  <a:pt x="10788" y="2778"/>
                  <a:pt x="10716" y="2778"/>
                </a:cubicBezTo>
                <a:cubicBezTo>
                  <a:pt x="10646" y="2778"/>
                  <a:pt x="10593" y="2808"/>
                  <a:pt x="10542" y="2853"/>
                </a:cubicBezTo>
                <a:cubicBezTo>
                  <a:pt x="10509" y="2883"/>
                  <a:pt x="10485" y="2893"/>
                  <a:pt x="10468" y="2927"/>
                </a:cubicBezTo>
              </a:path>
              <a:path w="4788" h="2482">
                <a:moveTo>
                  <a:pt x="11212" y="3225"/>
                </a:moveTo>
                <a:cubicBezTo>
                  <a:pt x="11200" y="3284"/>
                  <a:pt x="11174" y="3498"/>
                  <a:pt x="11137" y="3572"/>
                </a:cubicBezTo>
                <a:cubicBezTo>
                  <a:pt x="11137" y="3564"/>
                  <a:pt x="11137" y="3555"/>
                  <a:pt x="11137" y="3547"/>
                </a:cubicBezTo>
              </a:path>
              <a:path w="4788" h="2482">
                <a:moveTo>
                  <a:pt x="11237" y="2877"/>
                </a:moveTo>
                <a:cubicBezTo>
                  <a:pt x="11336" y="2877"/>
                  <a:pt x="11435" y="2877"/>
                  <a:pt x="11534" y="2877"/>
                </a:cubicBezTo>
              </a:path>
              <a:path w="4788" h="2482">
                <a:moveTo>
                  <a:pt x="11609" y="2629"/>
                </a:moveTo>
                <a:cubicBezTo>
                  <a:pt x="11679" y="2638"/>
                  <a:pt x="11734" y="2654"/>
                  <a:pt x="11807" y="2654"/>
                </a:cubicBezTo>
                <a:cubicBezTo>
                  <a:pt x="11892" y="2654"/>
                  <a:pt x="11987" y="2645"/>
                  <a:pt x="12055" y="2604"/>
                </a:cubicBezTo>
                <a:cubicBezTo>
                  <a:pt x="12095" y="2684"/>
                  <a:pt x="12059" y="2738"/>
                  <a:pt x="12055" y="2828"/>
                </a:cubicBezTo>
                <a:cubicBezTo>
                  <a:pt x="12051" y="2928"/>
                  <a:pt x="12052" y="3028"/>
                  <a:pt x="12030" y="3125"/>
                </a:cubicBezTo>
                <a:cubicBezTo>
                  <a:pt x="12013" y="3199"/>
                  <a:pt x="12005" y="3248"/>
                  <a:pt x="12005" y="3324"/>
                </a:cubicBezTo>
              </a:path>
              <a:path w="4788" h="2482">
                <a:moveTo>
                  <a:pt x="12179" y="2381"/>
                </a:moveTo>
                <a:cubicBezTo>
                  <a:pt x="12270" y="2479"/>
                  <a:pt x="12375" y="2590"/>
                  <a:pt x="12402" y="2729"/>
                </a:cubicBezTo>
                <a:cubicBezTo>
                  <a:pt x="12420" y="2819"/>
                  <a:pt x="12422" y="3017"/>
                  <a:pt x="12378" y="3101"/>
                </a:cubicBezTo>
                <a:cubicBezTo>
                  <a:pt x="12324" y="3205"/>
                  <a:pt x="12240" y="3288"/>
                  <a:pt x="12154" y="3373"/>
                </a:cubicBezTo>
              </a:path>
              <a:path w="4788" h="2482">
                <a:moveTo>
                  <a:pt x="9575" y="4787"/>
                </a:moveTo>
                <a:cubicBezTo>
                  <a:pt x="9616" y="4804"/>
                  <a:pt x="9683" y="4785"/>
                  <a:pt x="9723" y="4738"/>
                </a:cubicBezTo>
                <a:cubicBezTo>
                  <a:pt x="9766" y="4687"/>
                  <a:pt x="9750" y="4657"/>
                  <a:pt x="9723" y="4614"/>
                </a:cubicBezTo>
                <a:cubicBezTo>
                  <a:pt x="9646" y="4657"/>
                  <a:pt x="9635" y="4675"/>
                  <a:pt x="9599" y="4738"/>
                </a:cubicBezTo>
                <a:cubicBezTo>
                  <a:pt x="9578" y="4775"/>
                  <a:pt x="9556" y="4843"/>
                  <a:pt x="9624" y="4862"/>
                </a:cubicBezTo>
                <a:cubicBezTo>
                  <a:pt x="9680" y="4878"/>
                  <a:pt x="9769" y="4873"/>
                  <a:pt x="9798" y="4812"/>
                </a:cubicBezTo>
                <a:cubicBezTo>
                  <a:pt x="9806" y="4787"/>
                  <a:pt x="9815" y="4763"/>
                  <a:pt x="9823" y="4738"/>
                </a:cubicBezTo>
                <a:cubicBezTo>
                  <a:pt x="9815" y="4721"/>
                  <a:pt x="9806" y="4705"/>
                  <a:pt x="9798" y="4688"/>
                </a:cubicBezTo>
                <a:cubicBezTo>
                  <a:pt x="9716" y="4696"/>
                  <a:pt x="9663" y="4704"/>
                  <a:pt x="9599" y="4762"/>
                </a:cubicBezTo>
                <a:cubicBezTo>
                  <a:pt x="9560" y="4798"/>
                  <a:pt x="9532" y="4832"/>
                  <a:pt x="9599" y="4862"/>
                </a:cubicBezTo>
                <a:cubicBezTo>
                  <a:pt x="9607" y="4862"/>
                  <a:pt x="9616" y="4862"/>
                  <a:pt x="9624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Ink 6"/>
          <p:cNvSpPr/>
          <p:nvPr/>
        </p:nvSpPr>
        <p:spPr>
          <a:xfrm>
            <a:off x="3438360" y="1411200"/>
            <a:ext cx="2222640" cy="4259520"/>
          </a:xfrm>
          <a:custGeom>
            <a:avLst/>
            <a:gdLst/>
            <a:ahLst/>
            <a:rect l="l" t="t" r="r" b="b"/>
            <a:pathLst>
              <a:path w="6177" h="11833">
                <a:moveTo>
                  <a:pt x="12849" y="9227"/>
                </a:moveTo>
                <a:cubicBezTo>
                  <a:pt x="12857" y="9211"/>
                  <a:pt x="12866" y="9194"/>
                  <a:pt x="12874" y="9178"/>
                </a:cubicBezTo>
                <a:cubicBezTo>
                  <a:pt x="12964" y="9257"/>
                  <a:pt x="12988" y="9256"/>
                  <a:pt x="12948" y="9376"/>
                </a:cubicBezTo>
                <a:cubicBezTo>
                  <a:pt x="12932" y="9424"/>
                  <a:pt x="12846" y="9495"/>
                  <a:pt x="12849" y="9550"/>
                </a:cubicBezTo>
                <a:cubicBezTo>
                  <a:pt x="12855" y="9659"/>
                  <a:pt x="13012" y="9624"/>
                  <a:pt x="13072" y="9624"/>
                </a:cubicBezTo>
                <a:cubicBezTo>
                  <a:pt x="13131" y="9624"/>
                  <a:pt x="13157" y="9621"/>
                  <a:pt x="13196" y="9599"/>
                </a:cubicBezTo>
              </a:path>
              <a:path w="6177" h="11833">
                <a:moveTo>
                  <a:pt x="12725" y="7938"/>
                </a:moveTo>
                <a:cubicBezTo>
                  <a:pt x="12706" y="8049"/>
                  <a:pt x="12696" y="8101"/>
                  <a:pt x="12824" y="8111"/>
                </a:cubicBezTo>
                <a:cubicBezTo>
                  <a:pt x="12832" y="8111"/>
                  <a:pt x="12841" y="8111"/>
                  <a:pt x="12849" y="8111"/>
                </a:cubicBezTo>
              </a:path>
              <a:path w="6177" h="11833">
                <a:moveTo>
                  <a:pt x="12898" y="7764"/>
                </a:moveTo>
                <a:cubicBezTo>
                  <a:pt x="12905" y="7882"/>
                  <a:pt x="12923" y="7992"/>
                  <a:pt x="12923" y="8111"/>
                </a:cubicBezTo>
                <a:cubicBezTo>
                  <a:pt x="12923" y="8200"/>
                  <a:pt x="12934" y="8284"/>
                  <a:pt x="12948" y="8359"/>
                </a:cubicBezTo>
                <a:cubicBezTo>
                  <a:pt x="12948" y="8376"/>
                  <a:pt x="12948" y="8392"/>
                  <a:pt x="12948" y="8409"/>
                </a:cubicBezTo>
              </a:path>
              <a:path w="6177" h="11833">
                <a:moveTo>
                  <a:pt x="12874" y="6548"/>
                </a:moveTo>
                <a:cubicBezTo>
                  <a:pt x="12847" y="6603"/>
                  <a:pt x="12812" y="6703"/>
                  <a:pt x="12799" y="6772"/>
                </a:cubicBezTo>
                <a:cubicBezTo>
                  <a:pt x="12788" y="6828"/>
                  <a:pt x="12836" y="6907"/>
                  <a:pt x="12898" y="6896"/>
                </a:cubicBezTo>
                <a:cubicBezTo>
                  <a:pt x="12943" y="6888"/>
                  <a:pt x="13014" y="6813"/>
                  <a:pt x="13022" y="6772"/>
                </a:cubicBezTo>
                <a:cubicBezTo>
                  <a:pt x="13035" y="6703"/>
                  <a:pt x="13021" y="6629"/>
                  <a:pt x="12998" y="6573"/>
                </a:cubicBezTo>
                <a:cubicBezTo>
                  <a:pt x="12934" y="6619"/>
                  <a:pt x="12920" y="6660"/>
                  <a:pt x="12874" y="6722"/>
                </a:cubicBezTo>
                <a:cubicBezTo>
                  <a:pt x="12836" y="6760"/>
                  <a:pt x="12838" y="6783"/>
                  <a:pt x="12898" y="6821"/>
                </a:cubicBezTo>
              </a:path>
              <a:path w="6177" h="11833">
                <a:moveTo>
                  <a:pt x="12948" y="5209"/>
                </a:moveTo>
                <a:cubicBezTo>
                  <a:pt x="12871" y="5215"/>
                  <a:pt x="12838" y="5217"/>
                  <a:pt x="12774" y="5259"/>
                </a:cubicBezTo>
                <a:cubicBezTo>
                  <a:pt x="12833" y="5332"/>
                  <a:pt x="12882" y="5374"/>
                  <a:pt x="12948" y="5432"/>
                </a:cubicBezTo>
                <a:cubicBezTo>
                  <a:pt x="13008" y="5485"/>
                  <a:pt x="13012" y="5486"/>
                  <a:pt x="13022" y="5556"/>
                </a:cubicBezTo>
                <a:cubicBezTo>
                  <a:pt x="12943" y="5586"/>
                  <a:pt x="12915" y="5590"/>
                  <a:pt x="12849" y="5531"/>
                </a:cubicBezTo>
                <a:cubicBezTo>
                  <a:pt x="12784" y="5474"/>
                  <a:pt x="12791" y="5436"/>
                  <a:pt x="12824" y="5358"/>
                </a:cubicBezTo>
                <a:cubicBezTo>
                  <a:pt x="12854" y="5288"/>
                  <a:pt x="12912" y="5239"/>
                  <a:pt x="12973" y="5209"/>
                </a:cubicBezTo>
              </a:path>
              <a:path w="6177" h="11833">
                <a:moveTo>
                  <a:pt x="11782" y="15230"/>
                </a:moveTo>
                <a:cubicBezTo>
                  <a:pt x="11757" y="15280"/>
                  <a:pt x="11782" y="15317"/>
                  <a:pt x="11832" y="15304"/>
                </a:cubicBezTo>
                <a:cubicBezTo>
                  <a:pt x="11886" y="15251"/>
                  <a:pt x="11886" y="15239"/>
                  <a:pt x="11832" y="15180"/>
                </a:cubicBezTo>
                <a:cubicBezTo>
                  <a:pt x="11803" y="15149"/>
                  <a:pt x="11779" y="15174"/>
                  <a:pt x="11733" y="15180"/>
                </a:cubicBezTo>
                <a:cubicBezTo>
                  <a:pt x="11723" y="15253"/>
                  <a:pt x="11701" y="15266"/>
                  <a:pt x="11757" y="15329"/>
                </a:cubicBezTo>
                <a:cubicBezTo>
                  <a:pt x="11792" y="15368"/>
                  <a:pt x="11865" y="15362"/>
                  <a:pt x="11881" y="15304"/>
                </a:cubicBezTo>
                <a:cubicBezTo>
                  <a:pt x="11904" y="15221"/>
                  <a:pt x="11846" y="15137"/>
                  <a:pt x="11757" y="15156"/>
                </a:cubicBezTo>
                <a:cubicBezTo>
                  <a:pt x="11708" y="15167"/>
                  <a:pt x="11639" y="15224"/>
                  <a:pt x="11658" y="15280"/>
                </a:cubicBezTo>
                <a:cubicBezTo>
                  <a:pt x="11670" y="15314"/>
                  <a:pt x="11715" y="15368"/>
                  <a:pt x="11733" y="15404"/>
                </a:cubicBezTo>
                <a:cubicBezTo>
                  <a:pt x="11784" y="15404"/>
                  <a:pt x="11803" y="15403"/>
                  <a:pt x="11832" y="15379"/>
                </a:cubicBezTo>
                <a:cubicBezTo>
                  <a:pt x="11832" y="15310"/>
                  <a:pt x="11846" y="15225"/>
                  <a:pt x="11757" y="15205"/>
                </a:cubicBezTo>
                <a:cubicBezTo>
                  <a:pt x="11669" y="15185"/>
                  <a:pt x="11614" y="15224"/>
                  <a:pt x="11609" y="15304"/>
                </a:cubicBezTo>
                <a:cubicBezTo>
                  <a:pt x="11603" y="15406"/>
                  <a:pt x="11623" y="15425"/>
                  <a:pt x="11708" y="15478"/>
                </a:cubicBezTo>
                <a:cubicBezTo>
                  <a:pt x="11755" y="15441"/>
                  <a:pt x="11816" y="15421"/>
                  <a:pt x="11832" y="15354"/>
                </a:cubicBezTo>
                <a:cubicBezTo>
                  <a:pt x="11844" y="15305"/>
                  <a:pt x="11805" y="15270"/>
                  <a:pt x="11782" y="15230"/>
                </a:cubicBezTo>
                <a:cubicBezTo>
                  <a:pt x="11704" y="15183"/>
                  <a:pt x="11712" y="15221"/>
                  <a:pt x="11658" y="15280"/>
                </a:cubicBezTo>
                <a:cubicBezTo>
                  <a:pt x="11626" y="15314"/>
                  <a:pt x="11633" y="15333"/>
                  <a:pt x="11633" y="15379"/>
                </a:cubicBezTo>
              </a:path>
              <a:path w="6177" h="11833">
                <a:moveTo>
                  <a:pt x="11137" y="13047"/>
                </a:moveTo>
                <a:cubicBezTo>
                  <a:pt x="11094" y="13090"/>
                  <a:pt x="11096" y="13085"/>
                  <a:pt x="11088" y="13146"/>
                </a:cubicBezTo>
                <a:cubicBezTo>
                  <a:pt x="11147" y="13182"/>
                  <a:pt x="11216" y="13165"/>
                  <a:pt x="11187" y="13072"/>
                </a:cubicBezTo>
                <a:cubicBezTo>
                  <a:pt x="11156" y="12972"/>
                  <a:pt x="11093" y="12983"/>
                  <a:pt x="11013" y="12998"/>
                </a:cubicBezTo>
                <a:cubicBezTo>
                  <a:pt x="10993" y="13046"/>
                  <a:pt x="11007" y="13086"/>
                  <a:pt x="11063" y="13122"/>
                </a:cubicBezTo>
                <a:cubicBezTo>
                  <a:pt x="11125" y="13162"/>
                  <a:pt x="11153" y="13126"/>
                  <a:pt x="11212" y="13097"/>
                </a:cubicBezTo>
                <a:cubicBezTo>
                  <a:pt x="11185" y="13024"/>
                  <a:pt x="11149" y="12978"/>
                  <a:pt x="11063" y="12973"/>
                </a:cubicBezTo>
                <a:cubicBezTo>
                  <a:pt x="10998" y="12969"/>
                  <a:pt x="11001" y="13018"/>
                  <a:pt x="10988" y="13072"/>
                </a:cubicBezTo>
              </a:path>
              <a:path w="6177" h="11833">
                <a:moveTo>
                  <a:pt x="13940" y="13171"/>
                </a:moveTo>
                <a:cubicBezTo>
                  <a:pt x="13988" y="13219"/>
                  <a:pt x="14005" y="13249"/>
                  <a:pt x="14064" y="13221"/>
                </a:cubicBezTo>
                <a:cubicBezTo>
                  <a:pt x="14142" y="13184"/>
                  <a:pt x="14135" y="13194"/>
                  <a:pt x="14114" y="13122"/>
                </a:cubicBezTo>
                <a:cubicBezTo>
                  <a:pt x="14032" y="13132"/>
                  <a:pt x="13989" y="13148"/>
                  <a:pt x="14015" y="13246"/>
                </a:cubicBezTo>
                <a:cubicBezTo>
                  <a:pt x="14035" y="13319"/>
                  <a:pt x="14079" y="13295"/>
                  <a:pt x="14139" y="13295"/>
                </a:cubicBezTo>
                <a:cubicBezTo>
                  <a:pt x="14162" y="13232"/>
                  <a:pt x="14182" y="13189"/>
                  <a:pt x="14114" y="13146"/>
                </a:cubicBezTo>
                <a:cubicBezTo>
                  <a:pt x="14090" y="13131"/>
                  <a:pt x="13957" y="13099"/>
                  <a:pt x="13965" y="13171"/>
                </a:cubicBezTo>
                <a:cubicBezTo>
                  <a:pt x="13973" y="13179"/>
                  <a:pt x="13982" y="13188"/>
                  <a:pt x="13990" y="13196"/>
                </a:cubicBezTo>
                <a:cubicBezTo>
                  <a:pt x="14046" y="13264"/>
                  <a:pt x="14082" y="13253"/>
                  <a:pt x="14163" y="13196"/>
                </a:cubicBezTo>
                <a:cubicBezTo>
                  <a:pt x="14188" y="13171"/>
                  <a:pt x="14196" y="13163"/>
                  <a:pt x="14163" y="13146"/>
                </a:cubicBezTo>
                <a:cubicBezTo>
                  <a:pt x="14096" y="13052"/>
                  <a:pt x="14068" y="13076"/>
                  <a:pt x="13965" y="13122"/>
                </a:cubicBezTo>
              </a:path>
              <a:path w="6177" h="11833">
                <a:moveTo>
                  <a:pt x="10195" y="9376"/>
                </a:moveTo>
                <a:cubicBezTo>
                  <a:pt x="10190" y="9423"/>
                  <a:pt x="10153" y="9511"/>
                  <a:pt x="10220" y="9550"/>
                </a:cubicBezTo>
                <a:cubicBezTo>
                  <a:pt x="10276" y="9582"/>
                  <a:pt x="10333" y="9536"/>
                  <a:pt x="10368" y="9500"/>
                </a:cubicBezTo>
                <a:cubicBezTo>
                  <a:pt x="10354" y="9388"/>
                  <a:pt x="10267" y="9384"/>
                  <a:pt x="10195" y="9475"/>
                </a:cubicBezTo>
                <a:cubicBezTo>
                  <a:pt x="10195" y="9534"/>
                  <a:pt x="10198" y="9560"/>
                  <a:pt x="10220" y="9599"/>
                </a:cubicBezTo>
                <a:cubicBezTo>
                  <a:pt x="10304" y="9599"/>
                  <a:pt x="10294" y="9612"/>
                  <a:pt x="10344" y="9550"/>
                </a:cubicBezTo>
                <a:cubicBezTo>
                  <a:pt x="10396" y="9486"/>
                  <a:pt x="10366" y="9455"/>
                  <a:pt x="10294" y="9451"/>
                </a:cubicBezTo>
                <a:cubicBezTo>
                  <a:pt x="10223" y="9447"/>
                  <a:pt x="10192" y="9478"/>
                  <a:pt x="10145" y="9525"/>
                </a:cubicBezTo>
                <a:cubicBezTo>
                  <a:pt x="10174" y="9561"/>
                  <a:pt x="10221" y="9630"/>
                  <a:pt x="10269" y="9624"/>
                </a:cubicBezTo>
                <a:cubicBezTo>
                  <a:pt x="10358" y="9612"/>
                  <a:pt x="10354" y="9595"/>
                  <a:pt x="10393" y="9525"/>
                </a:cubicBezTo>
                <a:cubicBezTo>
                  <a:pt x="10351" y="9451"/>
                  <a:pt x="10313" y="9427"/>
                  <a:pt x="10220" y="9451"/>
                </a:cubicBezTo>
                <a:cubicBezTo>
                  <a:pt x="10190" y="9459"/>
                  <a:pt x="10106" y="9515"/>
                  <a:pt x="10096" y="9550"/>
                </a:cubicBezTo>
                <a:cubicBezTo>
                  <a:pt x="10096" y="9566"/>
                  <a:pt x="10096" y="9583"/>
                  <a:pt x="10096" y="9599"/>
                </a:cubicBezTo>
              </a:path>
              <a:path w="6177" h="11833">
                <a:moveTo>
                  <a:pt x="14734" y="9475"/>
                </a:moveTo>
                <a:cubicBezTo>
                  <a:pt x="14755" y="9416"/>
                  <a:pt x="14727" y="9450"/>
                  <a:pt x="14684" y="9475"/>
                </a:cubicBezTo>
                <a:cubicBezTo>
                  <a:pt x="14650" y="9547"/>
                  <a:pt x="14728" y="9541"/>
                  <a:pt x="14759" y="9475"/>
                </a:cubicBezTo>
                <a:cubicBezTo>
                  <a:pt x="14811" y="9363"/>
                  <a:pt x="14631" y="9448"/>
                  <a:pt x="14610" y="9451"/>
                </a:cubicBezTo>
                <a:cubicBezTo>
                  <a:pt x="14548" y="9460"/>
                  <a:pt x="14595" y="9558"/>
                  <a:pt x="14610" y="9599"/>
                </a:cubicBezTo>
                <a:cubicBezTo>
                  <a:pt x="14653" y="9588"/>
                  <a:pt x="14742" y="9558"/>
                  <a:pt x="14759" y="9500"/>
                </a:cubicBezTo>
                <a:cubicBezTo>
                  <a:pt x="14759" y="9459"/>
                  <a:pt x="14767" y="9443"/>
                  <a:pt x="14734" y="9451"/>
                </a:cubicBezTo>
                <a:cubicBezTo>
                  <a:pt x="14704" y="9415"/>
                  <a:pt x="14585" y="9375"/>
                  <a:pt x="14585" y="9451"/>
                </a:cubicBezTo>
                <a:cubicBezTo>
                  <a:pt x="14585" y="9484"/>
                  <a:pt x="14719" y="9582"/>
                  <a:pt x="14585" y="9475"/>
                </a:cubicBezTo>
              </a:path>
              <a:path w="6177" h="11833">
                <a:moveTo>
                  <a:pt x="15453" y="4614"/>
                </a:moveTo>
                <a:cubicBezTo>
                  <a:pt x="15445" y="4622"/>
                  <a:pt x="15437" y="4630"/>
                  <a:pt x="15429" y="4638"/>
                </a:cubicBezTo>
                <a:cubicBezTo>
                  <a:pt x="15499" y="4628"/>
                  <a:pt x="15538" y="4563"/>
                  <a:pt x="15453" y="4514"/>
                </a:cubicBezTo>
                <a:cubicBezTo>
                  <a:pt x="15412" y="4490"/>
                  <a:pt x="15310" y="4515"/>
                  <a:pt x="15280" y="4539"/>
                </a:cubicBezTo>
                <a:cubicBezTo>
                  <a:pt x="15272" y="4547"/>
                  <a:pt x="15263" y="4556"/>
                  <a:pt x="15255" y="4564"/>
                </a:cubicBezTo>
                <a:cubicBezTo>
                  <a:pt x="15275" y="4625"/>
                  <a:pt x="15301" y="4634"/>
                  <a:pt x="15379" y="4638"/>
                </a:cubicBezTo>
                <a:cubicBezTo>
                  <a:pt x="15444" y="4642"/>
                  <a:pt x="15460" y="4607"/>
                  <a:pt x="15503" y="4564"/>
                </a:cubicBezTo>
                <a:cubicBezTo>
                  <a:pt x="15447" y="4464"/>
                  <a:pt x="15383" y="4456"/>
                  <a:pt x="15255" y="4490"/>
                </a:cubicBezTo>
                <a:cubicBezTo>
                  <a:pt x="15230" y="4498"/>
                  <a:pt x="15205" y="4506"/>
                  <a:pt x="15180" y="4514"/>
                </a:cubicBezTo>
              </a:path>
              <a:path w="6177" h="11833">
                <a:moveTo>
                  <a:pt x="9550" y="4192"/>
                </a:moveTo>
                <a:cubicBezTo>
                  <a:pt x="9585" y="4237"/>
                  <a:pt x="9605" y="4266"/>
                  <a:pt x="9624" y="4316"/>
                </a:cubicBezTo>
                <a:cubicBezTo>
                  <a:pt x="9649" y="4379"/>
                  <a:pt x="9636" y="4443"/>
                  <a:pt x="9649" y="4514"/>
                </a:cubicBezTo>
                <a:cubicBezTo>
                  <a:pt x="9662" y="4587"/>
                  <a:pt x="9680" y="4668"/>
                  <a:pt x="9699" y="4738"/>
                </a:cubicBezTo>
                <a:cubicBezTo>
                  <a:pt x="9716" y="4798"/>
                  <a:pt x="9740" y="4873"/>
                  <a:pt x="9748" y="4936"/>
                </a:cubicBezTo>
                <a:cubicBezTo>
                  <a:pt x="9759" y="5030"/>
                  <a:pt x="9785" y="5112"/>
                  <a:pt x="9798" y="5209"/>
                </a:cubicBezTo>
                <a:cubicBezTo>
                  <a:pt x="9808" y="5285"/>
                  <a:pt x="9816" y="5358"/>
                  <a:pt x="9823" y="5432"/>
                </a:cubicBezTo>
                <a:cubicBezTo>
                  <a:pt x="9832" y="5525"/>
                  <a:pt x="9844" y="5614"/>
                  <a:pt x="9847" y="5705"/>
                </a:cubicBezTo>
                <a:cubicBezTo>
                  <a:pt x="9849" y="5781"/>
                  <a:pt x="9867" y="5859"/>
                  <a:pt x="9872" y="5928"/>
                </a:cubicBezTo>
                <a:cubicBezTo>
                  <a:pt x="9878" y="6019"/>
                  <a:pt x="9890" y="6116"/>
                  <a:pt x="9897" y="6201"/>
                </a:cubicBezTo>
                <a:cubicBezTo>
                  <a:pt x="9904" y="6285"/>
                  <a:pt x="9916" y="6366"/>
                  <a:pt x="9922" y="6449"/>
                </a:cubicBezTo>
                <a:cubicBezTo>
                  <a:pt x="9927" y="6520"/>
                  <a:pt x="9942" y="6579"/>
                  <a:pt x="9947" y="6648"/>
                </a:cubicBezTo>
                <a:cubicBezTo>
                  <a:pt x="9959" y="6827"/>
                  <a:pt x="9960" y="7020"/>
                  <a:pt x="9971" y="7193"/>
                </a:cubicBezTo>
                <a:cubicBezTo>
                  <a:pt x="9978" y="7300"/>
                  <a:pt x="9971" y="7409"/>
                  <a:pt x="9971" y="7516"/>
                </a:cubicBezTo>
              </a:path>
              <a:path w="6177" h="11833">
                <a:moveTo>
                  <a:pt x="10071" y="7417"/>
                </a:moveTo>
                <a:cubicBezTo>
                  <a:pt x="10065" y="7481"/>
                  <a:pt x="10048" y="7520"/>
                  <a:pt x="10046" y="7590"/>
                </a:cubicBezTo>
                <a:cubicBezTo>
                  <a:pt x="10042" y="7707"/>
                  <a:pt x="10047" y="7801"/>
                  <a:pt x="10046" y="7913"/>
                </a:cubicBezTo>
                <a:cubicBezTo>
                  <a:pt x="10044" y="8084"/>
                  <a:pt x="10066" y="8244"/>
                  <a:pt x="10071" y="8409"/>
                </a:cubicBezTo>
                <a:cubicBezTo>
                  <a:pt x="10076" y="8571"/>
                  <a:pt x="10083" y="8722"/>
                  <a:pt x="10096" y="8880"/>
                </a:cubicBezTo>
                <a:cubicBezTo>
                  <a:pt x="10103" y="8968"/>
                  <a:pt x="10108" y="9064"/>
                  <a:pt x="10120" y="9153"/>
                </a:cubicBezTo>
                <a:cubicBezTo>
                  <a:pt x="10128" y="9214"/>
                  <a:pt x="10159" y="9305"/>
                  <a:pt x="10170" y="9376"/>
                </a:cubicBezTo>
                <a:cubicBezTo>
                  <a:pt x="10186" y="9479"/>
                  <a:pt x="10229" y="9606"/>
                  <a:pt x="10244" y="9674"/>
                </a:cubicBezTo>
                <a:cubicBezTo>
                  <a:pt x="10254" y="9717"/>
                  <a:pt x="10291" y="9806"/>
                  <a:pt x="10294" y="9823"/>
                </a:cubicBezTo>
                <a:cubicBezTo>
                  <a:pt x="10305" y="9879"/>
                  <a:pt x="10310" y="9941"/>
                  <a:pt x="10319" y="9996"/>
                </a:cubicBezTo>
                <a:cubicBezTo>
                  <a:pt x="10341" y="10136"/>
                  <a:pt x="10339" y="10276"/>
                  <a:pt x="10368" y="10418"/>
                </a:cubicBezTo>
                <a:cubicBezTo>
                  <a:pt x="10381" y="10481"/>
                  <a:pt x="10405" y="10567"/>
                  <a:pt x="10418" y="10641"/>
                </a:cubicBezTo>
                <a:cubicBezTo>
                  <a:pt x="10432" y="10718"/>
                  <a:pt x="10454" y="10789"/>
                  <a:pt x="10468" y="10864"/>
                </a:cubicBezTo>
                <a:cubicBezTo>
                  <a:pt x="10482" y="10939"/>
                  <a:pt x="10503" y="11016"/>
                  <a:pt x="10517" y="11088"/>
                </a:cubicBezTo>
                <a:cubicBezTo>
                  <a:pt x="10531" y="11163"/>
                  <a:pt x="10525" y="11237"/>
                  <a:pt x="10542" y="11311"/>
                </a:cubicBezTo>
                <a:cubicBezTo>
                  <a:pt x="10560" y="11388"/>
                  <a:pt x="10578" y="11455"/>
                  <a:pt x="10592" y="11534"/>
                </a:cubicBezTo>
                <a:cubicBezTo>
                  <a:pt x="10604" y="11601"/>
                  <a:pt x="10628" y="11666"/>
                  <a:pt x="10641" y="11733"/>
                </a:cubicBezTo>
                <a:cubicBezTo>
                  <a:pt x="10656" y="11811"/>
                  <a:pt x="10673" y="11880"/>
                  <a:pt x="10691" y="11956"/>
                </a:cubicBezTo>
                <a:cubicBezTo>
                  <a:pt x="10707" y="12023"/>
                  <a:pt x="10722" y="12087"/>
                  <a:pt x="10740" y="12154"/>
                </a:cubicBezTo>
                <a:cubicBezTo>
                  <a:pt x="10756" y="12211"/>
                  <a:pt x="10775" y="12276"/>
                  <a:pt x="10790" y="12328"/>
                </a:cubicBezTo>
                <a:cubicBezTo>
                  <a:pt x="10809" y="12393"/>
                  <a:pt x="10844" y="12465"/>
                  <a:pt x="10864" y="12526"/>
                </a:cubicBezTo>
                <a:cubicBezTo>
                  <a:pt x="10886" y="12593"/>
                  <a:pt x="10918" y="12662"/>
                  <a:pt x="10939" y="12725"/>
                </a:cubicBezTo>
                <a:cubicBezTo>
                  <a:pt x="10958" y="12780"/>
                  <a:pt x="10970" y="12840"/>
                  <a:pt x="10988" y="12898"/>
                </a:cubicBezTo>
                <a:cubicBezTo>
                  <a:pt x="11006" y="12958"/>
                  <a:pt x="11043" y="13028"/>
                  <a:pt x="11063" y="13097"/>
                </a:cubicBezTo>
                <a:cubicBezTo>
                  <a:pt x="11080" y="13157"/>
                  <a:pt x="11096" y="13215"/>
                  <a:pt x="11112" y="13271"/>
                </a:cubicBezTo>
                <a:cubicBezTo>
                  <a:pt x="11130" y="13334"/>
                  <a:pt x="11146" y="13412"/>
                  <a:pt x="11162" y="13469"/>
                </a:cubicBezTo>
                <a:cubicBezTo>
                  <a:pt x="11184" y="13546"/>
                  <a:pt x="11222" y="13646"/>
                  <a:pt x="11237" y="13717"/>
                </a:cubicBezTo>
                <a:cubicBezTo>
                  <a:pt x="11257" y="13810"/>
                  <a:pt x="11258" y="13870"/>
                  <a:pt x="11286" y="13965"/>
                </a:cubicBezTo>
                <a:cubicBezTo>
                  <a:pt x="11303" y="14025"/>
                  <a:pt x="11317" y="14075"/>
                  <a:pt x="11336" y="14139"/>
                </a:cubicBezTo>
                <a:cubicBezTo>
                  <a:pt x="11374" y="14269"/>
                  <a:pt x="11414" y="14419"/>
                  <a:pt x="11460" y="14536"/>
                </a:cubicBezTo>
                <a:cubicBezTo>
                  <a:pt x="11491" y="14614"/>
                  <a:pt x="11547" y="14736"/>
                  <a:pt x="11584" y="14808"/>
                </a:cubicBezTo>
                <a:cubicBezTo>
                  <a:pt x="11720" y="15077"/>
                  <a:pt x="11911" y="15385"/>
                  <a:pt x="12154" y="15577"/>
                </a:cubicBezTo>
                <a:cubicBezTo>
                  <a:pt x="12190" y="15605"/>
                  <a:pt x="12264" y="15684"/>
                  <a:pt x="12303" y="15701"/>
                </a:cubicBezTo>
                <a:cubicBezTo>
                  <a:pt x="12363" y="15727"/>
                  <a:pt x="12415" y="15746"/>
                  <a:pt x="12477" y="15751"/>
                </a:cubicBezTo>
                <a:cubicBezTo>
                  <a:pt x="12517" y="15754"/>
                  <a:pt x="12651" y="15715"/>
                  <a:pt x="12700" y="15701"/>
                </a:cubicBezTo>
                <a:cubicBezTo>
                  <a:pt x="12744" y="15688"/>
                  <a:pt x="12809" y="15647"/>
                  <a:pt x="12849" y="15627"/>
                </a:cubicBezTo>
                <a:cubicBezTo>
                  <a:pt x="12904" y="15600"/>
                  <a:pt x="12949" y="15562"/>
                  <a:pt x="12998" y="15528"/>
                </a:cubicBezTo>
                <a:cubicBezTo>
                  <a:pt x="13297" y="15325"/>
                  <a:pt x="13364" y="15029"/>
                  <a:pt x="13494" y="14734"/>
                </a:cubicBezTo>
                <a:cubicBezTo>
                  <a:pt x="13516" y="14684"/>
                  <a:pt x="13544" y="14641"/>
                  <a:pt x="13568" y="14585"/>
                </a:cubicBezTo>
                <a:cubicBezTo>
                  <a:pt x="13598" y="14516"/>
                  <a:pt x="13634" y="14441"/>
                  <a:pt x="13667" y="14362"/>
                </a:cubicBezTo>
                <a:cubicBezTo>
                  <a:pt x="13694" y="14298"/>
                  <a:pt x="13719" y="14245"/>
                  <a:pt x="13742" y="14188"/>
                </a:cubicBezTo>
                <a:cubicBezTo>
                  <a:pt x="13769" y="14121"/>
                  <a:pt x="13792" y="14050"/>
                  <a:pt x="13816" y="13990"/>
                </a:cubicBezTo>
                <a:cubicBezTo>
                  <a:pt x="13850" y="13905"/>
                  <a:pt x="13885" y="13822"/>
                  <a:pt x="13915" y="13742"/>
                </a:cubicBezTo>
                <a:cubicBezTo>
                  <a:pt x="13936" y="13685"/>
                  <a:pt x="13942" y="13630"/>
                  <a:pt x="13965" y="13568"/>
                </a:cubicBezTo>
                <a:cubicBezTo>
                  <a:pt x="13987" y="13509"/>
                  <a:pt x="14017" y="13430"/>
                  <a:pt x="14039" y="13370"/>
                </a:cubicBezTo>
                <a:cubicBezTo>
                  <a:pt x="14058" y="13319"/>
                  <a:pt x="14073" y="13275"/>
                  <a:pt x="14089" y="13221"/>
                </a:cubicBezTo>
                <a:cubicBezTo>
                  <a:pt x="14114" y="13140"/>
                  <a:pt x="14144" y="13054"/>
                  <a:pt x="14163" y="12973"/>
                </a:cubicBezTo>
                <a:cubicBezTo>
                  <a:pt x="14184" y="12882"/>
                  <a:pt x="14193" y="12789"/>
                  <a:pt x="14213" y="12700"/>
                </a:cubicBezTo>
                <a:cubicBezTo>
                  <a:pt x="14228" y="12633"/>
                  <a:pt x="14250" y="12576"/>
                  <a:pt x="14263" y="12502"/>
                </a:cubicBezTo>
                <a:cubicBezTo>
                  <a:pt x="14278" y="12421"/>
                  <a:pt x="14299" y="12326"/>
                  <a:pt x="14312" y="12254"/>
                </a:cubicBezTo>
                <a:cubicBezTo>
                  <a:pt x="14324" y="12186"/>
                  <a:pt x="14322" y="12121"/>
                  <a:pt x="14337" y="12055"/>
                </a:cubicBezTo>
                <a:cubicBezTo>
                  <a:pt x="14354" y="11980"/>
                  <a:pt x="14373" y="11908"/>
                  <a:pt x="14387" y="11832"/>
                </a:cubicBezTo>
                <a:cubicBezTo>
                  <a:pt x="14406" y="11727"/>
                  <a:pt x="14424" y="11616"/>
                  <a:pt x="14436" y="11509"/>
                </a:cubicBezTo>
                <a:cubicBezTo>
                  <a:pt x="14446" y="11416"/>
                  <a:pt x="14452" y="11332"/>
                  <a:pt x="14461" y="11237"/>
                </a:cubicBezTo>
                <a:cubicBezTo>
                  <a:pt x="14481" y="11022"/>
                  <a:pt x="14484" y="10810"/>
                  <a:pt x="14486" y="10592"/>
                </a:cubicBezTo>
                <a:cubicBezTo>
                  <a:pt x="14488" y="10332"/>
                  <a:pt x="14492" y="10078"/>
                  <a:pt x="14511" y="9823"/>
                </a:cubicBezTo>
                <a:cubicBezTo>
                  <a:pt x="14518" y="9721"/>
                  <a:pt x="14528" y="9626"/>
                  <a:pt x="14536" y="9525"/>
                </a:cubicBezTo>
                <a:cubicBezTo>
                  <a:pt x="14543" y="9441"/>
                  <a:pt x="14550" y="9381"/>
                  <a:pt x="14560" y="9302"/>
                </a:cubicBezTo>
                <a:cubicBezTo>
                  <a:pt x="14570" y="9224"/>
                  <a:pt x="14578" y="9158"/>
                  <a:pt x="14585" y="9079"/>
                </a:cubicBezTo>
                <a:cubicBezTo>
                  <a:pt x="14599" y="8932"/>
                  <a:pt x="14628" y="8780"/>
                  <a:pt x="14635" y="8632"/>
                </a:cubicBezTo>
                <a:cubicBezTo>
                  <a:pt x="14644" y="8430"/>
                  <a:pt x="14645" y="8236"/>
                  <a:pt x="14660" y="8037"/>
                </a:cubicBezTo>
                <a:cubicBezTo>
                  <a:pt x="14669" y="7920"/>
                  <a:pt x="14670" y="7805"/>
                  <a:pt x="14684" y="7689"/>
                </a:cubicBezTo>
                <a:cubicBezTo>
                  <a:pt x="14702" y="7540"/>
                  <a:pt x="14712" y="7389"/>
                  <a:pt x="14734" y="7243"/>
                </a:cubicBezTo>
                <a:cubicBezTo>
                  <a:pt x="14752" y="7119"/>
                  <a:pt x="14786" y="6997"/>
                  <a:pt x="14808" y="6871"/>
                </a:cubicBezTo>
                <a:cubicBezTo>
                  <a:pt x="14848" y="6647"/>
                  <a:pt x="14898" y="6424"/>
                  <a:pt x="14957" y="6201"/>
                </a:cubicBezTo>
                <a:cubicBezTo>
                  <a:pt x="15077" y="5748"/>
                  <a:pt x="15215" y="5293"/>
                  <a:pt x="15304" y="4837"/>
                </a:cubicBezTo>
                <a:cubicBezTo>
                  <a:pt x="15328" y="4714"/>
                  <a:pt x="15359" y="4589"/>
                  <a:pt x="15379" y="4465"/>
                </a:cubicBezTo>
                <a:cubicBezTo>
                  <a:pt x="15394" y="4373"/>
                  <a:pt x="15390" y="4283"/>
                  <a:pt x="15404" y="4192"/>
                </a:cubicBezTo>
                <a:cubicBezTo>
                  <a:pt x="15422" y="4080"/>
                  <a:pt x="15541" y="3951"/>
                  <a:pt x="15429" y="3969"/>
                </a:cubicBezTo>
                <a:cubicBezTo>
                  <a:pt x="15386" y="3976"/>
                  <a:pt x="15344" y="4070"/>
                  <a:pt x="15304" y="4093"/>
                </a:cubicBezTo>
                <a:cubicBezTo>
                  <a:pt x="15248" y="4124"/>
                  <a:pt x="15183" y="4155"/>
                  <a:pt x="15131" y="4192"/>
                </a:cubicBezTo>
                <a:cubicBezTo>
                  <a:pt x="15106" y="4217"/>
                  <a:pt x="15098" y="4225"/>
                  <a:pt x="15081" y="4242"/>
                </a:cubicBezTo>
                <a:cubicBezTo>
                  <a:pt x="15152" y="4187"/>
                  <a:pt x="15145" y="4085"/>
                  <a:pt x="15255" y="4043"/>
                </a:cubicBezTo>
                <a:cubicBezTo>
                  <a:pt x="15279" y="4034"/>
                  <a:pt x="15390" y="3940"/>
                  <a:pt x="15404" y="3944"/>
                </a:cubicBezTo>
                <a:cubicBezTo>
                  <a:pt x="15532" y="3979"/>
                  <a:pt x="15607" y="4125"/>
                  <a:pt x="15677" y="4242"/>
                </a:cubicBezTo>
                <a:cubicBezTo>
                  <a:pt x="15721" y="4315"/>
                  <a:pt x="15696" y="4353"/>
                  <a:pt x="15726" y="44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Ink 7"/>
          <p:cNvSpPr/>
          <p:nvPr/>
        </p:nvSpPr>
        <p:spPr>
          <a:xfrm>
            <a:off x="3384720" y="1527120"/>
            <a:ext cx="250560" cy="152280"/>
          </a:xfrm>
          <a:custGeom>
            <a:avLst/>
            <a:gdLst/>
            <a:ahLst/>
            <a:rect l="l" t="t" r="r" b="b"/>
            <a:pathLst>
              <a:path w="696" h="422">
                <a:moveTo>
                  <a:pt x="9500" y="4440"/>
                </a:moveTo>
                <a:cubicBezTo>
                  <a:pt x="9473" y="4522"/>
                  <a:pt x="9455" y="4596"/>
                  <a:pt x="9401" y="4663"/>
                </a:cubicBezTo>
                <a:cubicBezTo>
                  <a:pt x="9401" y="4565"/>
                  <a:pt x="9412" y="4485"/>
                  <a:pt x="9426" y="4390"/>
                </a:cubicBezTo>
                <a:cubicBezTo>
                  <a:pt x="9430" y="4365"/>
                  <a:pt x="9413" y="4236"/>
                  <a:pt x="9475" y="4242"/>
                </a:cubicBezTo>
                <a:cubicBezTo>
                  <a:pt x="9529" y="4248"/>
                  <a:pt x="9637" y="4323"/>
                  <a:pt x="9699" y="4341"/>
                </a:cubicBezTo>
                <a:cubicBezTo>
                  <a:pt x="9842" y="4382"/>
                  <a:pt x="9949" y="4358"/>
                  <a:pt x="10096" y="43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Ink 8"/>
          <p:cNvSpPr/>
          <p:nvPr/>
        </p:nvSpPr>
        <p:spPr>
          <a:xfrm>
            <a:off x="4938840" y="4017960"/>
            <a:ext cx="160200" cy="162000"/>
          </a:xfrm>
          <a:custGeom>
            <a:avLst/>
            <a:gdLst/>
            <a:ahLst/>
            <a:rect l="l" t="t" r="r" b="b"/>
            <a:pathLst>
              <a:path w="447" h="448">
                <a:moveTo>
                  <a:pt x="13717" y="11162"/>
                </a:moveTo>
                <a:cubicBezTo>
                  <a:pt x="13797" y="11169"/>
                  <a:pt x="13866" y="11179"/>
                  <a:pt x="13940" y="11212"/>
                </a:cubicBezTo>
                <a:cubicBezTo>
                  <a:pt x="14041" y="11257"/>
                  <a:pt x="14019" y="11324"/>
                  <a:pt x="13940" y="11385"/>
                </a:cubicBezTo>
                <a:cubicBezTo>
                  <a:pt x="13903" y="11413"/>
                  <a:pt x="13856" y="11437"/>
                  <a:pt x="13816" y="11460"/>
                </a:cubicBezTo>
                <a:cubicBezTo>
                  <a:pt x="13862" y="11539"/>
                  <a:pt x="13898" y="11557"/>
                  <a:pt x="13990" y="11584"/>
                </a:cubicBezTo>
                <a:cubicBezTo>
                  <a:pt x="14080" y="11607"/>
                  <a:pt x="14104" y="11615"/>
                  <a:pt x="14163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Ink 9"/>
          <p:cNvSpPr/>
          <p:nvPr/>
        </p:nvSpPr>
        <p:spPr>
          <a:xfrm>
            <a:off x="5456160" y="4027320"/>
            <a:ext cx="88920" cy="17964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5156" y="11261"/>
                </a:moveTo>
                <a:cubicBezTo>
                  <a:pt x="15156" y="11322"/>
                  <a:pt x="15153" y="11390"/>
                  <a:pt x="15205" y="11435"/>
                </a:cubicBezTo>
                <a:cubicBezTo>
                  <a:pt x="15262" y="11484"/>
                  <a:pt x="15307" y="11485"/>
                  <a:pt x="15379" y="11485"/>
                </a:cubicBezTo>
              </a:path>
              <a:path w="249" h="497">
                <a:moveTo>
                  <a:pt x="15404" y="11187"/>
                </a:moveTo>
                <a:cubicBezTo>
                  <a:pt x="15360" y="11319"/>
                  <a:pt x="15354" y="11396"/>
                  <a:pt x="15354" y="11534"/>
                </a:cubicBezTo>
                <a:cubicBezTo>
                  <a:pt x="15354" y="11590"/>
                  <a:pt x="15377" y="11638"/>
                  <a:pt x="15404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Ink 10"/>
          <p:cNvSpPr/>
          <p:nvPr/>
        </p:nvSpPr>
        <p:spPr>
          <a:xfrm>
            <a:off x="5902200" y="4089240"/>
            <a:ext cx="152640" cy="1350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16421" y="11361"/>
                </a:moveTo>
                <a:cubicBezTo>
                  <a:pt x="16389" y="11478"/>
                  <a:pt x="16388" y="11488"/>
                  <a:pt x="16446" y="11584"/>
                </a:cubicBezTo>
                <a:cubicBezTo>
                  <a:pt x="16479" y="11638"/>
                  <a:pt x="16573" y="11712"/>
                  <a:pt x="16644" y="11708"/>
                </a:cubicBezTo>
                <a:cubicBezTo>
                  <a:pt x="16661" y="11700"/>
                  <a:pt x="16677" y="11691"/>
                  <a:pt x="16694" y="11683"/>
                </a:cubicBezTo>
              </a:path>
              <a:path w="423" h="373">
                <a:moveTo>
                  <a:pt x="16768" y="11658"/>
                </a:moveTo>
                <a:cubicBezTo>
                  <a:pt x="16813" y="11576"/>
                  <a:pt x="16856" y="11456"/>
                  <a:pt x="16694" y="11485"/>
                </a:cubicBezTo>
                <a:cubicBezTo>
                  <a:pt x="16651" y="11493"/>
                  <a:pt x="16610" y="11573"/>
                  <a:pt x="16619" y="11609"/>
                </a:cubicBezTo>
                <a:cubicBezTo>
                  <a:pt x="16652" y="11673"/>
                  <a:pt x="16672" y="11701"/>
                  <a:pt x="16718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Ink 11"/>
          <p:cNvSpPr/>
          <p:nvPr/>
        </p:nvSpPr>
        <p:spPr>
          <a:xfrm>
            <a:off x="6438960" y="4037040"/>
            <a:ext cx="125280" cy="150840"/>
          </a:xfrm>
          <a:custGeom>
            <a:avLst/>
            <a:gdLst/>
            <a:ahLst/>
            <a:rect l="l" t="t" r="r" b="b"/>
            <a:pathLst>
              <a:path w="348" h="422">
                <a:moveTo>
                  <a:pt x="18008" y="11212"/>
                </a:moveTo>
                <a:cubicBezTo>
                  <a:pt x="17964" y="11285"/>
                  <a:pt x="18000" y="11355"/>
                  <a:pt x="18033" y="11435"/>
                </a:cubicBezTo>
                <a:cubicBezTo>
                  <a:pt x="18055" y="11489"/>
                  <a:pt x="18129" y="11606"/>
                  <a:pt x="18033" y="11633"/>
                </a:cubicBezTo>
                <a:cubicBezTo>
                  <a:pt x="17995" y="11644"/>
                  <a:pt x="17921" y="11600"/>
                  <a:pt x="17909" y="11559"/>
                </a:cubicBezTo>
                <a:cubicBezTo>
                  <a:pt x="17893" y="11503"/>
                  <a:pt x="17870" y="11459"/>
                  <a:pt x="17909" y="11410"/>
                </a:cubicBezTo>
                <a:cubicBezTo>
                  <a:pt x="17959" y="11348"/>
                  <a:pt x="18014" y="11365"/>
                  <a:pt x="18083" y="11336"/>
                </a:cubicBezTo>
                <a:cubicBezTo>
                  <a:pt x="18149" y="11308"/>
                  <a:pt x="18243" y="11336"/>
                  <a:pt x="18207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Ink 12"/>
          <p:cNvSpPr/>
          <p:nvPr/>
        </p:nvSpPr>
        <p:spPr>
          <a:xfrm>
            <a:off x="4589640" y="4357800"/>
            <a:ext cx="214200" cy="135000"/>
          </a:xfrm>
          <a:custGeom>
            <a:avLst/>
            <a:gdLst/>
            <a:ahLst/>
            <a:rect l="l" t="t" r="r" b="b"/>
            <a:pathLst>
              <a:path w="596" h="373">
                <a:moveTo>
                  <a:pt x="12750" y="12452"/>
                </a:moveTo>
                <a:cubicBezTo>
                  <a:pt x="12775" y="12444"/>
                  <a:pt x="12799" y="12435"/>
                  <a:pt x="12824" y="12427"/>
                </a:cubicBezTo>
              </a:path>
              <a:path w="596" h="373">
                <a:moveTo>
                  <a:pt x="12973" y="12105"/>
                </a:moveTo>
                <a:cubicBezTo>
                  <a:pt x="13011" y="12108"/>
                  <a:pt x="13201" y="12103"/>
                  <a:pt x="13196" y="12179"/>
                </a:cubicBezTo>
                <a:cubicBezTo>
                  <a:pt x="13193" y="12219"/>
                  <a:pt x="13107" y="12351"/>
                  <a:pt x="13072" y="12378"/>
                </a:cubicBezTo>
                <a:cubicBezTo>
                  <a:pt x="13046" y="12398"/>
                  <a:pt x="13033" y="12459"/>
                  <a:pt x="13097" y="12477"/>
                </a:cubicBezTo>
                <a:cubicBezTo>
                  <a:pt x="13167" y="12497"/>
                  <a:pt x="13271" y="12477"/>
                  <a:pt x="13345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Ink 13"/>
          <p:cNvSpPr/>
          <p:nvPr/>
        </p:nvSpPr>
        <p:spPr>
          <a:xfrm>
            <a:off x="4643280" y="4840200"/>
            <a:ext cx="169920" cy="169920"/>
          </a:xfrm>
          <a:custGeom>
            <a:avLst/>
            <a:gdLst/>
            <a:ahLst/>
            <a:rect l="l" t="t" r="r" b="b"/>
            <a:pathLst>
              <a:path w="473" h="472">
                <a:moveTo>
                  <a:pt x="12898" y="13618"/>
                </a:moveTo>
                <a:cubicBezTo>
                  <a:pt x="12980" y="13618"/>
                  <a:pt x="13045" y="13619"/>
                  <a:pt x="13122" y="13593"/>
                </a:cubicBezTo>
              </a:path>
              <a:path w="473" h="472">
                <a:moveTo>
                  <a:pt x="13122" y="13593"/>
                </a:moveTo>
                <a:cubicBezTo>
                  <a:pt x="13192" y="13694"/>
                  <a:pt x="13180" y="13715"/>
                  <a:pt x="13295" y="13692"/>
                </a:cubicBezTo>
              </a:path>
              <a:path w="473" h="472">
                <a:moveTo>
                  <a:pt x="13370" y="13444"/>
                </a:moveTo>
                <a:cubicBezTo>
                  <a:pt x="13350" y="13606"/>
                  <a:pt x="13353" y="13691"/>
                  <a:pt x="13370" y="13841"/>
                </a:cubicBezTo>
                <a:cubicBezTo>
                  <a:pt x="13370" y="13866"/>
                  <a:pt x="13370" y="13890"/>
                  <a:pt x="13370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Ink 14"/>
          <p:cNvSpPr/>
          <p:nvPr/>
        </p:nvSpPr>
        <p:spPr>
          <a:xfrm>
            <a:off x="4626000" y="5330880"/>
            <a:ext cx="258840" cy="214200"/>
          </a:xfrm>
          <a:custGeom>
            <a:avLst/>
            <a:gdLst/>
            <a:ahLst/>
            <a:rect l="l" t="t" r="r" b="b"/>
            <a:pathLst>
              <a:path w="720" h="597">
                <a:moveTo>
                  <a:pt x="12849" y="15180"/>
                </a:moveTo>
                <a:cubicBezTo>
                  <a:pt x="12956" y="15171"/>
                  <a:pt x="12984" y="15137"/>
                  <a:pt x="13072" y="15081"/>
                </a:cubicBezTo>
              </a:path>
              <a:path w="720" h="597">
                <a:moveTo>
                  <a:pt x="13271" y="14808"/>
                </a:moveTo>
                <a:cubicBezTo>
                  <a:pt x="13245" y="14898"/>
                  <a:pt x="13189" y="14989"/>
                  <a:pt x="13171" y="15081"/>
                </a:cubicBezTo>
                <a:cubicBezTo>
                  <a:pt x="13156" y="15158"/>
                  <a:pt x="13169" y="15224"/>
                  <a:pt x="13221" y="15280"/>
                </a:cubicBezTo>
                <a:cubicBezTo>
                  <a:pt x="13280" y="15344"/>
                  <a:pt x="13331" y="15332"/>
                  <a:pt x="13395" y="15280"/>
                </a:cubicBezTo>
                <a:cubicBezTo>
                  <a:pt x="13421" y="15258"/>
                  <a:pt x="13445" y="15229"/>
                  <a:pt x="13469" y="15205"/>
                </a:cubicBezTo>
                <a:cubicBezTo>
                  <a:pt x="13419" y="15156"/>
                  <a:pt x="13358" y="15131"/>
                  <a:pt x="13295" y="15205"/>
                </a:cubicBezTo>
                <a:cubicBezTo>
                  <a:pt x="13258" y="15249"/>
                  <a:pt x="13264" y="15326"/>
                  <a:pt x="13246" y="15379"/>
                </a:cubicBezTo>
              </a:path>
              <a:path w="720" h="597">
                <a:moveTo>
                  <a:pt x="13395" y="15255"/>
                </a:moveTo>
                <a:cubicBezTo>
                  <a:pt x="13445" y="15306"/>
                  <a:pt x="13473" y="15323"/>
                  <a:pt x="13543" y="15280"/>
                </a:cubicBezTo>
                <a:cubicBezTo>
                  <a:pt x="13551" y="15272"/>
                  <a:pt x="13560" y="15263"/>
                  <a:pt x="13568" y="15255"/>
                </a:cubicBezTo>
                <a:cubicBezTo>
                  <a:pt x="13526" y="15181"/>
                  <a:pt x="13519" y="15165"/>
                  <a:pt x="13444" y="15205"/>
                </a:cubicBezTo>
                <a:cubicBezTo>
                  <a:pt x="13376" y="15242"/>
                  <a:pt x="13373" y="15315"/>
                  <a:pt x="13419" y="15379"/>
                </a:cubicBezTo>
                <a:cubicBezTo>
                  <a:pt x="13447" y="15407"/>
                  <a:pt x="13461" y="15416"/>
                  <a:pt x="13494" y="15404"/>
                </a:cubicBezTo>
                <a:cubicBezTo>
                  <a:pt x="13503" y="15342"/>
                  <a:pt x="13538" y="15310"/>
                  <a:pt x="13494" y="15255"/>
                </a:cubicBezTo>
                <a:cubicBezTo>
                  <a:pt x="13457" y="15208"/>
                  <a:pt x="13421" y="15169"/>
                  <a:pt x="13370" y="15205"/>
                </a:cubicBezTo>
                <a:cubicBezTo>
                  <a:pt x="13299" y="15255"/>
                  <a:pt x="13328" y="15313"/>
                  <a:pt x="13370" y="15379"/>
                </a:cubicBezTo>
                <a:cubicBezTo>
                  <a:pt x="13398" y="15407"/>
                  <a:pt x="13411" y="15416"/>
                  <a:pt x="13444" y="15404"/>
                </a:cubicBezTo>
                <a:cubicBezTo>
                  <a:pt x="13513" y="15335"/>
                  <a:pt x="13535" y="15323"/>
                  <a:pt x="13494" y="15230"/>
                </a:cubicBezTo>
                <a:cubicBezTo>
                  <a:pt x="13463" y="15160"/>
                  <a:pt x="13440" y="15141"/>
                  <a:pt x="13370" y="15131"/>
                </a:cubicBezTo>
                <a:cubicBezTo>
                  <a:pt x="13316" y="15185"/>
                  <a:pt x="13288" y="15251"/>
                  <a:pt x="13345" y="15329"/>
                </a:cubicBezTo>
                <a:cubicBezTo>
                  <a:pt x="13388" y="15388"/>
                  <a:pt x="13431" y="15393"/>
                  <a:pt x="13494" y="15354"/>
                </a:cubicBezTo>
                <a:cubicBezTo>
                  <a:pt x="13524" y="15324"/>
                  <a:pt x="13535" y="15310"/>
                  <a:pt x="13543" y="15280"/>
                </a:cubicBezTo>
                <a:cubicBezTo>
                  <a:pt x="13502" y="15228"/>
                  <a:pt x="13478" y="15161"/>
                  <a:pt x="13395" y="15180"/>
                </a:cubicBezTo>
                <a:cubicBezTo>
                  <a:pt x="13378" y="15188"/>
                  <a:pt x="13362" y="15197"/>
                  <a:pt x="13345" y="152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Ink 15"/>
          <p:cNvSpPr/>
          <p:nvPr/>
        </p:nvSpPr>
        <p:spPr>
          <a:xfrm>
            <a:off x="4518000" y="5688000"/>
            <a:ext cx="295200" cy="411120"/>
          </a:xfrm>
          <a:custGeom>
            <a:avLst/>
            <a:gdLst/>
            <a:ahLst/>
            <a:rect l="l" t="t" r="r" b="b"/>
            <a:pathLst>
              <a:path w="820" h="1142">
                <a:moveTo>
                  <a:pt x="12898" y="16446"/>
                </a:moveTo>
                <a:cubicBezTo>
                  <a:pt x="13016" y="16426"/>
                  <a:pt x="13037" y="16432"/>
                  <a:pt x="13097" y="16396"/>
                </a:cubicBezTo>
              </a:path>
              <a:path w="820" h="1142">
                <a:moveTo>
                  <a:pt x="13370" y="16272"/>
                </a:moveTo>
                <a:cubicBezTo>
                  <a:pt x="13342" y="16244"/>
                  <a:pt x="13328" y="16235"/>
                  <a:pt x="13295" y="16247"/>
                </a:cubicBezTo>
                <a:cubicBezTo>
                  <a:pt x="13271" y="16347"/>
                  <a:pt x="13254" y="16465"/>
                  <a:pt x="13271" y="16570"/>
                </a:cubicBezTo>
                <a:cubicBezTo>
                  <a:pt x="13286" y="16661"/>
                  <a:pt x="13319" y="16772"/>
                  <a:pt x="13295" y="16867"/>
                </a:cubicBezTo>
                <a:cubicBezTo>
                  <a:pt x="13274" y="16911"/>
                  <a:pt x="13271" y="16923"/>
                  <a:pt x="13246" y="16942"/>
                </a:cubicBezTo>
                <a:cubicBezTo>
                  <a:pt x="13177" y="16873"/>
                  <a:pt x="13196" y="16817"/>
                  <a:pt x="13196" y="16718"/>
                </a:cubicBezTo>
                <a:cubicBezTo>
                  <a:pt x="13196" y="16643"/>
                  <a:pt x="13210" y="16589"/>
                  <a:pt x="13221" y="16520"/>
                </a:cubicBezTo>
                <a:cubicBezTo>
                  <a:pt x="13233" y="16446"/>
                  <a:pt x="13269" y="16375"/>
                  <a:pt x="13295" y="16297"/>
                </a:cubicBezTo>
                <a:cubicBezTo>
                  <a:pt x="13303" y="16272"/>
                  <a:pt x="13312" y="16247"/>
                  <a:pt x="13320" y="16222"/>
                </a:cubicBezTo>
              </a:path>
              <a:path w="820" h="1142">
                <a:moveTo>
                  <a:pt x="12626" y="16024"/>
                </a:moveTo>
                <a:cubicBezTo>
                  <a:pt x="12682" y="15996"/>
                  <a:pt x="12770" y="15959"/>
                  <a:pt x="12750" y="15875"/>
                </a:cubicBezTo>
                <a:cubicBezTo>
                  <a:pt x="12742" y="15858"/>
                  <a:pt x="12733" y="15842"/>
                  <a:pt x="12725" y="15825"/>
                </a:cubicBezTo>
                <a:cubicBezTo>
                  <a:pt x="12679" y="15862"/>
                  <a:pt x="12616" y="15883"/>
                  <a:pt x="12601" y="15949"/>
                </a:cubicBezTo>
                <a:cubicBezTo>
                  <a:pt x="12594" y="15980"/>
                  <a:pt x="12632" y="16123"/>
                  <a:pt x="12675" y="16123"/>
                </a:cubicBezTo>
                <a:cubicBezTo>
                  <a:pt x="12741" y="16123"/>
                  <a:pt x="12765" y="16027"/>
                  <a:pt x="12750" y="15974"/>
                </a:cubicBezTo>
                <a:cubicBezTo>
                  <a:pt x="12725" y="15886"/>
                  <a:pt x="12685" y="15848"/>
                  <a:pt x="12601" y="15900"/>
                </a:cubicBezTo>
                <a:cubicBezTo>
                  <a:pt x="12573" y="15928"/>
                  <a:pt x="12564" y="15941"/>
                  <a:pt x="12576" y="15974"/>
                </a:cubicBezTo>
                <a:cubicBezTo>
                  <a:pt x="12599" y="16014"/>
                  <a:pt x="12661" y="16103"/>
                  <a:pt x="12725" y="16049"/>
                </a:cubicBezTo>
                <a:cubicBezTo>
                  <a:pt x="12778" y="16004"/>
                  <a:pt x="12800" y="15868"/>
                  <a:pt x="12725" y="15825"/>
                </a:cubicBezTo>
                <a:cubicBezTo>
                  <a:pt x="12675" y="15825"/>
                  <a:pt x="12659" y="15825"/>
                  <a:pt x="12626" y="15825"/>
                </a:cubicBezTo>
                <a:cubicBezTo>
                  <a:pt x="12582" y="15869"/>
                  <a:pt x="12557" y="15906"/>
                  <a:pt x="12576" y="15974"/>
                </a:cubicBezTo>
                <a:cubicBezTo>
                  <a:pt x="12596" y="16045"/>
                  <a:pt x="12644" y="16075"/>
                  <a:pt x="12700" y="16049"/>
                </a:cubicBezTo>
                <a:cubicBezTo>
                  <a:pt x="12769" y="16017"/>
                  <a:pt x="12794" y="15951"/>
                  <a:pt x="12774" y="15875"/>
                </a:cubicBezTo>
                <a:cubicBezTo>
                  <a:pt x="12753" y="15831"/>
                  <a:pt x="12750" y="15819"/>
                  <a:pt x="12725" y="15801"/>
                </a:cubicBezTo>
                <a:cubicBezTo>
                  <a:pt x="12665" y="15809"/>
                  <a:pt x="12618" y="15828"/>
                  <a:pt x="12601" y="15900"/>
                </a:cubicBezTo>
                <a:cubicBezTo>
                  <a:pt x="12583" y="15978"/>
                  <a:pt x="12604" y="16039"/>
                  <a:pt x="12650" y="16098"/>
                </a:cubicBezTo>
                <a:cubicBezTo>
                  <a:pt x="12747" y="16084"/>
                  <a:pt x="12715" y="16071"/>
                  <a:pt x="12750" y="15999"/>
                </a:cubicBezTo>
                <a:cubicBezTo>
                  <a:pt x="12766" y="15966"/>
                  <a:pt x="12760" y="15844"/>
                  <a:pt x="12700" y="15825"/>
                </a:cubicBezTo>
                <a:cubicBezTo>
                  <a:pt x="12612" y="15797"/>
                  <a:pt x="12564" y="15860"/>
                  <a:pt x="12551" y="15925"/>
                </a:cubicBezTo>
                <a:cubicBezTo>
                  <a:pt x="12541" y="15975"/>
                  <a:pt x="12573" y="16063"/>
                  <a:pt x="12601" y="16098"/>
                </a:cubicBezTo>
                <a:cubicBezTo>
                  <a:pt x="12649" y="16158"/>
                  <a:pt x="12710" y="16111"/>
                  <a:pt x="12725" y="16049"/>
                </a:cubicBezTo>
                <a:cubicBezTo>
                  <a:pt x="12734" y="16009"/>
                  <a:pt x="12678" y="15859"/>
                  <a:pt x="12626" y="15949"/>
                </a:cubicBezTo>
                <a:cubicBezTo>
                  <a:pt x="12626" y="15994"/>
                  <a:pt x="12622" y="16014"/>
                  <a:pt x="12650" y="159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Ink 16"/>
          <p:cNvSpPr/>
          <p:nvPr/>
        </p:nvSpPr>
        <p:spPr>
          <a:xfrm>
            <a:off x="2438280" y="3990960"/>
            <a:ext cx="204840" cy="196920"/>
          </a:xfrm>
          <a:custGeom>
            <a:avLst/>
            <a:gdLst/>
            <a:ahLst/>
            <a:rect l="l" t="t" r="r" b="b"/>
            <a:pathLst>
              <a:path w="571" h="546">
                <a:moveTo>
                  <a:pt x="6772" y="11336"/>
                </a:moveTo>
                <a:cubicBezTo>
                  <a:pt x="6887" y="11336"/>
                  <a:pt x="6959" y="11304"/>
                  <a:pt x="7069" y="11261"/>
                </a:cubicBezTo>
              </a:path>
              <a:path w="571" h="546">
                <a:moveTo>
                  <a:pt x="7317" y="11088"/>
                </a:moveTo>
                <a:cubicBezTo>
                  <a:pt x="7152" y="11097"/>
                  <a:pt x="7181" y="11089"/>
                  <a:pt x="7045" y="11187"/>
                </a:cubicBezTo>
                <a:cubicBezTo>
                  <a:pt x="7080" y="11258"/>
                  <a:pt x="7120" y="11325"/>
                  <a:pt x="7169" y="11385"/>
                </a:cubicBezTo>
                <a:cubicBezTo>
                  <a:pt x="7212" y="11438"/>
                  <a:pt x="7286" y="11506"/>
                  <a:pt x="7268" y="11584"/>
                </a:cubicBezTo>
                <a:cubicBezTo>
                  <a:pt x="7244" y="11632"/>
                  <a:pt x="7237" y="11648"/>
                  <a:pt x="7193" y="11633"/>
                </a:cubicBezTo>
                <a:cubicBezTo>
                  <a:pt x="7120" y="11560"/>
                  <a:pt x="7131" y="11514"/>
                  <a:pt x="7193" y="11410"/>
                </a:cubicBezTo>
                <a:cubicBezTo>
                  <a:pt x="7230" y="11347"/>
                  <a:pt x="7314" y="11307"/>
                  <a:pt x="7342" y="11237"/>
                </a:cubicBezTo>
                <a:cubicBezTo>
                  <a:pt x="7342" y="11229"/>
                  <a:pt x="7342" y="11220"/>
                  <a:pt x="7342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Ink 17"/>
          <p:cNvSpPr/>
          <p:nvPr/>
        </p:nvSpPr>
        <p:spPr>
          <a:xfrm>
            <a:off x="2894040" y="4081320"/>
            <a:ext cx="241200" cy="98640"/>
          </a:xfrm>
          <a:custGeom>
            <a:avLst/>
            <a:gdLst/>
            <a:ahLst/>
            <a:rect l="l" t="t" r="r" b="b"/>
            <a:pathLst>
              <a:path w="670" h="274">
                <a:moveTo>
                  <a:pt x="8037" y="11336"/>
                </a:moveTo>
                <a:cubicBezTo>
                  <a:pt x="8136" y="11336"/>
                  <a:pt x="8235" y="11336"/>
                  <a:pt x="8334" y="11336"/>
                </a:cubicBezTo>
              </a:path>
              <a:path w="670" h="274">
                <a:moveTo>
                  <a:pt x="8359" y="11385"/>
                </a:moveTo>
                <a:cubicBezTo>
                  <a:pt x="8397" y="11504"/>
                  <a:pt x="8384" y="11602"/>
                  <a:pt x="8508" y="11609"/>
                </a:cubicBezTo>
                <a:cubicBezTo>
                  <a:pt x="8611" y="11615"/>
                  <a:pt x="8630" y="11578"/>
                  <a:pt x="8682" y="11509"/>
                </a:cubicBezTo>
                <a:cubicBezTo>
                  <a:pt x="8721" y="11457"/>
                  <a:pt x="8704" y="11445"/>
                  <a:pt x="8682" y="11385"/>
                </a:cubicBezTo>
                <a:cubicBezTo>
                  <a:pt x="8612" y="11394"/>
                  <a:pt x="8562" y="11410"/>
                  <a:pt x="8508" y="11460"/>
                </a:cubicBezTo>
                <a:cubicBezTo>
                  <a:pt x="8445" y="11518"/>
                  <a:pt x="8434" y="11527"/>
                  <a:pt x="8434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Ink 18"/>
          <p:cNvSpPr/>
          <p:nvPr/>
        </p:nvSpPr>
        <p:spPr>
          <a:xfrm>
            <a:off x="3411360" y="4017960"/>
            <a:ext cx="177840" cy="152280"/>
          </a:xfrm>
          <a:custGeom>
            <a:avLst/>
            <a:gdLst/>
            <a:ahLst/>
            <a:rect l="l" t="t" r="r" b="b"/>
            <a:pathLst>
              <a:path w="497" h="423">
                <a:moveTo>
                  <a:pt x="9475" y="11385"/>
                </a:moveTo>
                <a:cubicBezTo>
                  <a:pt x="9558" y="11363"/>
                  <a:pt x="9634" y="11361"/>
                  <a:pt x="9723" y="11361"/>
                </a:cubicBezTo>
              </a:path>
              <a:path w="497" h="423">
                <a:moveTo>
                  <a:pt x="9699" y="11361"/>
                </a:moveTo>
                <a:cubicBezTo>
                  <a:pt x="9770" y="11432"/>
                  <a:pt x="9793" y="11407"/>
                  <a:pt x="9897" y="11385"/>
                </a:cubicBezTo>
              </a:path>
              <a:path w="497" h="423">
                <a:moveTo>
                  <a:pt x="9971" y="11162"/>
                </a:moveTo>
                <a:cubicBezTo>
                  <a:pt x="9944" y="11239"/>
                  <a:pt x="9891" y="11354"/>
                  <a:pt x="9897" y="11435"/>
                </a:cubicBezTo>
                <a:cubicBezTo>
                  <a:pt x="9901" y="11488"/>
                  <a:pt x="9922" y="11528"/>
                  <a:pt x="9922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Ink 19"/>
          <p:cNvSpPr/>
          <p:nvPr/>
        </p:nvSpPr>
        <p:spPr>
          <a:xfrm>
            <a:off x="3803760" y="4054320"/>
            <a:ext cx="287280" cy="160560"/>
          </a:xfrm>
          <a:custGeom>
            <a:avLst/>
            <a:gdLst/>
            <a:ahLst/>
            <a:rect l="l" t="t" r="r" b="b"/>
            <a:pathLst>
              <a:path w="795" h="448">
                <a:moveTo>
                  <a:pt x="10567" y="11509"/>
                </a:moveTo>
                <a:cubicBezTo>
                  <a:pt x="10640" y="11516"/>
                  <a:pt x="10692" y="11527"/>
                  <a:pt x="10765" y="11534"/>
                </a:cubicBezTo>
              </a:path>
              <a:path w="795" h="448">
                <a:moveTo>
                  <a:pt x="11013" y="11261"/>
                </a:moveTo>
                <a:cubicBezTo>
                  <a:pt x="11127" y="11269"/>
                  <a:pt x="11182" y="11257"/>
                  <a:pt x="11237" y="11361"/>
                </a:cubicBezTo>
                <a:cubicBezTo>
                  <a:pt x="11259" y="11402"/>
                  <a:pt x="11256" y="11475"/>
                  <a:pt x="11212" y="11509"/>
                </a:cubicBezTo>
                <a:cubicBezTo>
                  <a:pt x="11155" y="11537"/>
                  <a:pt x="11132" y="11548"/>
                  <a:pt x="11088" y="11559"/>
                </a:cubicBezTo>
                <a:cubicBezTo>
                  <a:pt x="11127" y="11629"/>
                  <a:pt x="11151" y="11666"/>
                  <a:pt x="11237" y="11683"/>
                </a:cubicBezTo>
                <a:cubicBezTo>
                  <a:pt x="11296" y="11683"/>
                  <a:pt x="11322" y="11686"/>
                  <a:pt x="11361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(x) = (x – 6)</a:t>
            </a:r>
            <a:r>
              <a:rPr b="0" lang="en-US" sz="44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 + 3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2" descr="handygraph1"/>
          <p:cNvPicPr/>
          <p:nvPr/>
        </p:nvPicPr>
        <p:blipFill>
          <a:blip r:embed="rId1"/>
          <a:stretch/>
        </p:blipFill>
        <p:spPr>
          <a:xfrm>
            <a:off x="1371600" y="1295280"/>
            <a:ext cx="6095880" cy="6262920"/>
          </a:xfrm>
          <a:prstGeom prst="rect">
            <a:avLst/>
          </a:prstGeom>
          <a:ln w="0">
            <a:noFill/>
          </a:ln>
        </p:spPr>
      </p:pic>
      <p:sp>
        <p:nvSpPr>
          <p:cNvPr id="424" name="Ink 5"/>
          <p:cNvSpPr/>
          <p:nvPr/>
        </p:nvSpPr>
        <p:spPr>
          <a:xfrm>
            <a:off x="4303800" y="830160"/>
            <a:ext cx="1144440" cy="625680"/>
          </a:xfrm>
          <a:custGeom>
            <a:avLst/>
            <a:gdLst/>
            <a:ahLst/>
            <a:rect l="l" t="t" r="r" b="b"/>
            <a:pathLst>
              <a:path w="3176" h="1737">
                <a:moveTo>
                  <a:pt x="12303" y="2356"/>
                </a:moveTo>
                <a:cubicBezTo>
                  <a:pt x="12303" y="2340"/>
                  <a:pt x="12303" y="2323"/>
                  <a:pt x="12303" y="2307"/>
                </a:cubicBezTo>
                <a:cubicBezTo>
                  <a:pt x="12255" y="2379"/>
                  <a:pt x="12223" y="2455"/>
                  <a:pt x="12179" y="2530"/>
                </a:cubicBezTo>
                <a:cubicBezTo>
                  <a:pt x="12117" y="2637"/>
                  <a:pt x="12046" y="2738"/>
                  <a:pt x="12005" y="2853"/>
                </a:cubicBezTo>
                <a:cubicBezTo>
                  <a:pt x="11963" y="2970"/>
                  <a:pt x="11960" y="3126"/>
                  <a:pt x="11956" y="3249"/>
                </a:cubicBezTo>
                <a:cubicBezTo>
                  <a:pt x="11953" y="3350"/>
                  <a:pt x="11971" y="3477"/>
                  <a:pt x="12005" y="3572"/>
                </a:cubicBezTo>
                <a:cubicBezTo>
                  <a:pt x="12032" y="3647"/>
                  <a:pt x="12099" y="3701"/>
                  <a:pt x="12154" y="3746"/>
                </a:cubicBezTo>
                <a:cubicBezTo>
                  <a:pt x="12199" y="3784"/>
                  <a:pt x="12258" y="3782"/>
                  <a:pt x="12303" y="3746"/>
                </a:cubicBezTo>
                <a:cubicBezTo>
                  <a:pt x="12311" y="3738"/>
                  <a:pt x="12320" y="3729"/>
                  <a:pt x="12328" y="3721"/>
                </a:cubicBezTo>
              </a:path>
              <a:path w="3176" h="1737">
                <a:moveTo>
                  <a:pt x="12700" y="2530"/>
                </a:moveTo>
                <a:cubicBezTo>
                  <a:pt x="12700" y="2624"/>
                  <a:pt x="12675" y="2688"/>
                  <a:pt x="12650" y="2778"/>
                </a:cubicBezTo>
                <a:cubicBezTo>
                  <a:pt x="12618" y="2894"/>
                  <a:pt x="12583" y="3009"/>
                  <a:pt x="12551" y="3125"/>
                </a:cubicBezTo>
                <a:cubicBezTo>
                  <a:pt x="12526" y="3216"/>
                  <a:pt x="12504" y="3352"/>
                  <a:pt x="12526" y="3448"/>
                </a:cubicBezTo>
                <a:cubicBezTo>
                  <a:pt x="12542" y="3517"/>
                  <a:pt x="12605" y="3602"/>
                  <a:pt x="12675" y="3621"/>
                </a:cubicBezTo>
                <a:cubicBezTo>
                  <a:pt x="12752" y="3642"/>
                  <a:pt x="12853" y="3620"/>
                  <a:pt x="12923" y="3597"/>
                </a:cubicBezTo>
                <a:cubicBezTo>
                  <a:pt x="13006" y="3570"/>
                  <a:pt x="13113" y="3541"/>
                  <a:pt x="13171" y="3473"/>
                </a:cubicBezTo>
                <a:cubicBezTo>
                  <a:pt x="13222" y="3414"/>
                  <a:pt x="13260" y="3293"/>
                  <a:pt x="13221" y="3225"/>
                </a:cubicBezTo>
                <a:cubicBezTo>
                  <a:pt x="13178" y="3150"/>
                  <a:pt x="13090" y="3190"/>
                  <a:pt x="13047" y="3249"/>
                </a:cubicBezTo>
                <a:cubicBezTo>
                  <a:pt x="13002" y="3311"/>
                  <a:pt x="12961" y="3372"/>
                  <a:pt x="12948" y="3448"/>
                </a:cubicBezTo>
                <a:cubicBezTo>
                  <a:pt x="12937" y="3510"/>
                  <a:pt x="12948" y="3616"/>
                  <a:pt x="12973" y="3671"/>
                </a:cubicBezTo>
                <a:cubicBezTo>
                  <a:pt x="12994" y="3716"/>
                  <a:pt x="13036" y="3759"/>
                  <a:pt x="13072" y="3795"/>
                </a:cubicBezTo>
                <a:cubicBezTo>
                  <a:pt x="13114" y="3837"/>
                  <a:pt x="13100" y="3844"/>
                  <a:pt x="13146" y="3820"/>
                </a:cubicBezTo>
              </a:path>
              <a:path w="3176" h="1737">
                <a:moveTo>
                  <a:pt x="13593" y="3373"/>
                </a:moveTo>
                <a:cubicBezTo>
                  <a:pt x="13617" y="3468"/>
                  <a:pt x="13618" y="3547"/>
                  <a:pt x="13618" y="3646"/>
                </a:cubicBezTo>
                <a:cubicBezTo>
                  <a:pt x="13618" y="3739"/>
                  <a:pt x="13579" y="3947"/>
                  <a:pt x="13593" y="4018"/>
                </a:cubicBezTo>
                <a:cubicBezTo>
                  <a:pt x="13616" y="4041"/>
                  <a:pt x="13624" y="4052"/>
                  <a:pt x="13618" y="4018"/>
                </a:cubicBezTo>
              </a:path>
              <a:path w="3176" h="1737">
                <a:moveTo>
                  <a:pt x="13965" y="2803"/>
                </a:moveTo>
                <a:cubicBezTo>
                  <a:pt x="14008" y="2745"/>
                  <a:pt x="14108" y="2555"/>
                  <a:pt x="14213" y="2530"/>
                </a:cubicBezTo>
                <a:cubicBezTo>
                  <a:pt x="14280" y="2514"/>
                  <a:pt x="14359" y="2526"/>
                  <a:pt x="14412" y="2555"/>
                </a:cubicBezTo>
                <a:cubicBezTo>
                  <a:pt x="14493" y="2599"/>
                  <a:pt x="14486" y="2614"/>
                  <a:pt x="14486" y="2704"/>
                </a:cubicBezTo>
                <a:cubicBezTo>
                  <a:pt x="14486" y="2782"/>
                  <a:pt x="14435" y="2866"/>
                  <a:pt x="14387" y="2927"/>
                </a:cubicBezTo>
                <a:cubicBezTo>
                  <a:pt x="14308" y="3027"/>
                  <a:pt x="14156" y="3098"/>
                  <a:pt x="14139" y="3225"/>
                </a:cubicBezTo>
                <a:cubicBezTo>
                  <a:pt x="14186" y="3177"/>
                  <a:pt x="14238" y="3166"/>
                  <a:pt x="14288" y="3125"/>
                </a:cubicBezTo>
                <a:cubicBezTo>
                  <a:pt x="14324" y="3096"/>
                  <a:pt x="14383" y="2998"/>
                  <a:pt x="14436" y="3001"/>
                </a:cubicBezTo>
                <a:cubicBezTo>
                  <a:pt x="14536" y="3007"/>
                  <a:pt x="14538" y="3084"/>
                  <a:pt x="14560" y="3150"/>
                </a:cubicBezTo>
                <a:cubicBezTo>
                  <a:pt x="14591" y="3242"/>
                  <a:pt x="14579" y="3281"/>
                  <a:pt x="14536" y="3373"/>
                </a:cubicBezTo>
                <a:cubicBezTo>
                  <a:pt x="14498" y="3455"/>
                  <a:pt x="14414" y="3485"/>
                  <a:pt x="14337" y="3522"/>
                </a:cubicBezTo>
                <a:cubicBezTo>
                  <a:pt x="14253" y="3562"/>
                  <a:pt x="14181" y="3593"/>
                  <a:pt x="14089" y="3597"/>
                </a:cubicBezTo>
                <a:cubicBezTo>
                  <a:pt x="14023" y="3597"/>
                  <a:pt x="13998" y="3605"/>
                  <a:pt x="14015" y="3547"/>
                </a:cubicBezTo>
              </a:path>
              <a:path w="3176" h="1737">
                <a:moveTo>
                  <a:pt x="14684" y="2381"/>
                </a:moveTo>
                <a:cubicBezTo>
                  <a:pt x="14810" y="2495"/>
                  <a:pt x="14885" y="2589"/>
                  <a:pt x="14982" y="2729"/>
                </a:cubicBezTo>
                <a:cubicBezTo>
                  <a:pt x="15071" y="2858"/>
                  <a:pt x="15126" y="2966"/>
                  <a:pt x="15131" y="3125"/>
                </a:cubicBezTo>
                <a:cubicBezTo>
                  <a:pt x="15135" y="3242"/>
                  <a:pt x="15105" y="3354"/>
                  <a:pt x="15032" y="3448"/>
                </a:cubicBezTo>
                <a:cubicBezTo>
                  <a:pt x="14956" y="3546"/>
                  <a:pt x="14856" y="3618"/>
                  <a:pt x="14784" y="3721"/>
                </a:cubicBezTo>
                <a:cubicBezTo>
                  <a:pt x="14734" y="3795"/>
                  <a:pt x="14717" y="3820"/>
                  <a:pt x="14684" y="38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Ink 6"/>
          <p:cNvSpPr/>
          <p:nvPr/>
        </p:nvSpPr>
        <p:spPr>
          <a:xfrm>
            <a:off x="4813200" y="4268880"/>
            <a:ext cx="108000" cy="115920"/>
          </a:xfrm>
          <a:custGeom>
            <a:avLst/>
            <a:gdLst/>
            <a:ahLst/>
            <a:rect l="l" t="t" r="r" b="b"/>
            <a:pathLst>
              <a:path w="298" h="323">
                <a:moveTo>
                  <a:pt x="13494" y="11857"/>
                </a:moveTo>
                <a:cubicBezTo>
                  <a:pt x="13514" y="11905"/>
                  <a:pt x="13500" y="11945"/>
                  <a:pt x="13444" y="11981"/>
                </a:cubicBezTo>
                <a:cubicBezTo>
                  <a:pt x="13365" y="12031"/>
                  <a:pt x="13349" y="12050"/>
                  <a:pt x="13444" y="12105"/>
                </a:cubicBezTo>
                <a:cubicBezTo>
                  <a:pt x="13493" y="12134"/>
                  <a:pt x="13570" y="12169"/>
                  <a:pt x="13618" y="12179"/>
                </a:cubicBezTo>
                <a:cubicBezTo>
                  <a:pt x="13634" y="12179"/>
                  <a:pt x="13651" y="12179"/>
                  <a:pt x="13667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Ink 7"/>
          <p:cNvSpPr/>
          <p:nvPr/>
        </p:nvSpPr>
        <p:spPr>
          <a:xfrm>
            <a:off x="5357880" y="4259160"/>
            <a:ext cx="90360" cy="196920"/>
          </a:xfrm>
          <a:custGeom>
            <a:avLst/>
            <a:gdLst/>
            <a:ahLst/>
            <a:rect l="l" t="t" r="r" b="b"/>
            <a:pathLst>
              <a:path w="249" h="547">
                <a:moveTo>
                  <a:pt x="14908" y="12005"/>
                </a:moveTo>
                <a:cubicBezTo>
                  <a:pt x="14871" y="12067"/>
                  <a:pt x="14881" y="12097"/>
                  <a:pt x="14932" y="12154"/>
                </a:cubicBezTo>
                <a:cubicBezTo>
                  <a:pt x="14989" y="12218"/>
                  <a:pt x="15005" y="12193"/>
                  <a:pt x="15081" y="12179"/>
                </a:cubicBezTo>
              </a:path>
              <a:path w="249" h="547">
                <a:moveTo>
                  <a:pt x="15106" y="11832"/>
                </a:moveTo>
                <a:cubicBezTo>
                  <a:pt x="15073" y="11995"/>
                  <a:pt x="15056" y="12097"/>
                  <a:pt x="15056" y="12254"/>
                </a:cubicBezTo>
                <a:cubicBezTo>
                  <a:pt x="15056" y="12319"/>
                  <a:pt x="15069" y="12363"/>
                  <a:pt x="15131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Ink 8"/>
          <p:cNvSpPr/>
          <p:nvPr/>
        </p:nvSpPr>
        <p:spPr>
          <a:xfrm>
            <a:off x="5796000" y="4340160"/>
            <a:ext cx="13320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16148" y="12055"/>
                </a:moveTo>
                <a:cubicBezTo>
                  <a:pt x="16130" y="12145"/>
                  <a:pt x="16059" y="12302"/>
                  <a:pt x="16148" y="12378"/>
                </a:cubicBezTo>
                <a:cubicBezTo>
                  <a:pt x="16188" y="12412"/>
                  <a:pt x="16297" y="12415"/>
                  <a:pt x="16346" y="12402"/>
                </a:cubicBezTo>
                <a:cubicBezTo>
                  <a:pt x="16367" y="12396"/>
                  <a:pt x="16473" y="12305"/>
                  <a:pt x="16470" y="12278"/>
                </a:cubicBezTo>
                <a:cubicBezTo>
                  <a:pt x="16463" y="12210"/>
                  <a:pt x="16392" y="12182"/>
                  <a:pt x="16346" y="12204"/>
                </a:cubicBezTo>
                <a:cubicBezTo>
                  <a:pt x="16269" y="12241"/>
                  <a:pt x="16305" y="12252"/>
                  <a:pt x="16346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Ink 9"/>
          <p:cNvSpPr/>
          <p:nvPr/>
        </p:nvSpPr>
        <p:spPr>
          <a:xfrm>
            <a:off x="6269040" y="4313160"/>
            <a:ext cx="142920" cy="152640"/>
          </a:xfrm>
          <a:custGeom>
            <a:avLst/>
            <a:gdLst/>
            <a:ahLst/>
            <a:rect l="l" t="t" r="r" b="b"/>
            <a:pathLst>
              <a:path w="398" h="422">
                <a:moveTo>
                  <a:pt x="17512" y="12005"/>
                </a:moveTo>
                <a:cubicBezTo>
                  <a:pt x="17452" y="11985"/>
                  <a:pt x="17437" y="11967"/>
                  <a:pt x="17413" y="12005"/>
                </a:cubicBezTo>
                <a:cubicBezTo>
                  <a:pt x="17443" y="12089"/>
                  <a:pt x="17473" y="12173"/>
                  <a:pt x="17512" y="12254"/>
                </a:cubicBezTo>
                <a:cubicBezTo>
                  <a:pt x="17548" y="12330"/>
                  <a:pt x="17556" y="12325"/>
                  <a:pt x="17537" y="12402"/>
                </a:cubicBezTo>
                <a:cubicBezTo>
                  <a:pt x="17505" y="12379"/>
                  <a:pt x="17410" y="12308"/>
                  <a:pt x="17413" y="12254"/>
                </a:cubicBezTo>
                <a:cubicBezTo>
                  <a:pt x="17418" y="12169"/>
                  <a:pt x="17499" y="12136"/>
                  <a:pt x="17562" y="12105"/>
                </a:cubicBezTo>
                <a:cubicBezTo>
                  <a:pt x="17631" y="12071"/>
                  <a:pt x="17693" y="12060"/>
                  <a:pt x="17760" y="12030"/>
                </a:cubicBezTo>
                <a:cubicBezTo>
                  <a:pt x="17777" y="12022"/>
                  <a:pt x="17793" y="12013"/>
                  <a:pt x="17810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Ink 10"/>
          <p:cNvSpPr/>
          <p:nvPr/>
        </p:nvSpPr>
        <p:spPr>
          <a:xfrm>
            <a:off x="6823080" y="4295880"/>
            <a:ext cx="169920" cy="19692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19000" y="12154"/>
                </a:moveTo>
                <a:cubicBezTo>
                  <a:pt x="18980" y="12240"/>
                  <a:pt x="18951" y="12316"/>
                  <a:pt x="18951" y="12402"/>
                </a:cubicBezTo>
              </a:path>
              <a:path w="472" h="547">
                <a:moveTo>
                  <a:pt x="19248" y="12179"/>
                </a:moveTo>
                <a:cubicBezTo>
                  <a:pt x="19227" y="12257"/>
                  <a:pt x="19202" y="12327"/>
                  <a:pt x="19248" y="12402"/>
                </a:cubicBezTo>
                <a:cubicBezTo>
                  <a:pt x="19271" y="12439"/>
                  <a:pt x="19313" y="12457"/>
                  <a:pt x="19348" y="12477"/>
                </a:cubicBezTo>
                <a:cubicBezTo>
                  <a:pt x="19403" y="12430"/>
                  <a:pt x="19418" y="12386"/>
                  <a:pt x="19422" y="12303"/>
                </a:cubicBezTo>
                <a:cubicBezTo>
                  <a:pt x="19427" y="12182"/>
                  <a:pt x="19318" y="12074"/>
                  <a:pt x="19224" y="12005"/>
                </a:cubicBezTo>
                <a:cubicBezTo>
                  <a:pt x="19183" y="11980"/>
                  <a:pt x="19141" y="11956"/>
                  <a:pt x="19100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Ink 11"/>
          <p:cNvSpPr/>
          <p:nvPr/>
        </p:nvSpPr>
        <p:spPr>
          <a:xfrm>
            <a:off x="4438800" y="3589200"/>
            <a:ext cx="98280" cy="1620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12378" y="9971"/>
                </a:moveTo>
                <a:cubicBezTo>
                  <a:pt x="12470" y="9991"/>
                  <a:pt x="12577" y="10014"/>
                  <a:pt x="12551" y="10145"/>
                </a:cubicBezTo>
                <a:cubicBezTo>
                  <a:pt x="12532" y="10238"/>
                  <a:pt x="12441" y="10286"/>
                  <a:pt x="12378" y="10344"/>
                </a:cubicBezTo>
                <a:cubicBezTo>
                  <a:pt x="12348" y="10373"/>
                  <a:pt x="12336" y="10387"/>
                  <a:pt x="12328" y="10418"/>
                </a:cubicBezTo>
                <a:cubicBezTo>
                  <a:pt x="12427" y="10418"/>
                  <a:pt x="12470" y="10412"/>
                  <a:pt x="12551" y="10368"/>
                </a:cubicBezTo>
                <a:cubicBezTo>
                  <a:pt x="12568" y="10360"/>
                  <a:pt x="12584" y="10352"/>
                  <a:pt x="12601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Ink 12"/>
          <p:cNvSpPr/>
          <p:nvPr/>
        </p:nvSpPr>
        <p:spPr>
          <a:xfrm>
            <a:off x="4483080" y="3106800"/>
            <a:ext cx="71280" cy="90360"/>
          </a:xfrm>
          <a:custGeom>
            <a:avLst/>
            <a:gdLst/>
            <a:ahLst/>
            <a:rect l="l" t="t" r="r" b="b"/>
            <a:pathLst>
              <a:path w="199" h="249">
                <a:moveTo>
                  <a:pt x="12452" y="8632"/>
                </a:moveTo>
                <a:cubicBezTo>
                  <a:pt x="12456" y="8687"/>
                  <a:pt x="12447" y="8852"/>
                  <a:pt x="12526" y="8880"/>
                </a:cubicBezTo>
                <a:cubicBezTo>
                  <a:pt x="12558" y="8891"/>
                  <a:pt x="12615" y="8880"/>
                  <a:pt x="12650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Ink 13"/>
          <p:cNvSpPr/>
          <p:nvPr/>
        </p:nvSpPr>
        <p:spPr>
          <a:xfrm>
            <a:off x="4562640" y="3062160"/>
            <a:ext cx="9360" cy="162000"/>
          </a:xfrm>
          <a:custGeom>
            <a:avLst/>
            <a:gdLst/>
            <a:ahLst/>
            <a:rect l="l" t="t" r="r" b="b"/>
            <a:pathLst>
              <a:path w="26" h="447">
                <a:moveTo>
                  <a:pt x="12700" y="8508"/>
                </a:moveTo>
                <a:cubicBezTo>
                  <a:pt x="12680" y="8629"/>
                  <a:pt x="12675" y="8733"/>
                  <a:pt x="12675" y="8855"/>
                </a:cubicBezTo>
                <a:cubicBezTo>
                  <a:pt x="12675" y="8917"/>
                  <a:pt x="12665" y="8932"/>
                  <a:pt x="12700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Ink 14"/>
          <p:cNvSpPr/>
          <p:nvPr/>
        </p:nvSpPr>
        <p:spPr>
          <a:xfrm>
            <a:off x="4464000" y="2589120"/>
            <a:ext cx="108000" cy="125640"/>
          </a:xfrm>
          <a:custGeom>
            <a:avLst/>
            <a:gdLst/>
            <a:ahLst/>
            <a:rect l="l" t="t" r="r" b="b"/>
            <a:pathLst>
              <a:path w="299" h="349">
                <a:moveTo>
                  <a:pt x="12427" y="7193"/>
                </a:moveTo>
                <a:cubicBezTo>
                  <a:pt x="12414" y="7284"/>
                  <a:pt x="12363" y="7436"/>
                  <a:pt x="12427" y="7516"/>
                </a:cubicBezTo>
                <a:cubicBezTo>
                  <a:pt x="12475" y="7576"/>
                  <a:pt x="12574" y="7525"/>
                  <a:pt x="12626" y="7491"/>
                </a:cubicBezTo>
                <a:cubicBezTo>
                  <a:pt x="12691" y="7449"/>
                  <a:pt x="12694" y="7358"/>
                  <a:pt x="12700" y="7293"/>
                </a:cubicBezTo>
                <a:cubicBezTo>
                  <a:pt x="12633" y="7302"/>
                  <a:pt x="12624" y="7319"/>
                  <a:pt x="12576" y="7367"/>
                </a:cubicBezTo>
                <a:cubicBezTo>
                  <a:pt x="12551" y="7392"/>
                  <a:pt x="12543" y="7400"/>
                  <a:pt x="12526" y="74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Ink 15"/>
          <p:cNvSpPr/>
          <p:nvPr/>
        </p:nvSpPr>
        <p:spPr>
          <a:xfrm>
            <a:off x="4438800" y="2089080"/>
            <a:ext cx="7920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12551" y="5829"/>
                </a:moveTo>
                <a:cubicBezTo>
                  <a:pt x="12467" y="5801"/>
                  <a:pt x="12441" y="5790"/>
                  <a:pt x="12378" y="5854"/>
                </a:cubicBezTo>
                <a:cubicBezTo>
                  <a:pt x="12334" y="5899"/>
                  <a:pt x="12297" y="5972"/>
                  <a:pt x="12353" y="6028"/>
                </a:cubicBezTo>
                <a:cubicBezTo>
                  <a:pt x="12396" y="6071"/>
                  <a:pt x="12507" y="6145"/>
                  <a:pt x="12502" y="6226"/>
                </a:cubicBezTo>
                <a:cubicBezTo>
                  <a:pt x="12494" y="6243"/>
                  <a:pt x="12485" y="6259"/>
                  <a:pt x="12477" y="6276"/>
                </a:cubicBezTo>
                <a:cubicBezTo>
                  <a:pt x="12388" y="6300"/>
                  <a:pt x="12361" y="6276"/>
                  <a:pt x="12353" y="6176"/>
                </a:cubicBezTo>
                <a:cubicBezTo>
                  <a:pt x="12344" y="6065"/>
                  <a:pt x="12427" y="6006"/>
                  <a:pt x="12452" y="5904"/>
                </a:cubicBezTo>
                <a:cubicBezTo>
                  <a:pt x="12462" y="5863"/>
                  <a:pt x="12468" y="5842"/>
                  <a:pt x="12477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Ink 16"/>
          <p:cNvSpPr/>
          <p:nvPr/>
        </p:nvSpPr>
        <p:spPr>
          <a:xfrm>
            <a:off x="5840280" y="3330720"/>
            <a:ext cx="106560" cy="9828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16346" y="9327"/>
                </a:moveTo>
                <a:cubicBezTo>
                  <a:pt x="16346" y="9362"/>
                  <a:pt x="16341" y="9531"/>
                  <a:pt x="16421" y="9451"/>
                </a:cubicBezTo>
                <a:cubicBezTo>
                  <a:pt x="16443" y="9407"/>
                  <a:pt x="16446" y="9396"/>
                  <a:pt x="16470" y="9376"/>
                </a:cubicBezTo>
                <a:cubicBezTo>
                  <a:pt x="16461" y="9308"/>
                  <a:pt x="16438" y="9270"/>
                  <a:pt x="16371" y="9327"/>
                </a:cubicBezTo>
                <a:cubicBezTo>
                  <a:pt x="16310" y="9379"/>
                  <a:pt x="16296" y="9361"/>
                  <a:pt x="16321" y="9401"/>
                </a:cubicBezTo>
                <a:cubicBezTo>
                  <a:pt x="16368" y="9458"/>
                  <a:pt x="16420" y="9473"/>
                  <a:pt x="16446" y="9376"/>
                </a:cubicBezTo>
                <a:cubicBezTo>
                  <a:pt x="16456" y="9340"/>
                  <a:pt x="16398" y="9264"/>
                  <a:pt x="16371" y="9252"/>
                </a:cubicBezTo>
                <a:cubicBezTo>
                  <a:pt x="16353" y="9244"/>
                  <a:pt x="16222" y="9314"/>
                  <a:pt x="16222" y="9327"/>
                </a:cubicBezTo>
                <a:cubicBezTo>
                  <a:pt x="16222" y="9375"/>
                  <a:pt x="16310" y="9447"/>
                  <a:pt x="16346" y="9451"/>
                </a:cubicBezTo>
                <a:cubicBezTo>
                  <a:pt x="16412" y="9451"/>
                  <a:pt x="16429" y="9451"/>
                  <a:pt x="16470" y="9451"/>
                </a:cubicBezTo>
                <a:cubicBezTo>
                  <a:pt x="16477" y="9426"/>
                  <a:pt x="16505" y="9286"/>
                  <a:pt x="16421" y="9327"/>
                </a:cubicBezTo>
                <a:cubicBezTo>
                  <a:pt x="16418" y="9328"/>
                  <a:pt x="16272" y="9396"/>
                  <a:pt x="16272" y="9401"/>
                </a:cubicBezTo>
                <a:cubicBezTo>
                  <a:pt x="16277" y="9467"/>
                  <a:pt x="16391" y="9528"/>
                  <a:pt x="16446" y="9525"/>
                </a:cubicBezTo>
                <a:cubicBezTo>
                  <a:pt x="16495" y="9500"/>
                  <a:pt x="16511" y="9492"/>
                  <a:pt x="16520" y="9451"/>
                </a:cubicBezTo>
                <a:cubicBezTo>
                  <a:pt x="16507" y="9359"/>
                  <a:pt x="16491" y="9376"/>
                  <a:pt x="16396" y="9376"/>
                </a:cubicBezTo>
                <a:cubicBezTo>
                  <a:pt x="16344" y="9376"/>
                  <a:pt x="16326" y="9377"/>
                  <a:pt x="16297" y="9401"/>
                </a:cubicBezTo>
                <a:cubicBezTo>
                  <a:pt x="16306" y="9464"/>
                  <a:pt x="16329" y="9532"/>
                  <a:pt x="16421" y="9500"/>
                </a:cubicBezTo>
                <a:cubicBezTo>
                  <a:pt x="16484" y="9478"/>
                  <a:pt x="16565" y="9392"/>
                  <a:pt x="16495" y="9327"/>
                </a:cubicBezTo>
                <a:cubicBezTo>
                  <a:pt x="16459" y="9294"/>
                  <a:pt x="16352" y="9299"/>
                  <a:pt x="16321" y="9327"/>
                </a:cubicBezTo>
                <a:cubicBezTo>
                  <a:pt x="16287" y="9358"/>
                  <a:pt x="16263" y="9377"/>
                  <a:pt x="16247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Ink 17"/>
          <p:cNvSpPr/>
          <p:nvPr/>
        </p:nvSpPr>
        <p:spPr>
          <a:xfrm>
            <a:off x="6081840" y="3143160"/>
            <a:ext cx="61920" cy="4464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17016" y="8781"/>
                </a:moveTo>
                <a:cubicBezTo>
                  <a:pt x="16964" y="8794"/>
                  <a:pt x="16937" y="8826"/>
                  <a:pt x="16966" y="8855"/>
                </a:cubicBezTo>
                <a:cubicBezTo>
                  <a:pt x="16992" y="8848"/>
                  <a:pt x="17128" y="8782"/>
                  <a:pt x="17041" y="8731"/>
                </a:cubicBezTo>
                <a:cubicBezTo>
                  <a:pt x="16977" y="8693"/>
                  <a:pt x="16926" y="8817"/>
                  <a:pt x="16942" y="8855"/>
                </a:cubicBezTo>
                <a:cubicBezTo>
                  <a:pt x="16950" y="8855"/>
                  <a:pt x="16958" y="8855"/>
                  <a:pt x="16966" y="8855"/>
                </a:cubicBezTo>
                <a:cubicBezTo>
                  <a:pt x="17045" y="8833"/>
                  <a:pt x="17033" y="8722"/>
                  <a:pt x="16991" y="8731"/>
                </a:cubicBezTo>
                <a:cubicBezTo>
                  <a:pt x="16924" y="8746"/>
                  <a:pt x="16825" y="8833"/>
                  <a:pt x="16942" y="8855"/>
                </a:cubicBezTo>
                <a:cubicBezTo>
                  <a:pt x="16993" y="8865"/>
                  <a:pt x="17060" y="8785"/>
                  <a:pt x="17016" y="8781"/>
                </a:cubicBezTo>
                <a:cubicBezTo>
                  <a:pt x="16958" y="8781"/>
                  <a:pt x="16933" y="8781"/>
                  <a:pt x="16892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Ink 18"/>
          <p:cNvSpPr/>
          <p:nvPr/>
        </p:nvSpPr>
        <p:spPr>
          <a:xfrm>
            <a:off x="5562720" y="313380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503" y="8731"/>
                </a:moveTo>
                <a:cubicBezTo>
                  <a:pt x="15450" y="8854"/>
                  <a:pt x="15553" y="8794"/>
                  <a:pt x="15553" y="8781"/>
                </a:cubicBezTo>
                <a:cubicBezTo>
                  <a:pt x="15553" y="8748"/>
                  <a:pt x="15486" y="8781"/>
                  <a:pt x="15453" y="8781"/>
                </a:cubicBezTo>
                <a:cubicBezTo>
                  <a:pt x="15487" y="8931"/>
                  <a:pt x="15474" y="8826"/>
                  <a:pt x="15553" y="8781"/>
                </a:cubicBezTo>
                <a:cubicBezTo>
                  <a:pt x="15655" y="8724"/>
                  <a:pt x="15536" y="8706"/>
                  <a:pt x="15478" y="8706"/>
                </a:cubicBezTo>
                <a:cubicBezTo>
                  <a:pt x="15438" y="8773"/>
                  <a:pt x="15445" y="8801"/>
                  <a:pt x="15528" y="8806"/>
                </a:cubicBezTo>
                <a:cubicBezTo>
                  <a:pt x="15601" y="8810"/>
                  <a:pt x="15647" y="8741"/>
                  <a:pt x="15528" y="8781"/>
                </a:cubicBezTo>
                <a:cubicBezTo>
                  <a:pt x="15473" y="8799"/>
                  <a:pt x="15487" y="8792"/>
                  <a:pt x="15478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Ink 19"/>
          <p:cNvSpPr/>
          <p:nvPr/>
        </p:nvSpPr>
        <p:spPr>
          <a:xfrm>
            <a:off x="6348240" y="2347920"/>
            <a:ext cx="54000" cy="81000"/>
          </a:xfrm>
          <a:custGeom>
            <a:avLst/>
            <a:gdLst/>
            <a:ahLst/>
            <a:rect l="l" t="t" r="r" b="b"/>
            <a:pathLst>
              <a:path w="150" h="224">
                <a:moveTo>
                  <a:pt x="17686" y="6623"/>
                </a:moveTo>
                <a:cubicBezTo>
                  <a:pt x="17686" y="6681"/>
                  <a:pt x="17684" y="6701"/>
                  <a:pt x="17711" y="6747"/>
                </a:cubicBezTo>
                <a:cubicBezTo>
                  <a:pt x="17741" y="6716"/>
                  <a:pt x="17818" y="6629"/>
                  <a:pt x="17711" y="6648"/>
                </a:cubicBezTo>
                <a:cubicBezTo>
                  <a:pt x="17663" y="6671"/>
                  <a:pt x="17646" y="6677"/>
                  <a:pt x="17661" y="6722"/>
                </a:cubicBezTo>
                <a:cubicBezTo>
                  <a:pt x="17712" y="6693"/>
                  <a:pt x="17770" y="6662"/>
                  <a:pt x="17785" y="6598"/>
                </a:cubicBezTo>
                <a:cubicBezTo>
                  <a:pt x="17785" y="6553"/>
                  <a:pt x="17789" y="6540"/>
                  <a:pt x="17760" y="6524"/>
                </a:cubicBezTo>
                <a:cubicBezTo>
                  <a:pt x="17687" y="6569"/>
                  <a:pt x="17648" y="6590"/>
                  <a:pt x="17636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Ink 20"/>
          <p:cNvSpPr/>
          <p:nvPr/>
        </p:nvSpPr>
        <p:spPr>
          <a:xfrm>
            <a:off x="5340240" y="2374920"/>
            <a:ext cx="61920" cy="712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14833" y="6648"/>
                </a:moveTo>
                <a:cubicBezTo>
                  <a:pt x="14852" y="6715"/>
                  <a:pt x="14887" y="6753"/>
                  <a:pt x="14957" y="6697"/>
                </a:cubicBezTo>
                <a:cubicBezTo>
                  <a:pt x="14985" y="6669"/>
                  <a:pt x="14994" y="6656"/>
                  <a:pt x="14982" y="6623"/>
                </a:cubicBezTo>
                <a:cubicBezTo>
                  <a:pt x="14903" y="6652"/>
                  <a:pt x="14870" y="6685"/>
                  <a:pt x="14858" y="6772"/>
                </a:cubicBezTo>
                <a:cubicBezTo>
                  <a:pt x="14909" y="6802"/>
                  <a:pt x="14944" y="6806"/>
                  <a:pt x="14982" y="6747"/>
                </a:cubicBezTo>
                <a:cubicBezTo>
                  <a:pt x="15015" y="6696"/>
                  <a:pt x="15007" y="6656"/>
                  <a:pt x="15007" y="6598"/>
                </a:cubicBezTo>
                <a:cubicBezTo>
                  <a:pt x="14968" y="6604"/>
                  <a:pt x="14898" y="6620"/>
                  <a:pt x="14883" y="6672"/>
                </a:cubicBezTo>
                <a:cubicBezTo>
                  <a:pt x="14863" y="6743"/>
                  <a:pt x="14917" y="6767"/>
                  <a:pt x="14957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Ink 21"/>
          <p:cNvSpPr/>
          <p:nvPr/>
        </p:nvSpPr>
        <p:spPr>
          <a:xfrm>
            <a:off x="5180040" y="1820880"/>
            <a:ext cx="1455840" cy="1590480"/>
          </a:xfrm>
          <a:custGeom>
            <a:avLst/>
            <a:gdLst/>
            <a:ahLst/>
            <a:rect l="l" t="t" r="r" b="b"/>
            <a:pathLst>
              <a:path w="4044" h="4416">
                <a:moveTo>
                  <a:pt x="14387" y="5060"/>
                </a:moveTo>
                <a:cubicBezTo>
                  <a:pt x="14406" y="5089"/>
                  <a:pt x="14459" y="5125"/>
                  <a:pt x="14486" y="5184"/>
                </a:cubicBezTo>
                <a:cubicBezTo>
                  <a:pt x="14512" y="5242"/>
                  <a:pt x="14547" y="5328"/>
                  <a:pt x="14560" y="5383"/>
                </a:cubicBezTo>
                <a:cubicBezTo>
                  <a:pt x="14583" y="5481"/>
                  <a:pt x="14612" y="5581"/>
                  <a:pt x="14635" y="5680"/>
                </a:cubicBezTo>
                <a:cubicBezTo>
                  <a:pt x="14651" y="5747"/>
                  <a:pt x="14667" y="5812"/>
                  <a:pt x="14684" y="5879"/>
                </a:cubicBezTo>
                <a:cubicBezTo>
                  <a:pt x="14700" y="5945"/>
                  <a:pt x="14719" y="6004"/>
                  <a:pt x="14734" y="6077"/>
                </a:cubicBezTo>
                <a:cubicBezTo>
                  <a:pt x="14753" y="6169"/>
                  <a:pt x="14760" y="6260"/>
                  <a:pt x="14784" y="6350"/>
                </a:cubicBezTo>
                <a:cubicBezTo>
                  <a:pt x="14800" y="6410"/>
                  <a:pt x="14805" y="6490"/>
                  <a:pt x="14833" y="6548"/>
                </a:cubicBezTo>
                <a:cubicBezTo>
                  <a:pt x="14859" y="6602"/>
                  <a:pt x="14884" y="6672"/>
                  <a:pt x="14908" y="6722"/>
                </a:cubicBezTo>
                <a:cubicBezTo>
                  <a:pt x="14930" y="6768"/>
                  <a:pt x="14963" y="6800"/>
                  <a:pt x="14982" y="6846"/>
                </a:cubicBezTo>
                <a:cubicBezTo>
                  <a:pt x="15004" y="6900"/>
                  <a:pt x="15019" y="6936"/>
                  <a:pt x="15032" y="6995"/>
                </a:cubicBezTo>
                <a:cubicBezTo>
                  <a:pt x="15043" y="7047"/>
                  <a:pt x="15077" y="7125"/>
                  <a:pt x="15081" y="7169"/>
                </a:cubicBezTo>
                <a:cubicBezTo>
                  <a:pt x="15089" y="7250"/>
                  <a:pt x="15088" y="7322"/>
                  <a:pt x="15106" y="7392"/>
                </a:cubicBezTo>
                <a:cubicBezTo>
                  <a:pt x="15125" y="7468"/>
                  <a:pt x="15152" y="7539"/>
                  <a:pt x="15180" y="7615"/>
                </a:cubicBezTo>
                <a:cubicBezTo>
                  <a:pt x="15204" y="7681"/>
                  <a:pt x="15239" y="7775"/>
                  <a:pt x="15255" y="7838"/>
                </a:cubicBezTo>
                <a:cubicBezTo>
                  <a:pt x="15278" y="7929"/>
                  <a:pt x="15307" y="7998"/>
                  <a:pt x="15329" y="8086"/>
                </a:cubicBezTo>
                <a:cubicBezTo>
                  <a:pt x="15343" y="8140"/>
                  <a:pt x="15364" y="8185"/>
                  <a:pt x="15379" y="8235"/>
                </a:cubicBezTo>
                <a:cubicBezTo>
                  <a:pt x="15401" y="8309"/>
                  <a:pt x="15420" y="8359"/>
                  <a:pt x="15453" y="8434"/>
                </a:cubicBezTo>
                <a:cubicBezTo>
                  <a:pt x="15479" y="8493"/>
                  <a:pt x="15498" y="8566"/>
                  <a:pt x="15528" y="8632"/>
                </a:cubicBezTo>
                <a:cubicBezTo>
                  <a:pt x="15559" y="8700"/>
                  <a:pt x="15604" y="8815"/>
                  <a:pt x="15627" y="8855"/>
                </a:cubicBezTo>
                <a:cubicBezTo>
                  <a:pt x="15666" y="8923"/>
                  <a:pt x="15676" y="8940"/>
                  <a:pt x="15726" y="9004"/>
                </a:cubicBezTo>
                <a:cubicBezTo>
                  <a:pt x="15761" y="9048"/>
                  <a:pt x="15794" y="9066"/>
                  <a:pt x="15825" y="9103"/>
                </a:cubicBezTo>
                <a:cubicBezTo>
                  <a:pt x="15859" y="9143"/>
                  <a:pt x="15884" y="9188"/>
                  <a:pt x="15925" y="9227"/>
                </a:cubicBezTo>
                <a:cubicBezTo>
                  <a:pt x="15972" y="9272"/>
                  <a:pt x="16005" y="9286"/>
                  <a:pt x="16049" y="9327"/>
                </a:cubicBezTo>
                <a:cubicBezTo>
                  <a:pt x="16083" y="9358"/>
                  <a:pt x="16120" y="9429"/>
                  <a:pt x="16173" y="9451"/>
                </a:cubicBezTo>
                <a:cubicBezTo>
                  <a:pt x="16209" y="9466"/>
                  <a:pt x="16307" y="9474"/>
                  <a:pt x="16346" y="9475"/>
                </a:cubicBezTo>
                <a:cubicBezTo>
                  <a:pt x="16430" y="9477"/>
                  <a:pt x="16440" y="9435"/>
                  <a:pt x="16495" y="9401"/>
                </a:cubicBezTo>
                <a:cubicBezTo>
                  <a:pt x="16557" y="9362"/>
                  <a:pt x="16563" y="9346"/>
                  <a:pt x="16619" y="9302"/>
                </a:cubicBezTo>
                <a:cubicBezTo>
                  <a:pt x="16662" y="9268"/>
                  <a:pt x="16703" y="9221"/>
                  <a:pt x="16743" y="9178"/>
                </a:cubicBezTo>
                <a:cubicBezTo>
                  <a:pt x="16792" y="9126"/>
                  <a:pt x="16828" y="9078"/>
                  <a:pt x="16867" y="9029"/>
                </a:cubicBezTo>
                <a:cubicBezTo>
                  <a:pt x="16933" y="8946"/>
                  <a:pt x="16938" y="8896"/>
                  <a:pt x="16991" y="8806"/>
                </a:cubicBezTo>
                <a:cubicBezTo>
                  <a:pt x="17021" y="8755"/>
                  <a:pt x="17063" y="8712"/>
                  <a:pt x="17090" y="8657"/>
                </a:cubicBezTo>
                <a:cubicBezTo>
                  <a:pt x="17116" y="8603"/>
                  <a:pt x="17137" y="8539"/>
                  <a:pt x="17165" y="8483"/>
                </a:cubicBezTo>
                <a:cubicBezTo>
                  <a:pt x="17195" y="8424"/>
                  <a:pt x="17237" y="8367"/>
                  <a:pt x="17264" y="8310"/>
                </a:cubicBezTo>
                <a:cubicBezTo>
                  <a:pt x="17299" y="8235"/>
                  <a:pt x="17310" y="8161"/>
                  <a:pt x="17338" y="8086"/>
                </a:cubicBezTo>
                <a:cubicBezTo>
                  <a:pt x="17373" y="7995"/>
                  <a:pt x="17404" y="7904"/>
                  <a:pt x="17438" y="7813"/>
                </a:cubicBezTo>
                <a:cubicBezTo>
                  <a:pt x="17470" y="7729"/>
                  <a:pt x="17484" y="7649"/>
                  <a:pt x="17512" y="7565"/>
                </a:cubicBezTo>
                <a:cubicBezTo>
                  <a:pt x="17565" y="7408"/>
                  <a:pt x="17611" y="7252"/>
                  <a:pt x="17661" y="7094"/>
                </a:cubicBezTo>
                <a:cubicBezTo>
                  <a:pt x="17689" y="7005"/>
                  <a:pt x="17709" y="6906"/>
                  <a:pt x="17735" y="6821"/>
                </a:cubicBezTo>
                <a:cubicBezTo>
                  <a:pt x="17777" y="6688"/>
                  <a:pt x="17846" y="6559"/>
                  <a:pt x="17884" y="6424"/>
                </a:cubicBezTo>
                <a:cubicBezTo>
                  <a:pt x="17910" y="6332"/>
                  <a:pt x="17932" y="6245"/>
                  <a:pt x="17959" y="6152"/>
                </a:cubicBezTo>
                <a:cubicBezTo>
                  <a:pt x="17982" y="6074"/>
                  <a:pt x="18011" y="6005"/>
                  <a:pt x="18033" y="5928"/>
                </a:cubicBezTo>
                <a:cubicBezTo>
                  <a:pt x="18053" y="5857"/>
                  <a:pt x="18066" y="5777"/>
                  <a:pt x="18083" y="5705"/>
                </a:cubicBezTo>
                <a:cubicBezTo>
                  <a:pt x="18003" y="5751"/>
                  <a:pt x="17912" y="5783"/>
                  <a:pt x="17835" y="5829"/>
                </a:cubicBezTo>
                <a:cubicBezTo>
                  <a:pt x="17766" y="5870"/>
                  <a:pt x="17704" y="5934"/>
                  <a:pt x="17636" y="5978"/>
                </a:cubicBezTo>
                <a:cubicBezTo>
                  <a:pt x="17676" y="5921"/>
                  <a:pt x="17728" y="5851"/>
                  <a:pt x="17785" y="5779"/>
                </a:cubicBezTo>
                <a:cubicBezTo>
                  <a:pt x="17819" y="5736"/>
                  <a:pt x="17925" y="5565"/>
                  <a:pt x="17983" y="5556"/>
                </a:cubicBezTo>
                <a:cubicBezTo>
                  <a:pt x="18115" y="5536"/>
                  <a:pt x="18067" y="5565"/>
                  <a:pt x="18157" y="5655"/>
                </a:cubicBezTo>
                <a:cubicBezTo>
                  <a:pt x="18239" y="5737"/>
                  <a:pt x="18296" y="5847"/>
                  <a:pt x="18380" y="5928"/>
                </a:cubicBezTo>
                <a:cubicBezTo>
                  <a:pt x="18397" y="5936"/>
                  <a:pt x="18413" y="5945"/>
                  <a:pt x="18430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Ink 22"/>
          <p:cNvSpPr/>
          <p:nvPr/>
        </p:nvSpPr>
        <p:spPr>
          <a:xfrm>
            <a:off x="4946760" y="1812960"/>
            <a:ext cx="357120" cy="169920"/>
          </a:xfrm>
          <a:custGeom>
            <a:avLst/>
            <a:gdLst/>
            <a:ahLst/>
            <a:rect l="l" t="t" r="r" b="b"/>
            <a:pathLst>
              <a:path w="993" h="473">
                <a:moveTo>
                  <a:pt x="13767" y="5383"/>
                </a:moveTo>
                <a:cubicBezTo>
                  <a:pt x="13747" y="5460"/>
                  <a:pt x="13723" y="5478"/>
                  <a:pt x="13767" y="5507"/>
                </a:cubicBezTo>
                <a:cubicBezTo>
                  <a:pt x="13828" y="5472"/>
                  <a:pt x="13864" y="5434"/>
                  <a:pt x="13915" y="5383"/>
                </a:cubicBezTo>
                <a:cubicBezTo>
                  <a:pt x="13970" y="5328"/>
                  <a:pt x="13985" y="5230"/>
                  <a:pt x="14015" y="5159"/>
                </a:cubicBezTo>
                <a:cubicBezTo>
                  <a:pt x="14053" y="5070"/>
                  <a:pt x="14063" y="5050"/>
                  <a:pt x="14139" y="5060"/>
                </a:cubicBezTo>
                <a:cubicBezTo>
                  <a:pt x="14256" y="5076"/>
                  <a:pt x="14350" y="5122"/>
                  <a:pt x="14461" y="5159"/>
                </a:cubicBezTo>
                <a:cubicBezTo>
                  <a:pt x="14554" y="5190"/>
                  <a:pt x="14642" y="5223"/>
                  <a:pt x="14734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o find the x-intercept of a parabola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the function equal to zero and solve for all real zeros of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 that there may be up to two x-intercepts or as few as n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should be in the form of (x, 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o find the y-intercept of a parabola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titute 0 in for x and evalu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ill only be one ans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should be in the form of (0, 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Ink 4"/>
          <p:cNvSpPr/>
          <p:nvPr/>
        </p:nvSpPr>
        <p:spPr>
          <a:xfrm>
            <a:off x="803160" y="5313240"/>
            <a:ext cx="349200" cy="71640"/>
          </a:xfrm>
          <a:custGeom>
            <a:avLst/>
            <a:gdLst/>
            <a:ahLst/>
            <a:rect l="l" t="t" r="r" b="b"/>
            <a:pathLst>
              <a:path w="969" h="199">
                <a:moveTo>
                  <a:pt x="3200" y="14759"/>
                </a:moveTo>
                <a:cubicBezTo>
                  <a:pt x="3175" y="14784"/>
                  <a:pt x="3167" y="14792"/>
                  <a:pt x="3150" y="14808"/>
                </a:cubicBezTo>
              </a:path>
              <a:path w="969" h="199">
                <a:moveTo>
                  <a:pt x="2232" y="14957"/>
                </a:moveTo>
                <a:lnTo>
                  <a:pt x="2232" y="1495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Ink 5"/>
          <p:cNvSpPr/>
          <p:nvPr/>
        </p:nvSpPr>
        <p:spPr>
          <a:xfrm>
            <a:off x="768240" y="4902120"/>
            <a:ext cx="196920" cy="81000"/>
          </a:xfrm>
          <a:custGeom>
            <a:avLst/>
            <a:gdLst/>
            <a:ahLst/>
            <a:rect l="l" t="t" r="r" b="b"/>
            <a:pathLst>
              <a:path w="547" h="224">
                <a:moveTo>
                  <a:pt x="2580" y="13841"/>
                </a:moveTo>
                <a:cubicBezTo>
                  <a:pt x="2628" y="13834"/>
                  <a:pt x="2638" y="13826"/>
                  <a:pt x="2679" y="13816"/>
                </a:cubicBezTo>
              </a:path>
              <a:path w="547" h="224">
                <a:moveTo>
                  <a:pt x="2530" y="13618"/>
                </a:moveTo>
                <a:cubicBezTo>
                  <a:pt x="2553" y="13641"/>
                  <a:pt x="2557" y="13649"/>
                  <a:pt x="2580" y="13643"/>
                </a:cubicBezTo>
              </a:path>
              <a:path w="547" h="224">
                <a:moveTo>
                  <a:pt x="2133" y="13692"/>
                </a:moveTo>
                <a:cubicBezTo>
                  <a:pt x="2158" y="13717"/>
                  <a:pt x="2166" y="13725"/>
                  <a:pt x="2183" y="137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Ink 6"/>
          <p:cNvSpPr/>
          <p:nvPr/>
        </p:nvSpPr>
        <p:spPr>
          <a:xfrm>
            <a:off x="1517760" y="5599080"/>
            <a:ext cx="9360" cy="9720"/>
          </a:xfrm>
          <a:custGeom>
            <a:avLst/>
            <a:gdLst/>
            <a:ahLst/>
            <a:rect l="l" t="t" r="r" b="b"/>
            <a:pathLst>
              <a:path w="26" h="25">
                <a:moveTo>
                  <a:pt x="4217" y="15577"/>
                </a:moveTo>
                <a:cubicBezTo>
                  <a:pt x="4225" y="15569"/>
                  <a:pt x="4234" y="15561"/>
                  <a:pt x="4242" y="155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3:46Z</dcterms:created>
  <dc:creator>jnewman</dc:creator>
  <dc:description/>
  <dc:language>en-US</dc:language>
  <cp:lastModifiedBy>abeason</cp:lastModifiedBy>
  <dcterms:modified xsi:type="dcterms:W3CDTF">2010-04-29T14:38:02Z</dcterms:modified>
  <cp:revision>13</cp:revision>
  <dc:subject/>
  <dc:title>Lesson 2.1</dc:title>
</cp:coreProperties>
</file>